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028D1BE-03C6-464D-8E21-4E6942C58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62ABA4-E48F-4305-94F9-2DAB7A445A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50CFD8F9-D24D-4926-9628-E0FCCBA3C6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0FAC50FB-390A-4F1E-BE38-712C248F36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C9D38580-8430-43AF-8BA9-05ED430FAC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E6E957-F51A-419D-8E49-4F1BDCCDEA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42B1C4-7736-497F-A340-5D43DA5FE2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8BDA33-F3A4-4AED-8426-56C857B44C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75EE4DF-EB38-42AB-A5F1-E65DECBB4C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2D0DEC6D-6168-4EC1-8044-062E90AC328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317AC397-B8E2-4F41-8383-C56DEF179C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C84740C-7CF9-4B29-A5C8-7A9297302F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74189C9-599F-4794-AC1D-7FEB2E9D57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5772C7A-125D-4A90-889D-A1D6CD772A5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9EFD0BCC-E6A4-449D-8D6C-144FAE7FBE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0099C1AD-3093-4568-9FCC-8C672D5A97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AE4ECD3E-17E4-46BE-8893-CD25DED748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5C4AA5CB-CCEF-4E6F-9419-F250CB1CE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2594D46-FED0-43F1-89C2-46789E554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E1B346DC-E936-425C-9B95-89FAA706BB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F4C73220-261C-4B24-AD6B-D265C87EE0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A3C9D82A-1BFD-4184-B6EA-ECA9D4591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1145F2DF-1A61-4C1D-BD56-049E2C1D22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7DD73B4-DBFA-49CC-852E-DF3D0307DE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25FC80F7-CA65-45CF-9779-7C603A2A57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142FC-C286-41CF-B88B-A2E03E13D319}"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A974-F4FF-4A02-BC3E-596A1ACBDC02}"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7E1AA-BE1A-4A74-A7A5-9208D25F158B}" type="datetime3">
              <a:rPr b="0" lang="en-US" sz="2800" spc="-1" strike="noStrike">
                <a:solidFill>
                  <a:srgbClr val="ffffff"/>
                </a:solidFill>
                <a:latin typeface="Arial"/>
              </a:rPr>
              <a:t>July 28,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25D720E-4237-44C3-B818-4BD0A7F00F55}"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9C3EE91-62A6-48A8-83BA-ADC62A481F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72499E46-F904-4B9E-8329-9E984FC5A3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8893006-CB66-4BBD-A347-3ACC02A32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93C684A-7548-4058-9976-636525E33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2EC6925-3DCA-458B-8363-E9297F80CE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AF977A4-D6D6-4F6D-AFA8-1A9A99F158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C1E9D40-97E8-453F-9D2A-D83689F727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7444F28-8AB3-468B-BEDC-ECF1D60AC9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2BB77B0-2E37-48AC-A63B-9B8131390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6480A6D-2A80-4097-9193-D85598B157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ADDC19BF-B25C-4B53-B456-901EB91AE9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C00E4DCE-8D3C-4165-B771-2EA482B402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63995868-C386-49A0-9F7F-2989999CB9B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0F4B02D-825A-4081-9E62-A29D8CB9470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B1925862-C16E-44CF-8554-DCE10BD873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DDEED566-E7A0-48E7-9FA0-13B9466EA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1804C6B1-7188-4652-BA34-CFD4D9C1DE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B015379-13C7-41A7-940D-8DC6EF80F2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FBB33D5-7D28-469F-AA1E-D2A9F5F55F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E6ED9E06-D4E4-4DC4-BCB2-4F61414B24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