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8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84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75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8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84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3EEA-CBF4-4335-A3D8-F43E3B352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555920" cy="4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3906720" y="2522520"/>
          <a:ext cx="85752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6720" y="2522520"/>
                    <a:ext cx="857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1033560" y="6645240"/>
            <a:ext cx="1206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79C77B8-24BF-4BC2-AA14-B83A9F9871CA}" type="slidenum">
              <a:rPr b="0" lang="en-US" sz="800" spc="-1" strike="noStrike">
                <a:solidFill>
                  <a:srgbClr val="6e0043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6e0043"/>
                </a:solidFill>
                <a:latin typeface="Arial"/>
              </a:rPr>
              <a:t> HNS-239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725360" y="6675480"/>
            <a:ext cx="1137600" cy="1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HUGHES PROPRIETARY I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ireach%20temp12sidebar" descr=""/>
          <p:cNvPicPr/>
          <p:nvPr/>
        </p:nvPicPr>
        <p:blipFill>
          <a:blip r:embed="rId6"/>
          <a:stretch/>
        </p:blipFill>
        <p:spPr>
          <a:xfrm>
            <a:off x="0" y="0"/>
            <a:ext cx="1103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905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the Efficiency of a BFWA Network by Optimizing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4038480"/>
            <a:ext cx="64008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3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k Rozmary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ghes Network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17 Exploration 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mantown, Maryland 209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rozmaryn@hns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 Expansion Approache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quency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- 90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Channel Sets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r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l 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- 45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Channel Set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Gain - Greater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oss in Spectral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086600" cy="571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600200" y="1344600"/>
            <a:ext cx="65721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45720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2 Channel Reus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7391160" cy="5052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001000" y="1219320"/>
            <a:ext cx="961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457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467480" cy="510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77320" y="1676520"/>
            <a:ext cx="961920" cy="95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6600" y="6019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1628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62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612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03880" y="1108080"/>
            <a:ext cx="180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756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20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16280" y="61768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16280" y="56642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6280" y="515772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16280" y="465120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16280" y="41450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16280" y="36399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6280" y="31338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16280" y="26272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6280" y="21207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6280" y="16146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16280" y="110808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1628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1628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648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862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62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784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05612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5612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7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3396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3396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691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03880" y="611136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03880" y="110808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052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2756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56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104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3520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520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886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61768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86480" y="61768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45360" y="6124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6280" y="56642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286480" y="56642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9440" y="56116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16280" y="515772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8286480" y="51577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9440" y="51055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6280" y="465120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286480" y="465120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9440" y="46004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16280" y="41450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286480" y="41450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9440" y="4094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6280" y="36399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286480" y="36399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9440" y="358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6280" y="31338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286480" y="31338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9440" y="30812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6280" y="26272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286480" y="26272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2575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16280" y="21207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286480" y="21207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9440" y="20685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6280" y="16146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286480" y="16146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9440" y="15620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16280" y="110808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286480" y="11080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8200" y="10573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28680" y="3840120"/>
            <a:ext cx="6229440" cy="2336760"/>
          </a:xfrm>
          <a:custGeom>
            <a:avLst/>
            <a:gdLst/>
            <a:ahLst/>
            <a:rect l="l" t="t" r="r" b="b"/>
            <a:pathLst>
              <a:path w="3924" h="1472">
                <a:moveTo>
                  <a:pt x="0" y="1472"/>
                </a:moveTo>
                <a:lnTo>
                  <a:pt x="135" y="1472"/>
                </a:lnTo>
                <a:lnTo>
                  <a:pt x="270" y="1472"/>
                </a:lnTo>
                <a:lnTo>
                  <a:pt x="405" y="1472"/>
                </a:lnTo>
                <a:lnTo>
                  <a:pt x="540" y="1472"/>
                </a:lnTo>
                <a:lnTo>
                  <a:pt x="675" y="1472"/>
                </a:lnTo>
                <a:lnTo>
                  <a:pt x="810" y="1472"/>
                </a:lnTo>
                <a:lnTo>
                  <a:pt x="945" y="1472"/>
                </a:lnTo>
                <a:lnTo>
                  <a:pt x="1080" y="1472"/>
                </a:lnTo>
                <a:lnTo>
                  <a:pt x="1214" y="1472"/>
                </a:lnTo>
                <a:lnTo>
                  <a:pt x="1349" y="1472"/>
                </a:lnTo>
                <a:lnTo>
                  <a:pt x="1484" y="1472"/>
                </a:lnTo>
                <a:lnTo>
                  <a:pt x="1619" y="1472"/>
                </a:lnTo>
                <a:lnTo>
                  <a:pt x="1754" y="1431"/>
                </a:lnTo>
                <a:lnTo>
                  <a:pt x="1893" y="1361"/>
                </a:lnTo>
                <a:lnTo>
                  <a:pt x="2028" y="1316"/>
                </a:lnTo>
                <a:lnTo>
                  <a:pt x="2163" y="1292"/>
                </a:lnTo>
                <a:lnTo>
                  <a:pt x="2298" y="1272"/>
                </a:lnTo>
                <a:lnTo>
                  <a:pt x="2433" y="1259"/>
                </a:lnTo>
                <a:lnTo>
                  <a:pt x="2567" y="1194"/>
                </a:lnTo>
                <a:lnTo>
                  <a:pt x="2702" y="1043"/>
                </a:lnTo>
                <a:lnTo>
                  <a:pt x="2837" y="936"/>
                </a:lnTo>
                <a:lnTo>
                  <a:pt x="2972" y="867"/>
                </a:lnTo>
                <a:lnTo>
                  <a:pt x="3107" y="801"/>
                </a:lnTo>
                <a:lnTo>
                  <a:pt x="3242" y="752"/>
                </a:lnTo>
                <a:lnTo>
                  <a:pt x="3377" y="568"/>
                </a:lnTo>
                <a:lnTo>
                  <a:pt x="3512" y="368"/>
                </a:lnTo>
                <a:lnTo>
                  <a:pt x="3646" y="229"/>
                </a:lnTo>
                <a:lnTo>
                  <a:pt x="3781" y="135"/>
                </a:lnTo>
                <a:lnTo>
                  <a:pt x="3920" y="4"/>
                </a:lnTo>
                <a:lnTo>
                  <a:pt x="3924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26280" y="958680"/>
            <a:ext cx="335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tive C/I Cumulative Histogram for 8-Sector Plan vs. Double Frequency 4-Sector Pl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58920" y="641664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94320" y="3504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28680" y="1108080"/>
            <a:ext cx="6023160" cy="5068800"/>
          </a:xfrm>
          <a:custGeom>
            <a:avLst/>
            <a:gdLst/>
            <a:ahLst/>
            <a:rect l="l" t="t" r="r" b="b"/>
            <a:pathLst>
              <a:path w="3794" h="3193">
                <a:moveTo>
                  <a:pt x="0" y="3193"/>
                </a:moveTo>
                <a:lnTo>
                  <a:pt x="135" y="3193"/>
                </a:lnTo>
                <a:lnTo>
                  <a:pt x="270" y="3193"/>
                </a:lnTo>
                <a:lnTo>
                  <a:pt x="405" y="3193"/>
                </a:lnTo>
                <a:lnTo>
                  <a:pt x="540" y="3193"/>
                </a:lnTo>
                <a:lnTo>
                  <a:pt x="675" y="3193"/>
                </a:lnTo>
                <a:lnTo>
                  <a:pt x="810" y="3193"/>
                </a:lnTo>
                <a:lnTo>
                  <a:pt x="945" y="3176"/>
                </a:lnTo>
                <a:lnTo>
                  <a:pt x="1080" y="3148"/>
                </a:lnTo>
                <a:lnTo>
                  <a:pt x="1214" y="3107"/>
                </a:lnTo>
                <a:lnTo>
                  <a:pt x="1349" y="3074"/>
                </a:lnTo>
                <a:lnTo>
                  <a:pt x="1484" y="3050"/>
                </a:lnTo>
                <a:lnTo>
                  <a:pt x="1619" y="3029"/>
                </a:lnTo>
                <a:lnTo>
                  <a:pt x="1754" y="2948"/>
                </a:lnTo>
                <a:lnTo>
                  <a:pt x="1893" y="2821"/>
                </a:lnTo>
                <a:lnTo>
                  <a:pt x="2028" y="2674"/>
                </a:lnTo>
                <a:lnTo>
                  <a:pt x="2163" y="2457"/>
                </a:lnTo>
                <a:lnTo>
                  <a:pt x="2298" y="2277"/>
                </a:lnTo>
                <a:lnTo>
                  <a:pt x="2433" y="2118"/>
                </a:lnTo>
                <a:lnTo>
                  <a:pt x="2567" y="1954"/>
                </a:lnTo>
                <a:lnTo>
                  <a:pt x="2702" y="1787"/>
                </a:lnTo>
                <a:lnTo>
                  <a:pt x="2837" y="1566"/>
                </a:lnTo>
                <a:lnTo>
                  <a:pt x="2972" y="1349"/>
                </a:lnTo>
                <a:lnTo>
                  <a:pt x="3107" y="1120"/>
                </a:lnTo>
                <a:lnTo>
                  <a:pt x="3242" y="916"/>
                </a:lnTo>
                <a:lnTo>
                  <a:pt x="3377" y="736"/>
                </a:lnTo>
                <a:lnTo>
                  <a:pt x="3512" y="524"/>
                </a:lnTo>
                <a:lnTo>
                  <a:pt x="3646" y="282"/>
                </a:lnTo>
                <a:lnTo>
                  <a:pt x="3781" y="13"/>
                </a:lnTo>
                <a:lnTo>
                  <a:pt x="3794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270920" y="25905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49040" y="5029200"/>
            <a:ext cx="5334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905120" y="2590920"/>
            <a:ext cx="5333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3920" y="1980360"/>
            <a:ext cx="26359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Expansion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8320" y="5333040"/>
            <a:ext cx="18752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Splitting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677960" y="2133720"/>
            <a:ext cx="3130200" cy="3200400"/>
            <a:chOff x="1677960" y="2133720"/>
            <a:chExt cx="3130200" cy="3200400"/>
          </a:xfrm>
        </p:grpSpPr>
        <p:grpSp>
          <p:nvGrpSpPr>
            <p:cNvPr id="209" name=""/>
            <p:cNvGrpSpPr/>
            <p:nvPr/>
          </p:nvGrpSpPr>
          <p:grpSpPr>
            <a:xfrm>
              <a:off x="1681920" y="2133720"/>
              <a:ext cx="517680" cy="539280"/>
              <a:chOff x="1681920" y="2133720"/>
              <a:chExt cx="517680" cy="539280"/>
            </a:xfrm>
          </p:grpSpPr>
          <p:sp>
            <p:nvSpPr>
              <p:cNvPr id="210" name=""/>
              <p:cNvSpPr/>
              <p:nvPr/>
            </p:nvSpPr>
            <p:spPr>
              <a:xfrm>
                <a:off x="16819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862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169000" y="2133720"/>
              <a:ext cx="536760" cy="539280"/>
              <a:chOff x="2169000" y="2133720"/>
              <a:chExt cx="536760" cy="539280"/>
            </a:xfrm>
          </p:grpSpPr>
          <p:sp>
            <p:nvSpPr>
              <p:cNvPr id="213" name=""/>
              <p:cNvSpPr/>
              <p:nvPr/>
            </p:nvSpPr>
            <p:spPr>
              <a:xfrm>
                <a:off x="2188440" y="213372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690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677960" y="2660760"/>
              <a:ext cx="521280" cy="539280"/>
              <a:chOff x="1677960" y="2660760"/>
              <a:chExt cx="521280" cy="539280"/>
            </a:xfrm>
          </p:grpSpPr>
          <p:sp>
            <p:nvSpPr>
              <p:cNvPr id="216" name=""/>
              <p:cNvSpPr/>
              <p:nvPr/>
            </p:nvSpPr>
            <p:spPr>
              <a:xfrm>
                <a:off x="1681920" y="266076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779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168640" y="2660760"/>
              <a:ext cx="537120" cy="539280"/>
              <a:chOff x="2168640" y="2660760"/>
              <a:chExt cx="537120" cy="539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188440" y="266076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686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684440" y="3200040"/>
              <a:ext cx="520200" cy="539280"/>
              <a:chOff x="1684440" y="3200040"/>
              <a:chExt cx="520200" cy="539280"/>
            </a:xfrm>
          </p:grpSpPr>
          <p:sp>
            <p:nvSpPr>
              <p:cNvPr id="222" name=""/>
              <p:cNvSpPr/>
              <p:nvPr/>
            </p:nvSpPr>
            <p:spPr>
              <a:xfrm>
                <a:off x="1687320" y="32000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844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168640" y="3200040"/>
              <a:ext cx="537120" cy="539280"/>
              <a:chOff x="2168640" y="3200040"/>
              <a:chExt cx="537120" cy="539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188440" y="32000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686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681920" y="3727800"/>
              <a:ext cx="517680" cy="539280"/>
              <a:chOff x="1681920" y="3727800"/>
              <a:chExt cx="517680" cy="539280"/>
            </a:xfrm>
          </p:grpSpPr>
          <p:sp>
            <p:nvSpPr>
              <p:cNvPr id="228" name=""/>
              <p:cNvSpPr/>
              <p:nvPr/>
            </p:nvSpPr>
            <p:spPr>
              <a:xfrm>
                <a:off x="16819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862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169000" y="3727800"/>
              <a:ext cx="536760" cy="539280"/>
              <a:chOff x="2169000" y="3727800"/>
              <a:chExt cx="536760" cy="539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188440" y="372780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690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681920" y="4267080"/>
              <a:ext cx="517680" cy="539280"/>
              <a:chOff x="1681920" y="4267080"/>
              <a:chExt cx="517680" cy="539280"/>
            </a:xfrm>
          </p:grpSpPr>
          <p:sp>
            <p:nvSpPr>
              <p:cNvPr id="234" name=""/>
              <p:cNvSpPr/>
              <p:nvPr/>
            </p:nvSpPr>
            <p:spPr>
              <a:xfrm>
                <a:off x="16819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862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169000" y="4267080"/>
              <a:ext cx="536760" cy="539280"/>
              <a:chOff x="2169000" y="4267080"/>
              <a:chExt cx="536760" cy="539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188440" y="426708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690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684440" y="4794840"/>
              <a:ext cx="520200" cy="539280"/>
              <a:chOff x="1684440" y="4794840"/>
              <a:chExt cx="520200" cy="539280"/>
            </a:xfrm>
          </p:grpSpPr>
          <p:sp>
            <p:nvSpPr>
              <p:cNvPr id="240" name=""/>
              <p:cNvSpPr/>
              <p:nvPr/>
            </p:nvSpPr>
            <p:spPr>
              <a:xfrm>
                <a:off x="168732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844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168640" y="4794840"/>
              <a:ext cx="537120" cy="539280"/>
              <a:chOff x="2168640" y="4794840"/>
              <a:chExt cx="537120" cy="539280"/>
            </a:xfrm>
          </p:grpSpPr>
          <p:sp>
            <p:nvSpPr>
              <p:cNvPr id="243" name=""/>
              <p:cNvSpPr/>
              <p:nvPr/>
            </p:nvSpPr>
            <p:spPr>
              <a:xfrm>
                <a:off x="2188440" y="47948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168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12436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72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720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707560" y="2133720"/>
              <a:ext cx="536760" cy="539280"/>
              <a:chOff x="2707560" y="2133720"/>
              <a:chExt cx="536760" cy="539280"/>
            </a:xfrm>
          </p:grpSpPr>
          <p:sp>
            <p:nvSpPr>
              <p:cNvPr id="249" name=""/>
              <p:cNvSpPr/>
              <p:nvPr/>
            </p:nvSpPr>
            <p:spPr>
              <a:xfrm>
                <a:off x="2727360" y="213372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07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707920" y="2660760"/>
              <a:ext cx="536400" cy="539280"/>
              <a:chOff x="2707920" y="2660760"/>
              <a:chExt cx="536400" cy="5392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27360" y="266076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0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245040" y="2133720"/>
              <a:ext cx="517680" cy="539280"/>
              <a:chOff x="3245040" y="2133720"/>
              <a:chExt cx="517680" cy="5392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4504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5080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238560" y="2660760"/>
              <a:ext cx="523800" cy="539280"/>
              <a:chOff x="3238560" y="2660760"/>
              <a:chExt cx="523800" cy="53928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468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85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191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784320" y="2133720"/>
              <a:ext cx="517680" cy="539280"/>
              <a:chOff x="3784320" y="2133720"/>
              <a:chExt cx="517680" cy="5392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843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879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787920" y="2660760"/>
              <a:ext cx="519480" cy="539280"/>
              <a:chOff x="3787920" y="2660760"/>
              <a:chExt cx="519480" cy="539280"/>
            </a:xfrm>
          </p:grpSpPr>
          <p:sp>
            <p:nvSpPr>
              <p:cNvPr id="265" name=""/>
              <p:cNvSpPr/>
              <p:nvPr/>
            </p:nvSpPr>
            <p:spPr>
              <a:xfrm>
                <a:off x="378972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269600" y="2133720"/>
              <a:ext cx="538560" cy="539280"/>
              <a:chOff x="4269600" y="2133720"/>
              <a:chExt cx="538560" cy="539280"/>
            </a:xfrm>
          </p:grpSpPr>
          <p:sp>
            <p:nvSpPr>
              <p:cNvPr id="268" name=""/>
              <p:cNvSpPr/>
              <p:nvPr/>
            </p:nvSpPr>
            <p:spPr>
              <a:xfrm>
                <a:off x="4290480" y="213372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696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270320" y="2660760"/>
              <a:ext cx="537840" cy="539280"/>
              <a:chOff x="4270320" y="2660760"/>
              <a:chExt cx="537840" cy="539280"/>
            </a:xfrm>
          </p:grpSpPr>
          <p:sp>
            <p:nvSpPr>
              <p:cNvPr id="271" name=""/>
              <p:cNvSpPr/>
              <p:nvPr/>
            </p:nvSpPr>
            <p:spPr>
              <a:xfrm>
                <a:off x="4290480" y="266076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703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226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707560" y="4267080"/>
              <a:ext cx="536760" cy="539280"/>
              <a:chOff x="2707560" y="4267080"/>
              <a:chExt cx="536760" cy="539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727360" y="426708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07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707920" y="4794840"/>
              <a:ext cx="536400" cy="539280"/>
              <a:chOff x="2707920" y="4794840"/>
              <a:chExt cx="536400" cy="539280"/>
            </a:xfrm>
          </p:grpSpPr>
          <p:sp>
            <p:nvSpPr>
              <p:cNvPr id="278" name=""/>
              <p:cNvSpPr/>
              <p:nvPr/>
            </p:nvSpPr>
            <p:spPr>
              <a:xfrm>
                <a:off x="2727360" y="479484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0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256200" y="4267080"/>
              <a:ext cx="517680" cy="539280"/>
              <a:chOff x="3256200" y="4267080"/>
              <a:chExt cx="517680" cy="539280"/>
            </a:xfrm>
          </p:grpSpPr>
          <p:sp>
            <p:nvSpPr>
              <p:cNvPr id="281" name=""/>
              <p:cNvSpPr/>
              <p:nvPr/>
            </p:nvSpPr>
            <p:spPr>
              <a:xfrm>
                <a:off x="325620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576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257640" y="4794840"/>
              <a:ext cx="521280" cy="539280"/>
              <a:chOff x="3257640" y="4794840"/>
              <a:chExt cx="521280" cy="539280"/>
            </a:xfrm>
          </p:grpSpPr>
          <p:sp>
            <p:nvSpPr>
              <p:cNvPr id="284" name=""/>
              <p:cNvSpPr/>
              <p:nvPr/>
            </p:nvSpPr>
            <p:spPr>
              <a:xfrm>
                <a:off x="326160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57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20256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784320" y="4267080"/>
              <a:ext cx="517680" cy="539280"/>
              <a:chOff x="3784320" y="4267080"/>
              <a:chExt cx="517680" cy="539280"/>
            </a:xfrm>
          </p:grpSpPr>
          <p:sp>
            <p:nvSpPr>
              <p:cNvPr id="288" name=""/>
              <p:cNvSpPr/>
              <p:nvPr/>
            </p:nvSpPr>
            <p:spPr>
              <a:xfrm>
                <a:off x="37843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879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787920" y="4794840"/>
              <a:ext cx="519480" cy="539280"/>
              <a:chOff x="3787920" y="4794840"/>
              <a:chExt cx="519480" cy="539280"/>
            </a:xfrm>
          </p:grpSpPr>
          <p:sp>
            <p:nvSpPr>
              <p:cNvPr id="291" name=""/>
              <p:cNvSpPr/>
              <p:nvPr/>
            </p:nvSpPr>
            <p:spPr>
              <a:xfrm>
                <a:off x="3789720" y="47948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8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4269600" y="4267080"/>
              <a:ext cx="538560" cy="539280"/>
              <a:chOff x="4269600" y="4267080"/>
              <a:chExt cx="538560" cy="539280"/>
            </a:xfrm>
          </p:grpSpPr>
          <p:sp>
            <p:nvSpPr>
              <p:cNvPr id="294" name=""/>
              <p:cNvSpPr/>
              <p:nvPr/>
            </p:nvSpPr>
            <p:spPr>
              <a:xfrm>
                <a:off x="4290480" y="426708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696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270320" y="4794840"/>
              <a:ext cx="537840" cy="539280"/>
              <a:chOff x="4270320" y="4794840"/>
              <a:chExt cx="537840" cy="539280"/>
            </a:xfrm>
          </p:grpSpPr>
          <p:sp>
            <p:nvSpPr>
              <p:cNvPr id="297" name=""/>
              <p:cNvSpPr/>
              <p:nvPr/>
            </p:nvSpPr>
            <p:spPr>
              <a:xfrm>
                <a:off x="4290480" y="47948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703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26924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3784320" y="3727800"/>
              <a:ext cx="517680" cy="539280"/>
              <a:chOff x="3784320" y="3727800"/>
              <a:chExt cx="517680" cy="539280"/>
            </a:xfrm>
          </p:grpSpPr>
          <p:sp>
            <p:nvSpPr>
              <p:cNvPr id="301" name=""/>
              <p:cNvSpPr/>
              <p:nvPr/>
            </p:nvSpPr>
            <p:spPr>
              <a:xfrm>
                <a:off x="37843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879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269600" y="3727800"/>
              <a:ext cx="538560" cy="539280"/>
              <a:chOff x="4269600" y="3727800"/>
              <a:chExt cx="538560" cy="539280"/>
            </a:xfrm>
          </p:grpSpPr>
          <p:sp>
            <p:nvSpPr>
              <p:cNvPr id="304" name=""/>
              <p:cNvSpPr/>
              <p:nvPr/>
            </p:nvSpPr>
            <p:spPr>
              <a:xfrm>
                <a:off x="4290480" y="372780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696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787920" y="3200040"/>
              <a:ext cx="519480" cy="539280"/>
              <a:chOff x="3787920" y="3200040"/>
              <a:chExt cx="519480" cy="539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789720" y="32000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879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270320" y="3200040"/>
              <a:ext cx="537840" cy="539280"/>
              <a:chOff x="4270320" y="3200040"/>
              <a:chExt cx="537840" cy="539280"/>
            </a:xfrm>
          </p:grpSpPr>
          <p:sp>
            <p:nvSpPr>
              <p:cNvPr id="310" name=""/>
              <p:cNvSpPr/>
              <p:nvPr/>
            </p:nvSpPr>
            <p:spPr>
              <a:xfrm>
                <a:off x="4290480" y="32000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703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226400" y="366120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612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3234240" y="3210840"/>
              <a:ext cx="539280" cy="5176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914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70612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72736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72736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24504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49760" y="2133720"/>
            <a:ext cx="3068280" cy="3200400"/>
            <a:chOff x="5549760" y="2133720"/>
            <a:chExt cx="3068280" cy="3200400"/>
          </a:xfrm>
        </p:grpSpPr>
        <p:grpSp>
          <p:nvGrpSpPr>
            <p:cNvPr id="323" name=""/>
            <p:cNvGrpSpPr/>
            <p:nvPr/>
          </p:nvGrpSpPr>
          <p:grpSpPr>
            <a:xfrm>
              <a:off x="5553360" y="2133720"/>
              <a:ext cx="507240" cy="539280"/>
              <a:chOff x="5553360" y="2133720"/>
              <a:chExt cx="507240" cy="539280"/>
            </a:xfrm>
          </p:grpSpPr>
          <p:sp>
            <p:nvSpPr>
              <p:cNvPr id="324" name=""/>
              <p:cNvSpPr/>
              <p:nvPr/>
            </p:nvSpPr>
            <p:spPr>
              <a:xfrm>
                <a:off x="5553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544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030720" y="2133720"/>
              <a:ext cx="526680" cy="539280"/>
              <a:chOff x="6030720" y="2133720"/>
              <a:chExt cx="526680" cy="539280"/>
            </a:xfrm>
          </p:grpSpPr>
          <p:sp>
            <p:nvSpPr>
              <p:cNvPr id="327" name=""/>
              <p:cNvSpPr/>
              <p:nvPr/>
            </p:nvSpPr>
            <p:spPr>
              <a:xfrm>
                <a:off x="605016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3072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549760" y="2660760"/>
              <a:ext cx="511200" cy="539280"/>
              <a:chOff x="5549760" y="2660760"/>
              <a:chExt cx="511200" cy="539280"/>
            </a:xfrm>
          </p:grpSpPr>
          <p:sp>
            <p:nvSpPr>
              <p:cNvPr id="330" name=""/>
              <p:cNvSpPr/>
              <p:nvPr/>
            </p:nvSpPr>
            <p:spPr>
              <a:xfrm>
                <a:off x="555372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97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030720" y="2660760"/>
              <a:ext cx="526680" cy="539280"/>
              <a:chOff x="6030720" y="2660760"/>
              <a:chExt cx="526680" cy="539280"/>
            </a:xfrm>
          </p:grpSpPr>
          <p:sp>
            <p:nvSpPr>
              <p:cNvPr id="333" name=""/>
              <p:cNvSpPr/>
              <p:nvPr/>
            </p:nvSpPr>
            <p:spPr>
              <a:xfrm>
                <a:off x="605016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307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554080" y="3200040"/>
              <a:ext cx="512280" cy="539280"/>
              <a:chOff x="5554080" y="3200040"/>
              <a:chExt cx="512280" cy="539280"/>
            </a:xfrm>
          </p:grpSpPr>
          <p:sp>
            <p:nvSpPr>
              <p:cNvPr id="336" name=""/>
              <p:cNvSpPr/>
              <p:nvPr/>
            </p:nvSpPr>
            <p:spPr>
              <a:xfrm>
                <a:off x="555912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5408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030720" y="3200040"/>
              <a:ext cx="526680" cy="539280"/>
              <a:chOff x="6030720" y="3200040"/>
              <a:chExt cx="526680" cy="539280"/>
            </a:xfrm>
          </p:grpSpPr>
          <p:sp>
            <p:nvSpPr>
              <p:cNvPr id="339" name=""/>
              <p:cNvSpPr/>
              <p:nvPr/>
            </p:nvSpPr>
            <p:spPr>
              <a:xfrm>
                <a:off x="605016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307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553360" y="3727800"/>
              <a:ext cx="507240" cy="539280"/>
              <a:chOff x="5553360" y="3727800"/>
              <a:chExt cx="507240" cy="539280"/>
            </a:xfrm>
          </p:grpSpPr>
          <p:sp>
            <p:nvSpPr>
              <p:cNvPr id="342" name=""/>
              <p:cNvSpPr/>
              <p:nvPr/>
            </p:nvSpPr>
            <p:spPr>
              <a:xfrm>
                <a:off x="5553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5544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030720" y="3727800"/>
              <a:ext cx="526680" cy="539280"/>
              <a:chOff x="6030720" y="3727800"/>
              <a:chExt cx="526680" cy="539280"/>
            </a:xfrm>
          </p:grpSpPr>
          <p:sp>
            <p:nvSpPr>
              <p:cNvPr id="345" name=""/>
              <p:cNvSpPr/>
              <p:nvPr/>
            </p:nvSpPr>
            <p:spPr>
              <a:xfrm>
                <a:off x="605016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3072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553360" y="4267080"/>
              <a:ext cx="507240" cy="539280"/>
              <a:chOff x="5553360" y="4267080"/>
              <a:chExt cx="507240" cy="539280"/>
            </a:xfrm>
          </p:grpSpPr>
          <p:sp>
            <p:nvSpPr>
              <p:cNvPr id="348" name=""/>
              <p:cNvSpPr/>
              <p:nvPr/>
            </p:nvSpPr>
            <p:spPr>
              <a:xfrm>
                <a:off x="5553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544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030720" y="4267080"/>
              <a:ext cx="526680" cy="539280"/>
              <a:chOff x="6030720" y="4267080"/>
              <a:chExt cx="526680" cy="539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05016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3072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554080" y="4794840"/>
              <a:ext cx="512280" cy="539280"/>
              <a:chOff x="5554080" y="4794840"/>
              <a:chExt cx="512280" cy="539280"/>
            </a:xfrm>
          </p:grpSpPr>
          <p:sp>
            <p:nvSpPr>
              <p:cNvPr id="354" name=""/>
              <p:cNvSpPr/>
              <p:nvPr/>
            </p:nvSpPr>
            <p:spPr>
              <a:xfrm>
                <a:off x="555912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5408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030720" y="4794840"/>
              <a:ext cx="526680" cy="539280"/>
              <a:chOff x="6030720" y="4794840"/>
              <a:chExt cx="526680" cy="539280"/>
            </a:xfrm>
          </p:grpSpPr>
          <p:sp>
            <p:nvSpPr>
              <p:cNvPr id="357" name=""/>
              <p:cNvSpPr/>
              <p:nvPr/>
            </p:nvSpPr>
            <p:spPr>
              <a:xfrm>
                <a:off x="605016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307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98716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2928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2928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559560" y="2133720"/>
              <a:ext cx="526320" cy="539280"/>
              <a:chOff x="6559560" y="2133720"/>
              <a:chExt cx="526320" cy="539280"/>
            </a:xfrm>
          </p:grpSpPr>
          <p:sp>
            <p:nvSpPr>
              <p:cNvPr id="363" name=""/>
              <p:cNvSpPr/>
              <p:nvPr/>
            </p:nvSpPr>
            <p:spPr>
              <a:xfrm>
                <a:off x="657864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59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559200" y="2660760"/>
              <a:ext cx="526680" cy="539280"/>
              <a:chOff x="6559200" y="2660760"/>
              <a:chExt cx="526680" cy="539280"/>
            </a:xfrm>
          </p:grpSpPr>
          <p:sp>
            <p:nvSpPr>
              <p:cNvPr id="366" name=""/>
              <p:cNvSpPr/>
              <p:nvPr/>
            </p:nvSpPr>
            <p:spPr>
              <a:xfrm>
                <a:off x="657864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5920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085880" y="2133720"/>
              <a:ext cx="507240" cy="539280"/>
              <a:chOff x="7085880" y="2133720"/>
              <a:chExt cx="507240" cy="539280"/>
            </a:xfrm>
          </p:grpSpPr>
          <p:sp>
            <p:nvSpPr>
              <p:cNvPr id="369" name=""/>
              <p:cNvSpPr/>
              <p:nvPr/>
            </p:nvSpPr>
            <p:spPr>
              <a:xfrm>
                <a:off x="708588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8768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81920" y="2660760"/>
              <a:ext cx="511200" cy="539280"/>
              <a:chOff x="7081920" y="2660760"/>
              <a:chExt cx="511200" cy="539280"/>
            </a:xfrm>
          </p:grpSpPr>
          <p:sp>
            <p:nvSpPr>
              <p:cNvPr id="372" name=""/>
              <p:cNvSpPr/>
              <p:nvPr/>
            </p:nvSpPr>
            <p:spPr>
              <a:xfrm>
                <a:off x="708588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81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7033320" y="259416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614360" y="2133720"/>
              <a:ext cx="507240" cy="539280"/>
              <a:chOff x="7614360" y="2133720"/>
              <a:chExt cx="507240" cy="539280"/>
            </a:xfrm>
          </p:grpSpPr>
          <p:sp>
            <p:nvSpPr>
              <p:cNvPr id="376" name=""/>
              <p:cNvSpPr/>
              <p:nvPr/>
            </p:nvSpPr>
            <p:spPr>
              <a:xfrm>
                <a:off x="7614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6183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7617240" y="2660760"/>
              <a:ext cx="509760" cy="539280"/>
              <a:chOff x="7617240" y="2660760"/>
              <a:chExt cx="509760" cy="539280"/>
            </a:xfrm>
          </p:grpSpPr>
          <p:sp>
            <p:nvSpPr>
              <p:cNvPr id="379" name=""/>
              <p:cNvSpPr/>
              <p:nvPr/>
            </p:nvSpPr>
            <p:spPr>
              <a:xfrm>
                <a:off x="761976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172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8091360" y="2133720"/>
              <a:ext cx="526680" cy="539280"/>
              <a:chOff x="8091360" y="2133720"/>
              <a:chExt cx="526680" cy="539280"/>
            </a:xfrm>
          </p:grpSpPr>
          <p:sp>
            <p:nvSpPr>
              <p:cNvPr id="382" name=""/>
              <p:cNvSpPr/>
              <p:nvPr/>
            </p:nvSpPr>
            <p:spPr>
              <a:xfrm>
                <a:off x="811080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913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8091360" y="2660760"/>
              <a:ext cx="526680" cy="539280"/>
              <a:chOff x="8091360" y="2660760"/>
              <a:chExt cx="526680" cy="539280"/>
            </a:xfrm>
          </p:grpSpPr>
          <p:sp>
            <p:nvSpPr>
              <p:cNvPr id="385" name=""/>
              <p:cNvSpPr/>
              <p:nvPr/>
            </p:nvSpPr>
            <p:spPr>
              <a:xfrm>
                <a:off x="811080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913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804780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559560" y="4267080"/>
              <a:ext cx="526320" cy="539280"/>
              <a:chOff x="6559560" y="4267080"/>
              <a:chExt cx="526320" cy="539280"/>
            </a:xfrm>
          </p:grpSpPr>
          <p:sp>
            <p:nvSpPr>
              <p:cNvPr id="389" name=""/>
              <p:cNvSpPr/>
              <p:nvPr/>
            </p:nvSpPr>
            <p:spPr>
              <a:xfrm>
                <a:off x="657864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59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559200" y="4794840"/>
              <a:ext cx="526680" cy="539280"/>
              <a:chOff x="6559200" y="4794840"/>
              <a:chExt cx="526680" cy="539280"/>
            </a:xfrm>
          </p:grpSpPr>
          <p:sp>
            <p:nvSpPr>
              <p:cNvPr id="392" name=""/>
              <p:cNvSpPr/>
              <p:nvPr/>
            </p:nvSpPr>
            <p:spPr>
              <a:xfrm>
                <a:off x="657864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5920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096680" y="4267080"/>
              <a:ext cx="507240" cy="539280"/>
              <a:chOff x="7096680" y="4267080"/>
              <a:chExt cx="507240" cy="539280"/>
            </a:xfrm>
          </p:grpSpPr>
          <p:sp>
            <p:nvSpPr>
              <p:cNvPr id="395" name=""/>
              <p:cNvSpPr/>
              <p:nvPr/>
            </p:nvSpPr>
            <p:spPr>
              <a:xfrm>
                <a:off x="709668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988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098840" y="4794840"/>
              <a:ext cx="510480" cy="539280"/>
              <a:chOff x="7098840" y="4794840"/>
              <a:chExt cx="510480" cy="539280"/>
            </a:xfrm>
          </p:grpSpPr>
          <p:sp>
            <p:nvSpPr>
              <p:cNvPr id="398" name=""/>
              <p:cNvSpPr/>
              <p:nvPr/>
            </p:nvSpPr>
            <p:spPr>
              <a:xfrm>
                <a:off x="710208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988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70441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14360" y="4267080"/>
              <a:ext cx="507240" cy="539280"/>
              <a:chOff x="7614360" y="4267080"/>
              <a:chExt cx="507240" cy="539280"/>
            </a:xfrm>
          </p:grpSpPr>
          <p:sp>
            <p:nvSpPr>
              <p:cNvPr id="402" name=""/>
              <p:cNvSpPr/>
              <p:nvPr/>
            </p:nvSpPr>
            <p:spPr>
              <a:xfrm>
                <a:off x="7614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6183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617240" y="4794840"/>
              <a:ext cx="509760" cy="539280"/>
              <a:chOff x="7617240" y="4794840"/>
              <a:chExt cx="509760" cy="539280"/>
            </a:xfrm>
          </p:grpSpPr>
          <p:sp>
            <p:nvSpPr>
              <p:cNvPr id="405" name=""/>
              <p:cNvSpPr/>
              <p:nvPr/>
            </p:nvSpPr>
            <p:spPr>
              <a:xfrm>
                <a:off x="761976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172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091360" y="4267080"/>
              <a:ext cx="526680" cy="539280"/>
              <a:chOff x="8091360" y="4267080"/>
              <a:chExt cx="526680" cy="539280"/>
            </a:xfrm>
          </p:grpSpPr>
          <p:sp>
            <p:nvSpPr>
              <p:cNvPr id="408" name=""/>
              <p:cNvSpPr/>
              <p:nvPr/>
            </p:nvSpPr>
            <p:spPr>
              <a:xfrm>
                <a:off x="811080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913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8091360" y="4794840"/>
              <a:ext cx="526680" cy="539280"/>
              <a:chOff x="8091360" y="4794840"/>
              <a:chExt cx="526680" cy="539280"/>
            </a:xfrm>
          </p:grpSpPr>
          <p:sp>
            <p:nvSpPr>
              <p:cNvPr id="411" name=""/>
              <p:cNvSpPr/>
              <p:nvPr/>
            </p:nvSpPr>
            <p:spPr>
              <a:xfrm>
                <a:off x="811080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09136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80899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614360" y="3727800"/>
              <a:ext cx="507240" cy="539280"/>
              <a:chOff x="7614360" y="3727800"/>
              <a:chExt cx="507240" cy="539280"/>
            </a:xfrm>
          </p:grpSpPr>
          <p:sp>
            <p:nvSpPr>
              <p:cNvPr id="415" name=""/>
              <p:cNvSpPr/>
              <p:nvPr/>
            </p:nvSpPr>
            <p:spPr>
              <a:xfrm>
                <a:off x="7614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6183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091360" y="3727800"/>
              <a:ext cx="526680" cy="539280"/>
              <a:chOff x="8091360" y="3727800"/>
              <a:chExt cx="526680" cy="539280"/>
            </a:xfrm>
          </p:grpSpPr>
          <p:sp>
            <p:nvSpPr>
              <p:cNvPr id="418" name=""/>
              <p:cNvSpPr/>
              <p:nvPr/>
            </p:nvSpPr>
            <p:spPr>
              <a:xfrm>
                <a:off x="811080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9136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617240" y="3200040"/>
              <a:ext cx="509760" cy="539280"/>
              <a:chOff x="7617240" y="3200040"/>
              <a:chExt cx="509760" cy="539280"/>
            </a:xfrm>
          </p:grpSpPr>
          <p:sp>
            <p:nvSpPr>
              <p:cNvPr id="421" name=""/>
              <p:cNvSpPr/>
              <p:nvPr/>
            </p:nvSpPr>
            <p:spPr>
              <a:xfrm>
                <a:off x="761976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172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8091360" y="3200040"/>
              <a:ext cx="526680" cy="539280"/>
              <a:chOff x="8091360" y="3200040"/>
              <a:chExt cx="526680" cy="539280"/>
            </a:xfrm>
          </p:grpSpPr>
          <p:sp>
            <p:nvSpPr>
              <p:cNvPr id="424" name=""/>
              <p:cNvSpPr/>
              <p:nvPr/>
            </p:nvSpPr>
            <p:spPr>
              <a:xfrm>
                <a:off x="811080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9136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8047800" y="366120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57760" y="320004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7069680" y="3215880"/>
              <a:ext cx="539280" cy="50724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5880" y="372780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557760" y="372780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577560" y="3727800"/>
              <a:ext cx="507240" cy="53928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6577560" y="320004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085880" y="320004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7106040" y="372780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59720" y="3206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49760" y="3761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9560" y="3481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40240" y="3986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93520" y="3200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59560" y="38192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23440" y="3986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49760" y="34812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3332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2743200" y="990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mP Ce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t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requency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atures of Genetic Algorithms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135160" y="1981080"/>
            <a:ext cx="61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deal Hub Pla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3-D Contou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s Topology and Building Blo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Spectr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ny Propagation Model or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ed Annealing Frequency Planning Approach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98360" y="198108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equentia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ly Improves Signal to Noise Ratio Based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s the Possible Values of Available Frequencies in Each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Local Performance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izes Selection to Seek Global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453360" cy="34290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1501920" y="4572000"/>
            <a:ext cx="3767040" cy="8431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2971800" y="2543040"/>
            <a:ext cx="316080" cy="1684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2446200" y="1940040"/>
            <a:ext cx="897120" cy="12603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5202360" y="1523880"/>
            <a:ext cx="1614240" cy="21384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6705720" y="1828800"/>
            <a:ext cx="2293920" cy="2413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531120" y="4648320"/>
            <a:ext cx="1881000" cy="1116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5616720" y="4952880"/>
            <a:ext cx="9381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genda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Expansion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mP Frequency Planning Using Genetic Algorithms and Simulated Anneal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tP Frequency Planning Using Genetic Algorithms and Simulated Anne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3200400" y="388800"/>
            <a:ext cx="36655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71680" y="380880"/>
            <a:ext cx="3662640" cy="18669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233880" y="363600"/>
            <a:ext cx="3624120" cy="2531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174840" cy="36147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468600" y="380880"/>
            <a:ext cx="3168720" cy="40989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465360" y="380880"/>
            <a:ext cx="3195720" cy="54230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3492360" y="380880"/>
            <a:ext cx="3122640" cy="56088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541680" cy="64245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6637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30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96920" y="609120"/>
            <a:ext cx="64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nefits of Optimized Frequency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Use of Expensiv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Throughput per MHz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Network “Exclusion Z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izes System Interference and Ou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izes System Throughput with Expanded Use of Higher Order Constella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763120" cy="60069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598480" y="30384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ndomized Standard Hub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21080" y="16606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95760" y="19051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46880" y="2057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438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23040" y="29876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83320" y="36576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86400" y="2590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25909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27440" y="303228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4191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0000" y="39387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16360" y="45640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87560" y="4952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51440" y="505296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4952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3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76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9576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1644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4360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6428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83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412120" y="1219320"/>
            <a:ext cx="180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6072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55800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50958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76520" y="46116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41292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76520" y="36450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76520" y="315288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670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1859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76520" y="17035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12193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676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7240" y="60976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576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9576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80640" y="6097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91644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1644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498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04360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4360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784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16428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6428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768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283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83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1836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8412120" y="600372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12120" y="121932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4552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6072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343720" y="6072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53320" y="6004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6520" y="55800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8343720" y="55800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65040" y="55119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76520" y="50958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8343720" y="50958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65040" y="502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6520" y="46116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8343720" y="46116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65040" y="45450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41292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8343720" y="41292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65040" y="40608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76520" y="36450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8343720" y="36450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65040" y="35784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76520" y="31528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8343720" y="31528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65040" y="3086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76520" y="2670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8343720" y="2670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65040" y="2602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76520" y="21859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8343720" y="21859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65040" y="21193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76520" y="1703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8343720" y="17035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65040" y="16351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76520" y="12193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8343720" y="12193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38840" y="11509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97200" y="3713040"/>
            <a:ext cx="6522840" cy="2359080"/>
          </a:xfrm>
          <a:custGeom>
            <a:avLst/>
            <a:gdLst/>
            <a:ahLst/>
            <a:rect l="l" t="t" r="r" b="b"/>
            <a:pathLst>
              <a:path w="4109" h="1486">
                <a:moveTo>
                  <a:pt x="0" y="1486"/>
                </a:moveTo>
                <a:lnTo>
                  <a:pt x="139" y="1486"/>
                </a:lnTo>
                <a:lnTo>
                  <a:pt x="283" y="1486"/>
                </a:lnTo>
                <a:lnTo>
                  <a:pt x="422" y="1486"/>
                </a:lnTo>
                <a:lnTo>
                  <a:pt x="566" y="1486"/>
                </a:lnTo>
                <a:lnTo>
                  <a:pt x="705" y="1475"/>
                </a:lnTo>
                <a:lnTo>
                  <a:pt x="849" y="1469"/>
                </a:lnTo>
                <a:lnTo>
                  <a:pt x="988" y="1464"/>
                </a:lnTo>
                <a:lnTo>
                  <a:pt x="1133" y="1459"/>
                </a:lnTo>
                <a:lnTo>
                  <a:pt x="1272" y="1453"/>
                </a:lnTo>
                <a:lnTo>
                  <a:pt x="1416" y="1437"/>
                </a:lnTo>
                <a:lnTo>
                  <a:pt x="1555" y="1411"/>
                </a:lnTo>
                <a:lnTo>
                  <a:pt x="1699" y="1389"/>
                </a:lnTo>
                <a:lnTo>
                  <a:pt x="1838" y="1384"/>
                </a:lnTo>
                <a:lnTo>
                  <a:pt x="1982" y="1352"/>
                </a:lnTo>
                <a:lnTo>
                  <a:pt x="2121" y="1320"/>
                </a:lnTo>
                <a:lnTo>
                  <a:pt x="2260" y="1277"/>
                </a:lnTo>
                <a:lnTo>
                  <a:pt x="2404" y="1245"/>
                </a:lnTo>
                <a:lnTo>
                  <a:pt x="2543" y="1197"/>
                </a:lnTo>
                <a:lnTo>
                  <a:pt x="2688" y="1149"/>
                </a:lnTo>
                <a:lnTo>
                  <a:pt x="2827" y="1090"/>
                </a:lnTo>
                <a:lnTo>
                  <a:pt x="2971" y="1005"/>
                </a:lnTo>
                <a:lnTo>
                  <a:pt x="3110" y="914"/>
                </a:lnTo>
                <a:lnTo>
                  <a:pt x="3254" y="818"/>
                </a:lnTo>
                <a:lnTo>
                  <a:pt x="3393" y="695"/>
                </a:lnTo>
                <a:lnTo>
                  <a:pt x="3537" y="604"/>
                </a:lnTo>
                <a:lnTo>
                  <a:pt x="3676" y="465"/>
                </a:lnTo>
                <a:lnTo>
                  <a:pt x="3820" y="331"/>
                </a:lnTo>
                <a:lnTo>
                  <a:pt x="3959" y="155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00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30640" y="1023840"/>
            <a:ext cx="364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arative C/I Cumulative Histogram for Genetic Algorithm Frequency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58840" y="630396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745200" y="3522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97200" y="2789280"/>
            <a:ext cx="6522840" cy="3282840"/>
          </a:xfrm>
          <a:custGeom>
            <a:avLst/>
            <a:gdLst/>
            <a:ahLst/>
            <a:rect l="l" t="t" r="r" b="b"/>
            <a:pathLst>
              <a:path w="4109" h="2068">
                <a:moveTo>
                  <a:pt x="0" y="2068"/>
                </a:moveTo>
                <a:lnTo>
                  <a:pt x="139" y="2068"/>
                </a:lnTo>
                <a:lnTo>
                  <a:pt x="283" y="2068"/>
                </a:lnTo>
                <a:lnTo>
                  <a:pt x="422" y="2068"/>
                </a:lnTo>
                <a:lnTo>
                  <a:pt x="566" y="2068"/>
                </a:lnTo>
                <a:lnTo>
                  <a:pt x="705" y="2068"/>
                </a:lnTo>
                <a:lnTo>
                  <a:pt x="849" y="2068"/>
                </a:lnTo>
                <a:lnTo>
                  <a:pt x="988" y="2068"/>
                </a:lnTo>
                <a:lnTo>
                  <a:pt x="1133" y="2057"/>
                </a:lnTo>
                <a:lnTo>
                  <a:pt x="1272" y="2051"/>
                </a:lnTo>
                <a:lnTo>
                  <a:pt x="1416" y="2041"/>
                </a:lnTo>
                <a:lnTo>
                  <a:pt x="1555" y="2030"/>
                </a:lnTo>
                <a:lnTo>
                  <a:pt x="1699" y="2003"/>
                </a:lnTo>
                <a:lnTo>
                  <a:pt x="1838" y="1955"/>
                </a:lnTo>
                <a:lnTo>
                  <a:pt x="1982" y="1913"/>
                </a:lnTo>
                <a:lnTo>
                  <a:pt x="2121" y="1843"/>
                </a:lnTo>
                <a:lnTo>
                  <a:pt x="2260" y="1763"/>
                </a:lnTo>
                <a:lnTo>
                  <a:pt x="2404" y="1656"/>
                </a:lnTo>
                <a:lnTo>
                  <a:pt x="2543" y="1544"/>
                </a:lnTo>
                <a:lnTo>
                  <a:pt x="2688" y="1448"/>
                </a:lnTo>
                <a:lnTo>
                  <a:pt x="2827" y="1335"/>
                </a:lnTo>
                <a:lnTo>
                  <a:pt x="2971" y="1181"/>
                </a:lnTo>
                <a:lnTo>
                  <a:pt x="3110" y="1074"/>
                </a:lnTo>
                <a:lnTo>
                  <a:pt x="3254" y="951"/>
                </a:lnTo>
                <a:lnTo>
                  <a:pt x="3393" y="801"/>
                </a:lnTo>
                <a:lnTo>
                  <a:pt x="3537" y="646"/>
                </a:lnTo>
                <a:lnTo>
                  <a:pt x="3676" y="491"/>
                </a:lnTo>
                <a:lnTo>
                  <a:pt x="3820" y="336"/>
                </a:lnTo>
                <a:lnTo>
                  <a:pt x="3959" y="187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14000" y="1287360"/>
            <a:ext cx="61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netic 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19760" y="1422360"/>
            <a:ext cx="64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08720" y="1355760"/>
            <a:ext cx="195480" cy="1440"/>
          </a:xfrm>
          <a:prstGeom prst="line">
            <a:avLst/>
          </a:prstGeom>
          <a:ln w="0">
            <a:solidFill>
              <a:srgbClr val="00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08720" y="1500120"/>
            <a:ext cx="1954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277040" y="4122360"/>
            <a:ext cx="0" cy="1981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690560" y="404640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90560" y="480852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19400" y="50360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00800" y="343584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37240" y="608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Comparison of Standard Vs. Genet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198600" y="4561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int-to-Point Link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04440" y="6302520"/>
            <a:ext cx="6361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7:1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7020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9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08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21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40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5960" y="599292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5960" y="505764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5960" y="41292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5960" y="32004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5960" y="227160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5960" y="134316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5960" y="5992920"/>
            <a:ext cx="590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055960" y="1343160"/>
            <a:ext cx="1440" cy="464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77020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9992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3889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817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008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38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6121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155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7240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70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55960" y="599292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24960" y="594504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55960" y="505764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64120" y="50101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5960" y="41292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4960" y="408132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55960" y="32004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64120" y="31528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5960" y="227160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4960" y="222408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55960" y="134316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464120" y="12952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971960" y="3733920"/>
            <a:ext cx="1657440" cy="55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71960" y="3789360"/>
            <a:ext cx="1768680" cy="604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40640" y="38498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971960" y="3760560"/>
            <a:ext cx="1513080" cy="284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485040" y="3760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971960" y="3652560"/>
            <a:ext cx="1024200" cy="13644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96160" y="3652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71960" y="3789360"/>
            <a:ext cx="1381320" cy="14292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53280" y="3932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971960" y="3594240"/>
            <a:ext cx="1405080" cy="1951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377040" y="3594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1960" y="3789360"/>
            <a:ext cx="57240" cy="47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19840" y="4265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71960" y="3789360"/>
            <a:ext cx="554040" cy="94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26000" y="47372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971960" y="3414240"/>
            <a:ext cx="1774800" cy="3747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46760" y="3408480"/>
            <a:ext cx="180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597560" y="3789360"/>
            <a:ext cx="374400" cy="577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97560" y="436716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71960" y="3789360"/>
            <a:ext cx="452520" cy="3049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24480" y="4094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71960" y="3789360"/>
            <a:ext cx="203400" cy="90504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75360" y="46944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650840" y="3789360"/>
            <a:ext cx="320760" cy="1252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51200" y="391464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484520" y="3789360"/>
            <a:ext cx="487440" cy="3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84520" y="4098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441320" y="3789360"/>
            <a:ext cx="530280" cy="166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1680" y="39560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679640" y="3789360"/>
            <a:ext cx="291960" cy="822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80000" y="46116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71960" y="3789360"/>
            <a:ext cx="779400" cy="7920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6680" y="4581360"/>
            <a:ext cx="46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71960" y="3789360"/>
            <a:ext cx="60480" cy="8287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32440" y="4618080"/>
            <a:ext cx="360" cy="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1960" y="3789360"/>
            <a:ext cx="993960" cy="1191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65920" y="390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304880" y="3492360"/>
            <a:ext cx="655560" cy="231840"/>
          </a:xfrm>
          <a:prstGeom prst="line">
            <a:avLst/>
          </a:prstGeom>
          <a:ln w="0">
            <a:solidFill>
              <a:srgbClr val="ffff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05240" y="3486240"/>
            <a:ext cx="360" cy="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71960" y="3789360"/>
            <a:ext cx="993960" cy="18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65920" y="56293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2079360" y="3159000"/>
            <a:ext cx="2881080" cy="565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073240" y="3159000"/>
            <a:ext cx="648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71960" y="3789360"/>
            <a:ext cx="1054080" cy="13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26040" y="5146560"/>
            <a:ext cx="648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2394000" y="2479320"/>
            <a:ext cx="2566800" cy="12445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94000" y="247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865760" y="3724200"/>
            <a:ext cx="95040" cy="180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65760" y="37242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322880" y="3105000"/>
            <a:ext cx="637920" cy="61920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22880" y="3098880"/>
            <a:ext cx="360" cy="6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4465440" y="2050920"/>
            <a:ext cx="495000" cy="1673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65800" y="2046240"/>
            <a:ext cx="3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870080" y="3503160"/>
            <a:ext cx="90360" cy="220680"/>
          </a:xfrm>
          <a:prstGeom prst="line">
            <a:avLst/>
          </a:prstGeom>
          <a:ln w="0">
            <a:solidFill>
              <a:srgbClr val="00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0440" y="3498840"/>
            <a:ext cx="144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971960" y="3682800"/>
            <a:ext cx="893880" cy="106200"/>
          </a:xfrm>
          <a:prstGeom prst="line">
            <a:avLst/>
          </a:prstGeom>
          <a:ln w="0">
            <a:solidFill>
              <a:srgbClr val="ff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65840" y="36831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95040" y="114300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P Link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83720" y="6264360"/>
            <a:ext cx="137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ng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707040" y="349344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352880" y="617688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1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4140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1296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449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783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182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516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835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169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55648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79560" y="586584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79560" y="537840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79560" y="48988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879560" y="441972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79560" y="394020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79560" y="34606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79560" y="29732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79560" y="249408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879560" y="201456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79560" y="15350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79560" y="105552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79560" y="5865840"/>
            <a:ext cx="6676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76544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6544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69480" y="5891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71296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1296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560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5449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449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880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43783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783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214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2182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182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6096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516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516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9947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8835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835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263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7169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169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582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855648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55648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49960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65440" y="586584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8489520" y="5865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16400" y="57992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65440" y="537840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8489520" y="5378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16400" y="5310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65440" y="48988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8489520" y="4898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16400" y="4830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65440" y="441972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8489520" y="441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16400" y="43513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65440" y="394020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8489520" y="39402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16400" y="38736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65440" y="34606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8489520" y="34606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16400" y="3394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65440" y="29732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8489520" y="29732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616400" y="29052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765440" y="249408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8489520" y="249408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16400" y="2425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65440" y="201456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8489520" y="20145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16400" y="19461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65440" y="15350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489520" y="15350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616400" y="1467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65440" y="105552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489520" y="105552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6400" y="9874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55880" y="1290600"/>
            <a:ext cx="6516720" cy="4340160"/>
          </a:xfrm>
          <a:custGeom>
            <a:avLst/>
            <a:gdLst/>
            <a:ahLst/>
            <a:rect l="l" t="t" r="r" b="b"/>
            <a:pathLst>
              <a:path w="4105" h="2734">
                <a:moveTo>
                  <a:pt x="0" y="2734"/>
                </a:moveTo>
                <a:lnTo>
                  <a:pt x="53" y="2734"/>
                </a:lnTo>
                <a:lnTo>
                  <a:pt x="106" y="2734"/>
                </a:lnTo>
                <a:lnTo>
                  <a:pt x="159" y="2734"/>
                </a:lnTo>
                <a:lnTo>
                  <a:pt x="212" y="959"/>
                </a:lnTo>
                <a:lnTo>
                  <a:pt x="265" y="959"/>
                </a:lnTo>
                <a:lnTo>
                  <a:pt x="318" y="959"/>
                </a:lnTo>
                <a:lnTo>
                  <a:pt x="371" y="959"/>
                </a:lnTo>
                <a:lnTo>
                  <a:pt x="424" y="959"/>
                </a:lnTo>
                <a:lnTo>
                  <a:pt x="477" y="959"/>
                </a:lnTo>
                <a:lnTo>
                  <a:pt x="530" y="959"/>
                </a:lnTo>
                <a:lnTo>
                  <a:pt x="583" y="959"/>
                </a:lnTo>
                <a:lnTo>
                  <a:pt x="636" y="959"/>
                </a:lnTo>
                <a:lnTo>
                  <a:pt x="683" y="959"/>
                </a:lnTo>
                <a:lnTo>
                  <a:pt x="736" y="959"/>
                </a:lnTo>
                <a:lnTo>
                  <a:pt x="789" y="959"/>
                </a:lnTo>
                <a:lnTo>
                  <a:pt x="842" y="959"/>
                </a:lnTo>
                <a:lnTo>
                  <a:pt x="895" y="959"/>
                </a:lnTo>
                <a:lnTo>
                  <a:pt x="948" y="959"/>
                </a:lnTo>
                <a:lnTo>
                  <a:pt x="1001" y="959"/>
                </a:lnTo>
                <a:lnTo>
                  <a:pt x="1054" y="959"/>
                </a:lnTo>
                <a:lnTo>
                  <a:pt x="1107" y="959"/>
                </a:lnTo>
                <a:lnTo>
                  <a:pt x="1160" y="959"/>
                </a:lnTo>
                <a:lnTo>
                  <a:pt x="1213" y="959"/>
                </a:lnTo>
                <a:lnTo>
                  <a:pt x="1266" y="959"/>
                </a:lnTo>
                <a:lnTo>
                  <a:pt x="1319" y="959"/>
                </a:lnTo>
                <a:lnTo>
                  <a:pt x="1367" y="959"/>
                </a:lnTo>
                <a:lnTo>
                  <a:pt x="1420" y="959"/>
                </a:lnTo>
                <a:lnTo>
                  <a:pt x="1473" y="959"/>
                </a:lnTo>
                <a:lnTo>
                  <a:pt x="1526" y="366"/>
                </a:lnTo>
                <a:lnTo>
                  <a:pt x="1579" y="366"/>
                </a:lnTo>
                <a:lnTo>
                  <a:pt x="1632" y="366"/>
                </a:lnTo>
                <a:lnTo>
                  <a:pt x="1685" y="366"/>
                </a:lnTo>
                <a:lnTo>
                  <a:pt x="1738" y="366"/>
                </a:lnTo>
                <a:lnTo>
                  <a:pt x="1791" y="366"/>
                </a:lnTo>
                <a:lnTo>
                  <a:pt x="1843" y="366"/>
                </a:lnTo>
                <a:lnTo>
                  <a:pt x="1896" y="366"/>
                </a:lnTo>
                <a:lnTo>
                  <a:pt x="1949" y="366"/>
                </a:lnTo>
                <a:lnTo>
                  <a:pt x="2002" y="366"/>
                </a:lnTo>
                <a:lnTo>
                  <a:pt x="2055" y="366"/>
                </a:lnTo>
                <a:lnTo>
                  <a:pt x="2103" y="366"/>
                </a:lnTo>
                <a:lnTo>
                  <a:pt x="2156" y="122"/>
                </a:lnTo>
                <a:lnTo>
                  <a:pt x="2209" y="122"/>
                </a:lnTo>
                <a:lnTo>
                  <a:pt x="2262" y="122"/>
                </a:lnTo>
                <a:lnTo>
                  <a:pt x="2315" y="122"/>
                </a:lnTo>
                <a:lnTo>
                  <a:pt x="2368" y="0"/>
                </a:lnTo>
                <a:lnTo>
                  <a:pt x="2421" y="0"/>
                </a:lnTo>
                <a:lnTo>
                  <a:pt x="2474" y="0"/>
                </a:lnTo>
                <a:lnTo>
                  <a:pt x="2527" y="0"/>
                </a:lnTo>
                <a:lnTo>
                  <a:pt x="2580" y="0"/>
                </a:lnTo>
                <a:lnTo>
                  <a:pt x="2633" y="0"/>
                </a:lnTo>
                <a:lnTo>
                  <a:pt x="2686" y="0"/>
                </a:lnTo>
                <a:lnTo>
                  <a:pt x="2739" y="0"/>
                </a:lnTo>
                <a:lnTo>
                  <a:pt x="2786" y="0"/>
                </a:lnTo>
                <a:lnTo>
                  <a:pt x="2839" y="0"/>
                </a:lnTo>
                <a:lnTo>
                  <a:pt x="2892" y="0"/>
                </a:lnTo>
                <a:lnTo>
                  <a:pt x="2945" y="0"/>
                </a:lnTo>
                <a:lnTo>
                  <a:pt x="2998" y="0"/>
                </a:lnTo>
                <a:lnTo>
                  <a:pt x="3051" y="0"/>
                </a:lnTo>
                <a:lnTo>
                  <a:pt x="3104" y="0"/>
                </a:lnTo>
                <a:lnTo>
                  <a:pt x="3157" y="0"/>
                </a:lnTo>
                <a:lnTo>
                  <a:pt x="3210" y="0"/>
                </a:lnTo>
                <a:lnTo>
                  <a:pt x="3263" y="0"/>
                </a:lnTo>
                <a:lnTo>
                  <a:pt x="3316" y="0"/>
                </a:lnTo>
                <a:lnTo>
                  <a:pt x="3369" y="0"/>
                </a:lnTo>
                <a:lnTo>
                  <a:pt x="3422" y="0"/>
                </a:lnTo>
                <a:lnTo>
                  <a:pt x="3470" y="0"/>
                </a:lnTo>
                <a:lnTo>
                  <a:pt x="3523" y="0"/>
                </a:lnTo>
                <a:lnTo>
                  <a:pt x="3576" y="0"/>
                </a:lnTo>
                <a:lnTo>
                  <a:pt x="3629" y="0"/>
                </a:lnTo>
                <a:lnTo>
                  <a:pt x="3681" y="0"/>
                </a:lnTo>
                <a:lnTo>
                  <a:pt x="3734" y="0"/>
                </a:lnTo>
                <a:lnTo>
                  <a:pt x="3787" y="0"/>
                </a:lnTo>
                <a:lnTo>
                  <a:pt x="3840" y="0"/>
                </a:lnTo>
                <a:lnTo>
                  <a:pt x="3893" y="0"/>
                </a:lnTo>
                <a:lnTo>
                  <a:pt x="3946" y="0"/>
                </a:lnTo>
                <a:lnTo>
                  <a:pt x="3999" y="0"/>
                </a:lnTo>
                <a:lnTo>
                  <a:pt x="4052" y="0"/>
                </a:lnTo>
                <a:lnTo>
                  <a:pt x="410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285440" y="603396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Links Proc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1308240" y="3323160"/>
            <a:ext cx="48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34680" y="30384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ulated Annealing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3815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961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464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642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7396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6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9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9088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246640" y="1332000"/>
            <a:ext cx="180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7900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16080" y="58435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16080" y="51973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16080" y="455148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16080" y="390384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16080" y="326556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16080" y="26179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16080" y="19717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16080" y="133200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01456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1456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02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246640" y="578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46640" y="1332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34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837900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7900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6532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116080" y="58435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8314920" y="58435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37520" y="578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16080" y="51973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8314920" y="51973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66960" y="5133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16080" y="45514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8314920" y="455148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66960" y="44877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16080" y="39038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8314920" y="39038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66960" y="38401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116080" y="326556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8314920" y="326556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866960" y="3201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16080" y="26179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8314920" y="26179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66960" y="255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16080" y="19717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8314920" y="19717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66960" y="1908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16080" y="13320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314920" y="133200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866960" y="1270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16080" y="1844640"/>
            <a:ext cx="6262920" cy="3621240"/>
          </a:xfrm>
          <a:custGeom>
            <a:avLst/>
            <a:gdLst/>
            <a:ahLst/>
            <a:rect l="l" t="t" r="r" b="b"/>
            <a:pathLst>
              <a:path w="3945" h="2281">
                <a:moveTo>
                  <a:pt x="0" y="2281"/>
                </a:moveTo>
                <a:lnTo>
                  <a:pt x="1972" y="1665"/>
                </a:lnTo>
                <a:lnTo>
                  <a:pt x="394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34560" y="1143000"/>
            <a:ext cx="2983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imulated Annealing as a Function of Number of Available Frequenc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20560" y="6002280"/>
            <a:ext cx="243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Available Frequ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200000">
            <a:off x="904680" y="3414240"/>
            <a:ext cx="156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l-to-Noise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92160" y="150840"/>
            <a:ext cx="50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d Annealing Performance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of of Available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vailable Spectrum Is at a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 Optimized Frequency Plan Improves the Overall Network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le Minimizing Frequency Channel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plitting Outperforms Frequency Doubling for Network Expa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 Optimizes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Hub Placements Are Not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There Is a Significant 3-D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 Be Utilized for Both Point-Multipoint and Point-to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Reuse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mited by Reuse Cochannel and Adjacent Channel Inter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use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jacent 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mission Adjacent Channel Power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7246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75708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7308720" cy="586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23960" y="1268280"/>
            <a:ext cx="4729320" cy="3630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447920" y="1019160"/>
            <a:ext cx="7191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190512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048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162560" cy="4897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48720" y="1295280"/>
            <a:ext cx="1190520" cy="1176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95480" y="5943600"/>
            <a:ext cx="135864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1337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280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3404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1240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280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3404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1911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3404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1814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280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3404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880" y="380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C/I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7162920" cy="4897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26480" y="4724280"/>
            <a:ext cx="1692720" cy="10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5:33:46Z</dcterms:created>
  <dc:creator>jrozmaryn</dc:creator>
  <dc:description/>
  <dc:language>en-US</dc:language>
  <cp:lastModifiedBy>jrozmaryn</cp:lastModifiedBy>
  <cp:lastPrinted>2002-02-07T22:44:06Z</cp:lastPrinted>
  <dcterms:modified xsi:type="dcterms:W3CDTF">2002-02-07T22:44:14Z</dcterms:modified>
  <cp:revision>110</cp:revision>
  <dc:subject/>
  <dc:title>No Slide Title</dc:title>
</cp:coreProperties>
</file>