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8.png" ContentType="image/png"/>
  <Override PartName="/ppt/media/image14.jpeg" ContentType="image/jpeg"/>
  <Override PartName="/ppt/media/image15.png" ContentType="image/pn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93F6-DFF1-4C02-9182-85DECE503E70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38A5-029F-469B-91B3-D636400B2C66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4600" y="3846600"/>
            <a:ext cx="4611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usiness Model with 2</a:t>
            </a:r>
            <a:r>
              <a:rPr b="1" lang="en-US" sz="1800" spc="-1" strike="noStrike" baseline="30000">
                <a:solidFill>
                  <a:srgbClr val="2632a8"/>
                </a:solidFill>
                <a:latin typeface="Arial"/>
              </a:rPr>
              <a:t>nd  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4th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Wireless Acces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ob Kelsch-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679840" y="3886200"/>
            <a:ext cx="266400" cy="2412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654360" y="466560"/>
          <a:ext cx="142884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4360" y="466560"/>
                    <a:ext cx="14288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76400" y="800280"/>
            <a:ext cx="6204240" cy="40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spectraleffeiciencys" descr=""/>
          <p:cNvPicPr/>
          <p:nvPr/>
        </p:nvPicPr>
        <p:blipFill>
          <a:blip r:embed="rId1"/>
          <a:stretch/>
        </p:blipFill>
        <p:spPr>
          <a:xfrm>
            <a:off x="723960" y="1635120"/>
            <a:ext cx="776268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Model- Assump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69880" y="63360"/>
            <a:ext cx="62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6840" y="1317600"/>
            <a:ext cx="3160800" cy="160704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: 1,25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: 52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es: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: 2300 Sq.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/Sq. Mi.: 2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84120" y="3079800"/>
            <a:ext cx="6821280" cy="3103200"/>
            <a:chOff x="1284120" y="3079800"/>
            <a:chExt cx="6821280" cy="3103200"/>
          </a:xfrm>
        </p:grpSpPr>
        <p:grpSp>
          <p:nvGrpSpPr>
            <p:cNvPr id="172" name=""/>
            <p:cNvGrpSpPr/>
            <p:nvPr/>
          </p:nvGrpSpPr>
          <p:grpSpPr>
            <a:xfrm>
              <a:off x="1288800" y="3084480"/>
              <a:ext cx="6810840" cy="3092760"/>
              <a:chOff x="1288800" y="3084480"/>
              <a:chExt cx="6810840" cy="30927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288800" y="3084480"/>
                <a:ext cx="1908360" cy="676080"/>
                <a:chOff x="1288800" y="3084480"/>
                <a:chExt cx="1908360" cy="6760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288800" y="3084480"/>
                  <a:ext cx="190836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1288800" y="3084480"/>
                  <a:ext cx="1908000" cy="675720"/>
                  <a:chOff x="1288800" y="3084480"/>
                  <a:chExt cx="1908000" cy="6757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1360800" y="3084480"/>
                    <a:ext cx="176364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288800" y="3084480"/>
                    <a:ext cx="190800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3197520" y="3084480"/>
                <a:ext cx="979920" cy="676080"/>
                <a:chOff x="3197520" y="3084480"/>
                <a:chExt cx="979920" cy="6760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1975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3197520" y="3084480"/>
                  <a:ext cx="979560" cy="675720"/>
                  <a:chOff x="3197520" y="3084480"/>
                  <a:chExt cx="979560" cy="675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3269160" y="3084480"/>
                    <a:ext cx="83592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1975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4178160" y="3084480"/>
                <a:ext cx="979920" cy="676080"/>
                <a:chOff x="4178160" y="3084480"/>
                <a:chExt cx="979920" cy="6760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17816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178160" y="3084480"/>
                  <a:ext cx="979560" cy="675720"/>
                  <a:chOff x="4178160" y="3084480"/>
                  <a:chExt cx="979560" cy="6757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425016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17816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5158440" y="3084480"/>
                <a:ext cx="980280" cy="676080"/>
                <a:chOff x="5158440" y="3084480"/>
                <a:chExt cx="980280" cy="676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158440" y="3084480"/>
                  <a:ext cx="98028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5158440" y="3084480"/>
                  <a:ext cx="979920" cy="675720"/>
                  <a:chOff x="5158440" y="3084480"/>
                  <a:chExt cx="979920" cy="6757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23044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158440" y="3084480"/>
                    <a:ext cx="97992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139440" y="3084480"/>
                <a:ext cx="979920" cy="676080"/>
                <a:chOff x="6139440" y="3084480"/>
                <a:chExt cx="979920" cy="676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13944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6139440" y="3084480"/>
                  <a:ext cx="979560" cy="675720"/>
                  <a:chOff x="6139440" y="3084480"/>
                  <a:chExt cx="979560" cy="6757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21108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13944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7119720" y="3084480"/>
                <a:ext cx="979920" cy="676080"/>
                <a:chOff x="7119720" y="3084480"/>
                <a:chExt cx="979920" cy="676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1197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7119720" y="3084480"/>
                  <a:ext cx="979560" cy="675720"/>
                  <a:chOff x="7119720" y="3084480"/>
                  <a:chExt cx="979560" cy="6757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19172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197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3" name=""/>
              <p:cNvGrpSpPr/>
              <p:nvPr/>
            </p:nvGrpSpPr>
            <p:grpSpPr>
              <a:xfrm>
                <a:off x="1288800" y="3760920"/>
                <a:ext cx="1908360" cy="676080"/>
                <a:chOff x="1288800" y="3760920"/>
                <a:chExt cx="1908360" cy="6760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360800" y="3760920"/>
                  <a:ext cx="176400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usehold served (%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288800" y="3760920"/>
                  <a:ext cx="190836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197520" y="3760920"/>
                <a:ext cx="979920" cy="676080"/>
                <a:chOff x="3197520" y="3760920"/>
                <a:chExt cx="979920" cy="6760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269160" y="3760920"/>
                  <a:ext cx="83628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1975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178160" y="3760920"/>
                <a:ext cx="979920" cy="676080"/>
                <a:chOff x="4178160" y="3760920"/>
                <a:chExt cx="979920" cy="6760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25016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7816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158440" y="3760920"/>
                <a:ext cx="980280" cy="676080"/>
                <a:chOff x="5158440" y="3760920"/>
                <a:chExt cx="980280" cy="6760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23044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158440" y="3760920"/>
                  <a:ext cx="98028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139440" y="3760920"/>
                <a:ext cx="979920" cy="676080"/>
                <a:chOff x="6139440" y="3760920"/>
                <a:chExt cx="979920" cy="676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21108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3944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119720" y="3760920"/>
                <a:ext cx="979920" cy="676080"/>
                <a:chOff x="7119720" y="3760920"/>
                <a:chExt cx="979920" cy="6760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19172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1197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288800" y="4437720"/>
                <a:ext cx="1908360" cy="869400"/>
                <a:chOff x="1288800" y="4437720"/>
                <a:chExt cx="1908360" cy="8694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360800" y="4437720"/>
                  <a:ext cx="176400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residential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288800" y="4437720"/>
                  <a:ext cx="190836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197520" y="4437720"/>
                <a:ext cx="979920" cy="869400"/>
                <a:chOff x="3197520" y="4437720"/>
                <a:chExt cx="979920" cy="8694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269160" y="4437720"/>
                  <a:ext cx="83628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975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178160" y="4437720"/>
                <a:ext cx="979920" cy="869400"/>
                <a:chOff x="4178160" y="4437720"/>
                <a:chExt cx="979920" cy="8694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25016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17816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158440" y="4437720"/>
                <a:ext cx="980280" cy="869400"/>
                <a:chOff x="5158440" y="4437720"/>
                <a:chExt cx="980280" cy="8694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23044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,3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158440" y="4437720"/>
                  <a:ext cx="98028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139440" y="4437720"/>
                <a:ext cx="979920" cy="869400"/>
                <a:chOff x="6139440" y="4437720"/>
                <a:chExt cx="979920" cy="869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21108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2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13944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119720" y="4437720"/>
                <a:ext cx="979920" cy="869400"/>
                <a:chOff x="7119720" y="4437720"/>
                <a:chExt cx="979920" cy="869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19172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2,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197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288800" y="5307480"/>
                <a:ext cx="1908360" cy="869760"/>
                <a:chOff x="1288800" y="5307480"/>
                <a:chExt cx="1908360" cy="8697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360800" y="5307480"/>
                  <a:ext cx="176400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business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288800" y="5307480"/>
                  <a:ext cx="190836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197520" y="5307480"/>
                <a:ext cx="979920" cy="869760"/>
                <a:chOff x="3197520" y="5307480"/>
                <a:chExt cx="979920" cy="869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269160" y="5307480"/>
                  <a:ext cx="83628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8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1975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178160" y="5307480"/>
                <a:ext cx="979920" cy="869760"/>
                <a:chOff x="4178160" y="5307480"/>
                <a:chExt cx="979920" cy="8697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25016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62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17816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158440" y="5307480"/>
                <a:ext cx="980280" cy="869760"/>
                <a:chOff x="5158440" y="5307480"/>
                <a:chExt cx="980280" cy="8697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523044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9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158440" y="5307480"/>
                  <a:ext cx="98028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6139440" y="5307480"/>
                <a:ext cx="979920" cy="869760"/>
                <a:chOff x="6139440" y="5307480"/>
                <a:chExt cx="979920" cy="8697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21108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2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3944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19720" y="5307480"/>
                <a:ext cx="979920" cy="869760"/>
                <a:chOff x="7119720" y="5307480"/>
                <a:chExt cx="979920" cy="8697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19172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18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197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1284120" y="3079800"/>
              <a:ext cx="6821280" cy="310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635280" y="60944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Service Roll-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20760" y="1571760"/>
            <a:ext cx="6127560" cy="2433600"/>
            <a:chOff x="1220760" y="1571760"/>
            <a:chExt cx="6127560" cy="2433600"/>
          </a:xfrm>
        </p:grpSpPr>
        <p:grpSp>
          <p:nvGrpSpPr>
            <p:cNvPr id="261" name=""/>
            <p:cNvGrpSpPr/>
            <p:nvPr/>
          </p:nvGrpSpPr>
          <p:grpSpPr>
            <a:xfrm>
              <a:off x="1225440" y="1576080"/>
              <a:ext cx="6117120" cy="2423880"/>
              <a:chOff x="1225440" y="1576080"/>
              <a:chExt cx="6117120" cy="24238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1225440" y="1576080"/>
                <a:ext cx="2466720" cy="605880"/>
                <a:chOff x="1225440" y="1576080"/>
                <a:chExt cx="2466720" cy="6058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225440" y="1576080"/>
                  <a:ext cx="246672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1225440" y="1576080"/>
                  <a:ext cx="2466360" cy="605880"/>
                  <a:chOff x="1225440" y="1576080"/>
                  <a:chExt cx="2466360" cy="60588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1294560" y="1576080"/>
                    <a:ext cx="232776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1225440" y="1576080"/>
                    <a:ext cx="246636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3692520" y="1576080"/>
                <a:ext cx="1824840" cy="605880"/>
                <a:chOff x="3692520" y="1576080"/>
                <a:chExt cx="1824840" cy="605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692520" y="1576080"/>
                  <a:ext cx="182484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3692520" y="1576080"/>
                  <a:ext cx="1824480" cy="605880"/>
                  <a:chOff x="3692520" y="1576080"/>
                  <a:chExt cx="1824480" cy="6058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3761640" y="1576080"/>
                    <a:ext cx="168588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sidenti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692520" y="1576080"/>
                    <a:ext cx="182448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5518080" y="1576080"/>
                <a:ext cx="1824480" cy="605880"/>
                <a:chOff x="5518080" y="1576080"/>
                <a:chExt cx="1824480" cy="6058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518080" y="1576080"/>
                  <a:ext cx="182448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5518080" y="1576080"/>
                  <a:ext cx="1824120" cy="605880"/>
                  <a:chOff x="5518080" y="1576080"/>
                  <a:chExt cx="1824120" cy="6058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5586840" y="1576080"/>
                    <a:ext cx="168624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usines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5518080" y="1576080"/>
                    <a:ext cx="182412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1225440" y="2181960"/>
                <a:ext cx="2466720" cy="605880"/>
                <a:chOff x="1225440" y="2181960"/>
                <a:chExt cx="2466720" cy="6058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294560" y="218196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rvi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.5 Mb/s / 1.2 Mb/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225440" y="218196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3692520" y="2181960"/>
                <a:ext cx="1824840" cy="605880"/>
                <a:chOff x="3692520" y="2181960"/>
                <a:chExt cx="1824840" cy="6058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761640" y="218196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4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692520" y="218196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518080" y="2181960"/>
                <a:ext cx="1824480" cy="605880"/>
                <a:chOff x="5518080" y="2181960"/>
                <a:chExt cx="1824480" cy="6058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586840" y="218196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7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518080" y="218196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1225440" y="2788200"/>
                <a:ext cx="2466720" cy="605880"/>
                <a:chOff x="1225440" y="2788200"/>
                <a:chExt cx="2466720" cy="6058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294560" y="278820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PE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225440" y="278820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692520" y="2788200"/>
                <a:ext cx="1824840" cy="605880"/>
                <a:chOff x="3692520" y="2788200"/>
                <a:chExt cx="1824840" cy="6058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761640" y="278820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692520" y="278820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5518080" y="2788200"/>
                <a:ext cx="1824480" cy="605880"/>
                <a:chOff x="5518080" y="2788200"/>
                <a:chExt cx="1824480" cy="6058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586840" y="278820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518080" y="278820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225440" y="3394080"/>
                <a:ext cx="2466720" cy="605880"/>
                <a:chOff x="1225440" y="3394080"/>
                <a:chExt cx="2466720" cy="6058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294560" y="339408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llation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225440" y="339408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692520" y="3394080"/>
                <a:ext cx="1824840" cy="605880"/>
                <a:chOff x="3692520" y="3394080"/>
                <a:chExt cx="1824840" cy="6058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761640" y="339408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692520" y="339408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518080" y="3394080"/>
                <a:ext cx="1824480" cy="605880"/>
                <a:chOff x="5518080" y="3394080"/>
                <a:chExt cx="1824480" cy="6058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586840" y="339408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18080" y="339408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1220760" y="1571760"/>
              <a:ext cx="6127560" cy="2433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114720" y="9572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52560" y="4219560"/>
            <a:ext cx="596124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4x 6 MHz channel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mile cell 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 station antenna height:100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 coverage, 99.99% availa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acquisi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 per ad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service &amp; billing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/ mo/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head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/ mo/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065240" y="1576440"/>
          <a:ext cx="7520040" cy="43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576440"/>
                    <a:ext cx="752004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to DSL-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14280" y="6018120"/>
            <a:ext cx="5306040" cy="3682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IRR: 39% for BeamReach solution vs 16% for 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103400" y="1525680"/>
          <a:ext cx="7267320" cy="421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525680"/>
                    <a:ext cx="726732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63040" y="1533240"/>
            <a:ext cx="706932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High return business case with superior economics to D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current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upports large covera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arge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infrastructure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capit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cost, customer deployable C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ior I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base_combo" descr=""/>
          <p:cNvPicPr/>
          <p:nvPr/>
        </p:nvPicPr>
        <p:blipFill>
          <a:blip r:embed="rId2"/>
          <a:stretch/>
        </p:blipFill>
        <p:spPr>
          <a:xfrm>
            <a:off x="5748480" y="3576600"/>
            <a:ext cx="2917800" cy="2816280"/>
          </a:xfrm>
          <a:prstGeom prst="rect">
            <a:avLst/>
          </a:prstGeom>
          <a:ln w="0">
            <a:noFill/>
          </a:ln>
        </p:spPr>
      </p:pic>
      <p:pic>
        <p:nvPicPr>
          <p:cNvPr id="317" name="group%201%20inside%20with%20laptop" descr=""/>
          <p:cNvPicPr/>
          <p:nvPr/>
        </p:nvPicPr>
        <p:blipFill>
          <a:blip r:embed="rId3"/>
          <a:stretch/>
        </p:blipFill>
        <p:spPr>
          <a:xfrm>
            <a:off x="7581960" y="1535040"/>
            <a:ext cx="1217520" cy="1825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89840" y="547524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5800" y="852120"/>
            <a:ext cx="7069320" cy="59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Requirements for high return 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4th Gener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48840" y="1263960"/>
            <a:ext cx="7069320" cy="585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, custome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iminate installation costs, rapid service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-cell with &gt; 4 miles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 line-of-sight performance with &gt;90%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budget (&gt; 150-160 dB) &amp; low fade margins (&lt;5 d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 per sub for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base station capacity = 1000’s of subscri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Spectrum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 and flexibility in spectrum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Business and residential servic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metric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otential for additional reven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c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 for high return business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ptive MultiBeam OFD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fdm_nt" descr=""/>
          <p:cNvPicPr/>
          <p:nvPr/>
        </p:nvPicPr>
        <p:blipFill>
          <a:blip r:embed="rId1"/>
          <a:stretch/>
        </p:blipFill>
        <p:spPr>
          <a:xfrm>
            <a:off x="4851360" y="121932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90640" y="1693800"/>
            <a:ext cx="3387600" cy="470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228600" bIns="228600" anchor="t">
            <a:sp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mless integration of technology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s super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Service Delivery</a:t>
            </a: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4720" y="189036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68720" y="2819160"/>
            <a:ext cx="1686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3760" y="379692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4160" y="3493800"/>
            <a:ext cx="168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40320" y="1688400"/>
            <a:ext cx="1686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00920" y="250308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740560" y="1434960"/>
            <a:ext cx="2743200" cy="2806920"/>
          </a:xfrm>
          <a:custGeom>
            <a:avLst/>
            <a:gdLst>
              <a:gd name="textAreaLeft" fmla="*/ 6480 w 2743200"/>
              <a:gd name="textAreaRight" fmla="*/ 2736720 w 2743200"/>
              <a:gd name="textAreaTop" fmla="*/ 6480 h 2806920"/>
              <a:gd name="textAreaBottom" fmla="*/ 2800440 h 2806920"/>
            </a:gdLst>
            <a:ahLst/>
            <a:rect l="textAreaLeft" t="textAreaTop" r="textAreaRight" b="textAreaBottom"/>
            <a:pathLst>
              <a:path w="21600" h="22102">
                <a:moveTo>
                  <a:pt x="183" y="0"/>
                </a:moveTo>
                <a:arcTo wR="183" hR="183" stAng="16200000" swAng="-5400000"/>
                <a:lnTo>
                  <a:pt x="0" y="21919"/>
                </a:lnTo>
                <a:arcTo wR="183" hR="183" stAng="10800000" swAng="-5400000"/>
                <a:lnTo>
                  <a:pt x="21417" y="22102"/>
                </a:lnTo>
                <a:arcTo wR="183" hR="183" stAng="5400000" swAng="-5400000"/>
                <a:lnTo>
                  <a:pt x="21600" y="183"/>
                </a:lnTo>
                <a:arcTo wR="183" hR="183" stAng="0" swAng="-5400000"/>
                <a:close/>
              </a:path>
            </a:pathLst>
          </a:custGeom>
          <a:solidFill>
            <a:srgbClr val="e8e8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eampattern" descr=""/>
          <p:cNvPicPr/>
          <p:nvPr/>
        </p:nvPicPr>
        <p:blipFill>
          <a:blip r:embed="rId1"/>
          <a:srcRect l="16657" t="2674" r="15014" b="25371"/>
          <a:stretch/>
        </p:blipFill>
        <p:spPr>
          <a:xfrm>
            <a:off x="5826240" y="1549440"/>
            <a:ext cx="2531880" cy="2604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3200" y="4322160"/>
            <a:ext cx="8137440" cy="20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forming improves system gain, extending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algorithms maximize signal to interference and noise ratio (SIN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combining provides spatial diversity, reducing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multipath delays are combined coherently, improving SI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Steering rejects co-channel interference, enabling full frequency re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47600" y="1625760"/>
            <a:ext cx="3530520" cy="2482560"/>
            <a:chOff x="1047600" y="1625760"/>
            <a:chExt cx="3530520" cy="2482560"/>
          </a:xfrm>
        </p:grpSpPr>
        <p:pic>
          <p:nvPicPr>
            <p:cNvPr id="116" name="antenna2houses" descr=""/>
            <p:cNvPicPr/>
            <p:nvPr/>
          </p:nvPicPr>
          <p:blipFill>
            <a:blip r:embed="rId7"/>
            <a:stretch/>
          </p:blipFill>
          <p:spPr>
            <a:xfrm>
              <a:off x="1116000" y="1625760"/>
              <a:ext cx="3409920" cy="24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966760" y="1796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47600" y="2669760"/>
              <a:ext cx="1244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fer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17600" y="3520800"/>
              <a:ext cx="1460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ort delay multipath 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946760" y="3241800"/>
            <a:ext cx="12445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 Towards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2920" y="1565280"/>
            <a:ext cx="12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Gain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Desir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34280" y="1908000"/>
            <a:ext cx="12445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h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39000" y="3774960"/>
            <a:ext cx="2146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m formed adaptively to maximize SI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83280" y="3390840"/>
            <a:ext cx="393840" cy="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822800" y="2425680"/>
            <a:ext cx="266760" cy="241200"/>
          </a:xfrm>
          <a:prstGeom prst="line">
            <a:avLst/>
          </a:prstGeom>
          <a:ln w="25560">
            <a:solidFill>
              <a:srgbClr val="94afe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61040" y="1473120"/>
            <a:ext cx="0" cy="304920"/>
          </a:xfrm>
          <a:prstGeom prst="line">
            <a:avLst/>
          </a:prstGeom>
          <a:ln w="255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960" y="4635000"/>
            <a:ext cx="8137440" cy="151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adaptation of multiple independent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users supported at the same time on the sam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antennas and transceivers at the base 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inter-cell reuse (N=1) and intra-cell reuse factor of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9480" y="1454040"/>
            <a:ext cx="7826040" cy="2710080"/>
            <a:chOff x="609480" y="1454040"/>
            <a:chExt cx="7826040" cy="2710080"/>
          </a:xfrm>
        </p:grpSpPr>
        <p:sp>
          <p:nvSpPr>
            <p:cNvPr id="130" name=""/>
            <p:cNvSpPr/>
            <p:nvPr/>
          </p:nvSpPr>
          <p:spPr>
            <a:xfrm>
              <a:off x="5180040" y="160668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84880" y="149220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1508040" y="1830240"/>
            <a:ext cx="6637320" cy="2333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08040" y="1830240"/>
                      <a:ext cx="6637320" cy="233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7453080" y="18223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2880" y="151776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8800" y="145404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21040" y="15811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2975040"/>
              <a:ext cx="12445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32280" y="2415960"/>
              <a:ext cx="1244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ll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57600" y="3089160"/>
              <a:ext cx="2673360" cy="677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ltiple users on the same frequency at the same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5200" y="596520"/>
            <a:ext cx="711828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ve Multi-Beam with Stacked Carrier Sprea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63640" y="4838400"/>
            <a:ext cx="7756560" cy="150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adaptively spread over multipl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discrimination between users on the same azim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susceptibility to frequency-selective f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ty at CPE without multiple antennas and ra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52760" y="2813040"/>
          <a:ext cx="1508400" cy="15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2760" y="2813040"/>
                    <a:ext cx="150840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adaptbeamform" descr=""/>
          <p:cNvPicPr/>
          <p:nvPr/>
        </p:nvPicPr>
        <p:blipFill>
          <a:blip r:embed="rId7"/>
          <a:srcRect l="29118" t="12301" r="42036" b="27751"/>
          <a:stretch/>
        </p:blipFill>
        <p:spPr>
          <a:xfrm>
            <a:off x="1663560" y="1409760"/>
            <a:ext cx="1627200" cy="2371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87320" y="3848040"/>
            <a:ext cx="3403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2bcd"/>
                </a:solidFill>
                <a:latin typeface="Arial"/>
              </a:rPr>
              <a:t>Spatial &amp; Spectral Beam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ntennas, 2 frequenc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M degrees of free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40560" y="1714680"/>
            <a:ext cx="340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Use of 2 Frequencies En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Range-Based Discri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334040" y="1263600"/>
          <a:ext cx="1653840" cy="1612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34040" y="1263600"/>
                    <a:ext cx="16538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235560" y="3251160"/>
            <a:ext cx="24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Combined spectral/spa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beamforming del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 spot beam to each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 with T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01800" y="4914720"/>
            <a:ext cx="7400880" cy="161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DD, forward and reverse link channels are “reciproc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d adaptive algorithms operate at base station and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beams and nulls are formed in both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nd RF chain provides lowest cost CP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iprocal" descr=""/>
          <p:cNvPicPr/>
          <p:nvPr/>
        </p:nvPicPr>
        <p:blipFill>
          <a:blip r:embed="rId5"/>
          <a:stretch/>
        </p:blipFill>
        <p:spPr>
          <a:xfrm>
            <a:off x="1251000" y="1308240"/>
            <a:ext cx="6464160" cy="3411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86200" y="134604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ipr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7640" y="1577880"/>
            <a:ext cx="16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06396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36248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13360" y="156672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02080" y="4397400"/>
            <a:ext cx="16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74800" y="4424400"/>
            <a:ext cx="21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05000" y="2808360"/>
            <a:ext cx="96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1840" y="2865600"/>
            <a:ext cx="98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Propagation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362240"/>
            <a:ext cx="78771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amforming and Spectral combining gain adds 6 to 10 db to link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 M-branch diversity combining reduces fade margin required by 5 to 15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 link budget advantage is 11 - 25 db in typical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coverage &amp; link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radius by factor of 2 t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area by factor of 4 to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56200" y="5992920"/>
            <a:ext cx="6944400" cy="3988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32a8"/>
                </a:solidFill>
                <a:latin typeface="Arial"/>
              </a:rPr>
              <a:t>Required for deployment of indoor customer installable C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b_aboussouan</cp:lastModifiedBy>
  <cp:lastPrinted>2002-02-08T00:29:02Z</cp:lastPrinted>
  <dcterms:modified xsi:type="dcterms:W3CDTF">2002-02-08T18:33:39Z</dcterms:modified>
  <cp:revision>792</cp:revision>
  <dc:subject>Investor Presentation</dc:subject>
  <dc:title>Radix Technologies</dc:title>
</cp:coreProperties>
</file>