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4881-8D11-40F7-AE88-3DB3C07E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3D7B-AAFB-4CCB-B121-BD0B7D3B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0F54-067B-453D-90C6-8C815DF8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C822-45CD-4353-9809-1C651FD3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2E90-4C8B-4BFB-8C5F-81304FC7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15407-E8EA-4FE2-9C08-771293C0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02F8-D975-41FD-A818-28B7CCE3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9C64-69D3-4DF8-B34D-58F77702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73E3-3AD0-4CE2-9DC8-A8E2955D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1E7E-E35F-496A-B325-C1A5D989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889E-F3CF-4E89-B208-8338EC7A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BAD0-218A-4DB8-AEBE-FEC1E2C2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58FF-68D0-48D3-8365-85599AB0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146F-8A34-49F0-9DE9-C1A86006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2D09-318D-46CA-BA61-6BB06362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E234-4053-4638-8107-909E575F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01D6-549E-46D3-9DC3-13585D3F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E5C8-3781-4665-AF63-6EF3239C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3651-3A8E-43F4-9C7B-9CDB025A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D85F-8F58-4ED6-8BE8-23B5D32B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C976-8659-44E4-BA7A-4E9309FF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FAB3-FBEC-4BB9-87E6-8FAE2043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9072-405E-4553-B05A-A5964513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F36A-C7FE-42D7-B82C-A24213C3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54A6-FDA6-4F5D-B4D7-14CB9A8FC1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C95E-3098-4041-8519-53FC7F40B4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indonesia-panel@itb.ac.id" TargetMode="External"/><Relationship Id="rId2" Type="http://schemas.openxmlformats.org/officeDocument/2006/relationships/hyperlink" Target="http://www.mdaemon.com/" TargetMode="External"/><Relationship Id="rId3" Type="http://schemas.openxmlformats.org/officeDocument/2006/relationships/hyperlink" Target="http://www.wingate.com/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mailto:onno@indo.net.id" TargetMode="External"/><Relationship Id="rId2" Type="http://schemas.openxmlformats.org/officeDocument/2006/relationships/hyperlink" Target="mailto:onno@itb.ac.id" TargetMode="External"/><Relationship Id="rId3" Type="http://schemas.openxmlformats.org/officeDocument/2006/relationships/hyperlink" Target="mailto:onno@itb.ac.id" TargetMode="External"/><Relationship Id="rId4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 &amp; Web Mur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I3/IT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komNet Inst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dak perlu registr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ge langsung ke telepon bi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aya 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a Brow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Perlu akal-akalan utk E-mail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komNet Inst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Bandung / Jakarta – 1Mbyte / 5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0-1000 e-mail / 5 me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kup 5-10 menit / hari utk satu institusi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Ujung Pandang – 400Kbyte / 7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p. 50-200.000 / bulan / institusi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Dial up Networ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main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-up Networ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dial1" descr=""/>
          <p:cNvPicPr/>
          <p:nvPr/>
        </p:nvPicPr>
        <p:blipFill>
          <a:blip r:embed="rId1"/>
          <a:stretch/>
        </p:blipFill>
        <p:spPr>
          <a:xfrm>
            <a:off x="685800" y="15840"/>
            <a:ext cx="84582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dial5" descr=""/>
          <p:cNvPicPr/>
          <p:nvPr/>
        </p:nvPicPr>
        <p:blipFill>
          <a:blip r:embed="rId1"/>
          <a:stretch/>
        </p:blipFill>
        <p:spPr>
          <a:xfrm>
            <a:off x="2362320" y="0"/>
            <a:ext cx="657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dial2" descr=""/>
          <p:cNvPicPr/>
          <p:nvPr/>
        </p:nvPicPr>
        <p:blipFill>
          <a:blip r:embed="rId1"/>
          <a:stretch/>
        </p:blipFill>
        <p:spPr>
          <a:xfrm>
            <a:off x="838080" y="-27000"/>
            <a:ext cx="830592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rung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ty Access Cen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letakan di konsentrasi mas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kola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guruan Tingg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sant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rget Biay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0.000 / bulan untuk e-mai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0-1000 mail / ha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5-7.000 / jam untuk We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I ~ 1-2 tah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xxx.itb.ac.id/~yc1dav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digital.lib.itb.ac.id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op-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3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indonesia-pane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http://www.mdaemon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http://www.wingat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usiness Overview (x Rp. jut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43000" y="2743200"/>
          <a:ext cx="7812000" cy="2076480"/>
        </p:xfrm>
        <a:graphic>
          <a:graphicData uri="http://schemas.openxmlformats.org/drawingml/2006/table">
            <a:tbl>
              <a:tblPr/>
              <a:tblGrid>
                <a:gridCol w="2717640"/>
                <a:gridCol w="1301760"/>
                <a:gridCol w="1225800"/>
                <a:gridCol w="1377720"/>
                <a:gridCol w="1189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si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-mail 300 us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 10 P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 3 P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Detail –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disi Um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asi Rp. 21 ju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-300 penggu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-2000 mail / h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-15 menit connect ke ISP / h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hitung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 user x Rp.10.000/bln = Rp.3 juta/b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 mnt/hr x Rp.150/mnt x 30 = Rp.70.000/bl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mbahan Operasional Rp. 1 juta / bul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sa uang Rp. 2 juta / bulan utk balik mod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 Lebih Lanju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“Teknologi Warung Internet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“TCP/IP Disain &amp; Implementasi” Elexmedia Komputi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9 January 2000 – Seminar / workshop WARNET di IT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70000" y="2266920"/>
          <a:ext cx="8874000" cy="32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2266920"/>
                    <a:ext cx="8874000" cy="32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495680" y="5105520"/>
            <a:ext cx="4419720" cy="581400"/>
          </a:xfrm>
          <a:prstGeom prst="borderCallout1">
            <a:avLst>
              <a:gd name="adj1" fmla="val 18750"/>
              <a:gd name="adj2" fmla="val -8333"/>
              <a:gd name="adj3" fmla="val -163486"/>
              <a:gd name="adj4" fmla="val -1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dows95 + Win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teway P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sharewar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wingate-password" descr=""/>
          <p:cNvPicPr/>
          <p:nvPr/>
        </p:nvPicPr>
        <p:blipFill>
          <a:blip r:embed="rId1"/>
          <a:stretch/>
        </p:blipFill>
        <p:spPr>
          <a:xfrm>
            <a:off x="1295280" y="-6480"/>
            <a:ext cx="78487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wingate-service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wingate-syste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wingate-dialer" descr=""/>
          <p:cNvPicPr/>
          <p:nvPr/>
        </p:nvPicPr>
        <p:blipFill>
          <a:blip r:embed="rId1"/>
          <a:stretch/>
        </p:blipFill>
        <p:spPr>
          <a:xfrm>
            <a:off x="2543040" y="0"/>
            <a:ext cx="660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skusi di Internet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domo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i ber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(mailing-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sysop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ds sesuai permintaan majordo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IE 5.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e-connection" descr=""/>
          <p:cNvPicPr/>
          <p:nvPr/>
        </p:nvPicPr>
        <p:blipFill>
          <a:blip r:embed="rId1"/>
          <a:stretch/>
        </p:blipFill>
        <p:spPr>
          <a:xfrm>
            <a:off x="2984400" y="0"/>
            <a:ext cx="615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e-proxy" descr="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onsekuensi 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kses Web adalah komoditi mahal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kitar Rp. 10.000 / j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FreeWeb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.yahoo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cit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ara MAHAL untuk akses E-mail! (sekitar Rp. 500-1000 / e-mail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ount dari ISP (umumnya 1 e-mai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 bersama account dari IS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beli beberapa account e-mail dari I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ali satu account dengan banyak Full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tu account ke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NPA account di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5-10 menit / har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Rp. 50-200.000 / bul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biaya service ETRN /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c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E-mail akse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Web akse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0" y="1676520"/>
          <a:ext cx="914400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14400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5587920"/>
            <a:ext cx="4343400" cy="520560"/>
          </a:xfrm>
          <a:prstGeom prst="borderCallout1">
            <a:avLst>
              <a:gd name="adj1" fmla="val 18750"/>
              <a:gd name="adj2" fmla="val -8333"/>
              <a:gd name="adj3" fmla="val -166620"/>
              <a:gd name="adj4" fmla="val -1205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95 + MDae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ua Alternati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kenario Servis ET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yer di Mail Serv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257800" y="1066680"/>
            <a:ext cx="3581280" cy="12193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Menyimpan Sementara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Mail dari ET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/ Persiapan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876920" y="304920"/>
            <a:ext cx="38098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di sim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ET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l Server Dial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2666880"/>
            <a:ext cx="3429000" cy="2133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RN host mengirim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743200" y="3429000"/>
            <a:ext cx="548640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TRN h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sum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a sebuah institu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imal sebuah PC window 95 / 98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kur-sukur ada beberapa komputer (dalam dikaitkan dalam LAN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 sebuah PC Windows95 + modem sebagai gateway ke Intern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kenario DomainPO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yer di Mail Serv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5257800" y="1066680"/>
            <a:ext cx="3581280" cy="12193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Menyimpan Sementara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Mail dari ET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/ Persiapan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4876920" y="304920"/>
            <a:ext cx="38098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di sim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ET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l Server Dial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2666880"/>
            <a:ext cx="5181480" cy="2133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ain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X host mengirim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743200" y="3429000"/>
            <a:ext cx="548640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X h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ntuk MDaem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mdaemon-hom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ses Web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blikasi Home Page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munikasi E-mail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Komunikasi E-mail jauh lebih penting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mdaemon-setup-ras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mdaemon-setup-isp-logon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mademon-schedul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mdaemon-system-daem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mdaemon-dns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mdaemon-domain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mdaemon-dns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/windows/ho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7.0.0.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3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nesha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59.21.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.indo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59.32.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.indo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0.6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juna.telkom.co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0.15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1.telkom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2.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2.telkom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mdaemon-setup-etrn-dequeue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mdaemon-account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unci keberhasil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mber Daya Manu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dik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ahli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Sedikit $$$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rima kasi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1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2"/>
              </a:rPr>
              <a:t>onno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3"/>
              </a:rPr>
              <a:t>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xxx.itb.ac.id/~yc1dav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digital.lib.itb.ac.id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stakawan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op-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y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y-network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3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onesia-pane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telit VSAT (64Kbps - 2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sed Line JAMUS (64Kbps - 2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veLAN Microwave (2-11 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epon (33.6 K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cket radio (1200bps - 9600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lum pernah akses Internet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ganan IS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 TelkomNet Instant – 0809 8 9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rabaya, Malang, Madi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pas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kar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jung Pand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g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jarmas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6T00:47:54Z</dcterms:created>
  <dc:creator>Onno W. Purbo</dc:creator>
  <dc:description/>
  <dc:language>en-US</dc:language>
  <cp:lastModifiedBy>Onno W. Purbo</cp:lastModifiedBy>
  <dcterms:modified xsi:type="dcterms:W3CDTF">2000-03-16T11:37:25Z</dcterms:modified>
  <cp:revision>79</cp:revision>
  <dc:subject/>
  <dc:title>Akses E-mail &amp; Web Murah</dc:title>
</cp:coreProperties>
</file>