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65F0-78FA-43E8-97E2-4328DD88A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0BC4-1763-4D44-9CFF-E45FDF1F9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B333-1C50-4137-9A64-5946F0E3E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2119F-2AC2-4A2E-A632-3ED03A0095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5347-A5F0-4E8A-966F-F6B560B9F2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C3F5-6D4F-4F82-A968-F1DCDF288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8D82-DAB5-416F-8B60-73101AA98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DE7A-CDD3-4C3A-8046-9C33877C0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647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0FD6-5C8D-4DF5-A1F6-31F146660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43D8-39BD-461B-899A-7BFEBD44F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AF8B-BF17-4C67-A552-650074BEA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62A7-C3FB-4AE2-BBEC-8BFD35998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7387-C869-4DFB-8D81-6F378FEB0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391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yth of the Ubiquitous $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oor Install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Malik Audeh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Wireles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k.audeh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3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486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qua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domain equa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covery from inevitable deep f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odulation an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RF and modem at C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ceive diversit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not necessary in al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E6C6-DEF3-4BB0-91A9-5E3D59DDAC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638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rther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installation where link budget a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to standards-based IEEE 802.16a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IEEE process, no single-vendor architectu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baseband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RF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8B79-F583-42D4-B3C1-779559B50B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ice tiers improve operator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to serve ITFS licensees for more efficient spectrum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ed user         no streaming, no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560376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646A-D242-443B-ACE2-CF976875E0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715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ally Delayed 3G services are arriving with data as an add-on to v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speed, streaming data may have unknown effects to voice-based protoc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MA self-interference may have unknown effect on 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processing gain (robustness) for cap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0E0E-67F9-4211-8358-F09342DF89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867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905120"/>
          <a:ext cx="87184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905120"/>
                    <a:ext cx="87184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F6014-7E9B-473A-AD43-F497157422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91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’ goals a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, economical deployment strateg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mplete syst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learning curve of unproven technologies that have not even been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 second-generation system that is founded on a reliable, scalable, globally deployed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increases probability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2CCB-0402-4392-AC03-BA077C98C2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120" y="914040"/>
            <a:ext cx="5459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mand complete and econom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to me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D151F-6F4C-4064-9E05-1C1BC0297B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391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 Requirements for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S, 90%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cost CPE ($5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lled c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5DE4-F1D8-4FE1-A13B-8C7F1DCCB1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543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stall is a System-Wide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oice of $0 install affects virtually every architectural system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h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 Load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0479-F85D-418E-84E3-0EABF5BA4B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0 Instal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s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forming, complex phas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ul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, multi-use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$0 install is technically possible, but is only relevant if the product can be economically deployed to consumers and businesses on a timely basis to maximize market pene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034D-42C1-4BED-83E3-250ECA0F21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our Industry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OFD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CD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anten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roduct fit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025B-284E-4F9F-99F0-489EDDEBB6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of DSL and cable modem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+ year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ed build-as-you-grow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entir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-as-you-grow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9549-D200-4F1B-8AA8-40BDCA11CE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t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965240"/>
            <a:ext cx="3610080" cy="3535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4640" y="3666960"/>
            <a:ext cx="60120" cy="590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010280" y="2687760"/>
            <a:ext cx="687600" cy="687240"/>
            <a:chOff x="7010280" y="2687760"/>
            <a:chExt cx="687600" cy="687240"/>
          </a:xfrm>
        </p:grpSpPr>
        <p:sp>
          <p:nvSpPr>
            <p:cNvPr id="58" name=""/>
            <p:cNvSpPr/>
            <p:nvPr/>
          </p:nvSpPr>
          <p:spPr>
            <a:xfrm>
              <a:off x="7010280" y="2687760"/>
              <a:ext cx="68760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6520" y="302724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483320" y="2309760"/>
            <a:ext cx="687600" cy="687600"/>
            <a:chOff x="7483320" y="2309760"/>
            <a:chExt cx="687600" cy="687600"/>
          </a:xfrm>
        </p:grpSpPr>
        <p:sp>
          <p:nvSpPr>
            <p:cNvPr id="61" name=""/>
            <p:cNvSpPr/>
            <p:nvPr/>
          </p:nvSpPr>
          <p:spPr>
            <a:xfrm>
              <a:off x="7483320" y="230976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9560" y="26496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9560" y="3195720"/>
            <a:ext cx="687240" cy="687240"/>
            <a:chOff x="5389560" y="3195720"/>
            <a:chExt cx="687240" cy="687240"/>
          </a:xfrm>
        </p:grpSpPr>
        <p:sp>
          <p:nvSpPr>
            <p:cNvPr id="64" name=""/>
            <p:cNvSpPr/>
            <p:nvPr/>
          </p:nvSpPr>
          <p:spPr>
            <a:xfrm>
              <a:off x="5389560" y="319572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5800" y="35352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00760" y="4444920"/>
            <a:ext cx="687600" cy="687600"/>
            <a:chOff x="6800760" y="4444920"/>
            <a:chExt cx="687600" cy="687600"/>
          </a:xfrm>
        </p:grpSpPr>
        <p:sp>
          <p:nvSpPr>
            <p:cNvPr id="67" name=""/>
            <p:cNvSpPr/>
            <p:nvPr/>
          </p:nvSpPr>
          <p:spPr>
            <a:xfrm>
              <a:off x="6800760" y="444492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37000" y="47847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93120" y="2922480"/>
            <a:ext cx="687240" cy="687600"/>
            <a:chOff x="7593120" y="2922480"/>
            <a:chExt cx="687240" cy="687600"/>
          </a:xfrm>
        </p:grpSpPr>
        <p:sp>
          <p:nvSpPr>
            <p:cNvPr id="70" name=""/>
            <p:cNvSpPr/>
            <p:nvPr/>
          </p:nvSpPr>
          <p:spPr>
            <a:xfrm>
              <a:off x="7593120" y="2922480"/>
              <a:ext cx="68724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9360" y="326232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56360" y="4457880"/>
            <a:ext cx="687240" cy="687240"/>
            <a:chOff x="6156360" y="4457880"/>
            <a:chExt cx="687240" cy="687240"/>
          </a:xfrm>
        </p:grpSpPr>
        <p:sp>
          <p:nvSpPr>
            <p:cNvPr id="73" name=""/>
            <p:cNvSpPr/>
            <p:nvPr/>
          </p:nvSpPr>
          <p:spPr>
            <a:xfrm>
              <a:off x="6156360" y="445788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2600" y="47973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2468520"/>
            <a:ext cx="1295640" cy="1295640"/>
            <a:chOff x="2438280" y="2468520"/>
            <a:chExt cx="1295640" cy="1295640"/>
          </a:xfrm>
        </p:grpSpPr>
        <p:sp>
          <p:nvSpPr>
            <p:cNvPr id="76" name=""/>
            <p:cNvSpPr/>
            <p:nvPr/>
          </p:nvSpPr>
          <p:spPr>
            <a:xfrm>
              <a:off x="340812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812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0812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812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548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548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548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320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320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320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320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056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056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056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0320" y="310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320" y="2620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36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360" y="342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380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380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360" y="278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36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87400" y="5773680"/>
            <a:ext cx="318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to Market, Limited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35000"/>
            <a:ext cx="3610080" cy="353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7080" y="5773680"/>
            <a:ext cx="401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Market Coverage, Hotspot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6EBD5-904B-40EA-A5FE-73F0BDB922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6933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ing Ahead from a Solid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0,000 CPE proven on one base station, over 2,000 CPE proven on a single 6-MHz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Es deployed 1-35 miles from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high throughput under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disaster re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function despite interference and huma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50,000 lines of continually enhanced field-hardened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d architecture for stronge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support of multiple backhaul options (many TDMA protocols preclude RF backha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BC2B-A012-4899-87BB-553D28B4D7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6:26:27Z</dcterms:created>
  <dc:creator>audeh</dc:creator>
  <dc:description/>
  <dc:language>en-US</dc:language>
  <cp:lastModifiedBy>Karen Crain</cp:lastModifiedBy>
  <cp:lastPrinted>2002-02-08T19:22:59Z</cp:lastPrinted>
  <dcterms:modified xsi:type="dcterms:W3CDTF">2002-02-10T20:28:58Z</dcterms:modified>
  <cp:revision>46</cp:revision>
  <dc:subject/>
  <dc:title>What does the industry need?</dc:title>
</cp:coreProperties>
</file>