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4F41-49F3-4645-8702-A67B0607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5EBC-2C77-49C7-A366-421D5FF4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2410D-2536-4D61-84D4-E733F939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F8736-2FE5-4D78-8303-0A6B07A5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7D92-62A5-4F8E-A785-CDC0410F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6CB0-F621-4295-A5CF-FD3A0816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42C8-5CB5-4C91-A3F6-E39E404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62AF-5F84-41A8-B564-9674B298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BE39-8C4E-4E0C-8CFF-F195505D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4A0C-75DC-47E2-AA4B-E4754194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DF9F-9F9C-45BE-97B9-147982AF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262E-684E-465F-A061-FB0E1FCE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494C-AA25-4C2C-9BAE-2EE7267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5053-9909-448A-878D-9F7D6635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7715-8976-4B9C-BED7-3EE07BBC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1A523-865F-4029-B708-EF96A91C5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BFAB7-4FD1-470A-8E5F-EDD63365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055F-A0AC-46B7-87D6-398A5A9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A75F-200B-4604-A3EE-45512074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ED5C-E69A-4D34-B8F2-01657A8E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B6D60-D91B-4C4E-9D8D-81FD8F76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233D-9DF9-4B3D-B950-27227C47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B339-2F89-45C9-ACE5-EDCB83C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386DC-56AD-4C0F-AA27-E310496C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4A4B3-92F7-4522-AB5A-DB26687064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FAF7-417F-44A1-8105-52036C99D3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apertonet.com/index.htm" TargetMode="External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hyperlink" Target="http://www.axxcelera.com/index.htm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Unlicensed Multipoint Opera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: Reliability, Interference and Economic Viab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2120" y="55627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ert A. Campb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campbell@nscg.bi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s where infrastructure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side the DSL areas and access to copper or fiber is limi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business centers that need connectivity ab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of the “underserved” area cli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ill, vertical services would increase the penetration into market (VoIP, VPN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ess to rooftops and/or towers at lower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Mark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of wireless equipment doesn’t require high-density of population, but minimums needed to satisfy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mall Town USA” needs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argue it is needed here more because of a lack of access to metro market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nge of equipment can present coverage problems for UNII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pite this, success stories exist in “one-stoplight” tow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C report:  Broadband = &gt;200Kb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9.6 million high-speed subscribers as of June 30,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0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since the FCC released it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econd Re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6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crease during the first half of 200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8 Million (of 9.6 Million) subscribers are residential or small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news for fixed wirel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speed lines in service over satellite or fixed wireless technologies increased at the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fastest rat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3%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uring the first half of 2001, to nearly 200,000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04920" y="6477120"/>
            <a:ext cx="90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rce: www.fcc.gov/Bureaus/Common_Carrier/News_Releases/2002/nrcc0201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I Band equipment can and does provide more than adequate service and transport of advanc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trum is not that crowded,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size is still small, penetration rates growing rapid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ntastic opportunities for those who plan and execut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el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 it mea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time 99.999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&lt;5 minutes downtime each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ting in spite of weather, environmental or other characteristic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 does it just simply work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1600200"/>
            <a:ext cx="40384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4572000" y="2590920"/>
            <a:ext cx="44197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99.999%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lates roughly to 5 minutes 15 seconds of downtime per Y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’s 6 SECOND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you have a single outage of 2 hours, you will need 100% uptime for the next 23 years to achieve 99.99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achievable? Mayb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 Idea?  Absolu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:  This is an ideal goal that is rarely met, but striving to meet it provides great benefi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t of issues can be out of your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NII and the Environmen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I band, outdoors, frequency range 5.25GHz-5.35GHz and 5.725GHz-5.825G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ow 6GHz water and other weather phenomenon are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FCC regulations limit an effective transmission range to approximately 7 miles, curvature of the earth is generally not a conc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ghtning is one of our biggest concerns along with improperly terminated cables (which can be affected by weath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tom Line: The Environment can be manag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F Interference or Electromagnetic Interference (EM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ge impact on reli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I Band – 200MHz of spectru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M 2.4GHz – 83.5 MHz of spect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equipment available has sufficient channel plans to allow for multiple operators in the same RF space – the channel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ipment vendors are beginning to build interference mitigation into their produ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know what you’re sending and have a good idea on what you’re to receive, then block any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feren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02.11a – new kid on the bl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target:  Indoor Wireless LAN, could chan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indoor-only frequencies (5.15GHz – 5.25GHz) along with 5.25GHZ-5.35G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 the network, survey the RF landscape, document you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al recourse for malicious interference, but no recourse for other interfer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 to the equipment’s ability to reject interference as the landscape crow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4"/>
          <a:stretch/>
        </p:blipFill>
        <p:spPr>
          <a:xfrm>
            <a:off x="7238880" y="838080"/>
            <a:ext cx="1447920" cy="12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Does it work?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viously, YES!  You’re here aren’t you?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pping equipment with deployments and real world feedback have shown that equipment vendors are putting out quality produ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Back to hom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24480" y="2743200"/>
            <a:ext cx="1295640" cy="466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5"/>
          <a:stretch/>
        </p:blipFill>
        <p:spPr>
          <a:xfrm>
            <a:off x="4952880" y="4495680"/>
            <a:ext cx="1473480" cy="5270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9920" y="3581280"/>
            <a:ext cx="1904760" cy="33336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010280" y="4495680"/>
            <a:ext cx="1863720" cy="4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conomic Viability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able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:  Augmenting Fiber as it isn’t in every buil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urban: Where is the business?  Underserved?  Extending the Urban reach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:  Difficult due to ranges of equipment, but more cost effective in low density markets than anything e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Know what you’re getting in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ban Mar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Fiber and copper-based carri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umbent DSL, Cable Modem and low-cost point-to-point DS1/DS3 conne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cost of operations related to rooftops/tower leasing – permitt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nering is one 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dition of vertical services is key to maintaining value pro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5029200" y="2666880"/>
            <a:ext cx="36576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9T00:59:03Z</dcterms:created>
  <dc:creator>Robert A. Campbell</dc:creator>
  <dc:description/>
  <dc:language>en-US</dc:language>
  <cp:lastModifiedBy>Robert A. Campbell</cp:lastModifiedBy>
  <dcterms:modified xsi:type="dcterms:W3CDTF">2002-02-10T17:30:39Z</dcterms:modified>
  <cp:revision>14</cp:revision>
  <dc:subject/>
  <dc:title>Unlicensed Multipoint Oper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