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3.png" ContentType="image/png"/>
  <Override PartName="/ppt/media/image21.jpeg" ContentType="image/jpeg"/>
  <Override PartName="/ppt/media/image16.jpeg" ContentType="image/jpeg"/>
  <Override PartName="/ppt/media/image19.wmf" ContentType="image/x-wmf"/>
  <Override PartName="/ppt/media/image8.png" ContentType="image/png"/>
  <Override PartName="/ppt/media/image14.jpeg" ContentType="image/jpeg"/>
  <Override PartName="/ppt/media/image15.png" ContentType="image/png"/>
  <Override PartName="/ppt/media/image10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5.jpeg" ContentType="image/jpeg"/>
  <Override PartName="/ppt/media/image18.wmf" ContentType="image/x-wmf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189788" cy="95011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9912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150600" y="104004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4764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9912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150600" y="2436120"/>
            <a:ext cx="262008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2739600" y="748800"/>
            <a:ext cx="6203880" cy="188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17520" y="243612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4764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7520" y="1040040"/>
            <a:ext cx="397080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47640" y="2436120"/>
            <a:ext cx="8137440" cy="12747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indent="0">
              <a:lnSpc>
                <a:spcPct val="90000"/>
              </a:lnSpc>
              <a:spcBef>
                <a:spcPts val="11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brtopright4" descr=""/>
          <p:cNvPicPr/>
          <p:nvPr/>
        </p:nvPicPr>
        <p:blipFill>
          <a:blip r:embed="rId2"/>
          <a:stretch/>
        </p:blipFill>
        <p:spPr>
          <a:xfrm>
            <a:off x="3495600" y="0"/>
            <a:ext cx="5648400" cy="714240"/>
          </a:xfrm>
          <a:prstGeom prst="rect">
            <a:avLst/>
          </a:prstGeom>
          <a:ln w="0">
            <a:noFill/>
          </a:ln>
        </p:spPr>
      </p:pic>
      <p:pic>
        <p:nvPicPr>
          <p:cNvPr id="1" name="left_image" descr=""/>
          <p:cNvPicPr/>
          <p:nvPr/>
        </p:nvPicPr>
        <p:blipFill>
          <a:blip r:embed="rId3"/>
          <a:stretch/>
        </p:blipFill>
        <p:spPr>
          <a:xfrm>
            <a:off x="0" y="736560"/>
            <a:ext cx="2736720" cy="9637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7661160" y="6541920"/>
            <a:ext cx="11336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727680" y="6541920"/>
            <a:ext cx="946440" cy="21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47640" y="1040040"/>
            <a:ext cx="8137440" cy="2672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257480" indent="-17172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1542960" indent="-171360">
              <a:lnSpc>
                <a:spcPct val="90000"/>
              </a:lnSpc>
              <a:spcBef>
                <a:spcPts val="1125"/>
              </a:spcBef>
              <a:buClr>
                <a:srgbClr val="0034dc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1542960" indent="-171360">
              <a:lnSpc>
                <a:spcPct val="90000"/>
              </a:lnSpc>
              <a:spcBef>
                <a:spcPts val="1125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63408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beamreachcolor" descr=""/>
          <p:cNvPicPr/>
          <p:nvPr/>
        </p:nvPicPr>
        <p:blipFill>
          <a:blip r:embed="rId5"/>
          <a:stretch/>
        </p:blipFill>
        <p:spPr>
          <a:xfrm>
            <a:off x="446040" y="147600"/>
            <a:ext cx="2276640" cy="57636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457200" y="1123920"/>
            <a:ext cx="0" cy="553392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457200" y="11336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457200" y="6645240"/>
            <a:ext cx="8686800" cy="0"/>
          </a:xfrm>
          <a:prstGeom prst="line">
            <a:avLst/>
          </a:prstGeom>
          <a:ln w="936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8674200" y="6388200"/>
            <a:ext cx="469800" cy="469800"/>
          </a:xfrm>
          <a:prstGeom prst="rect">
            <a:avLst/>
          </a:prstGeom>
          <a:solidFill>
            <a:srgbClr val="fab13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8750160" y="6464160"/>
            <a:ext cx="330480" cy="330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481960" y="651204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A902F2-8CA7-4C88-A531-DC3DB0F35AB2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title" descr=""/>
          <p:cNvPicPr/>
          <p:nvPr/>
        </p:nvPicPr>
        <p:blipFill>
          <a:blip r:embed="rId2"/>
          <a:stretch/>
        </p:blipFill>
        <p:spPr>
          <a:xfrm>
            <a:off x="0" y="1654200"/>
            <a:ext cx="9144000" cy="374004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8462880" y="6515280"/>
            <a:ext cx="858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D0ABC2-E2AA-4C7F-B9BD-CF62E7D9E486}" type="slidenum">
              <a:rPr b="1" lang="en-US" sz="1100" spc="-1" strike="noStrike">
                <a:solidFill>
                  <a:srgbClr val="003399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beamreachcolor" descr=""/>
          <p:cNvPicPr/>
          <p:nvPr/>
        </p:nvPicPr>
        <p:blipFill>
          <a:blip r:embed="rId3"/>
          <a:stretch/>
        </p:blipFill>
        <p:spPr>
          <a:xfrm>
            <a:off x="1989000" y="2081160"/>
            <a:ext cx="2457720" cy="622440"/>
          </a:xfrm>
          <a:prstGeom prst="rect">
            <a:avLst/>
          </a:prstGeom>
          <a:ln w="0">
            <a:noFill/>
          </a:ln>
        </p:spPr>
      </p:pic>
      <p:pic>
        <p:nvPicPr>
          <p:cNvPr id="53" name="extending" descr=""/>
          <p:cNvPicPr/>
          <p:nvPr/>
        </p:nvPicPr>
        <p:blipFill>
          <a:blip r:embed="rId4"/>
          <a:stretch/>
        </p:blipFill>
        <p:spPr>
          <a:xfrm>
            <a:off x="4838760" y="2197080"/>
            <a:ext cx="2876400" cy="48888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9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99960" indent="0" algn="ctr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743040" algn="ctr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08576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371600" algn="ctr">
              <a:lnSpc>
                <a:spcPct val="90000"/>
              </a:lnSpc>
              <a:spcBef>
                <a:spcPts val="524"/>
              </a:spcBef>
              <a:buClr>
                <a:srgbClr val="0034dc"/>
              </a:buClr>
              <a:buFont typeface="Helvetic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371600">
              <a:spcBef>
                <a:spcPts val="349"/>
              </a:spcBef>
              <a:buClr>
                <a:srgbClr val="000000"/>
              </a:buClr>
              <a:buFont typeface="Helvetic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8.png"/><Relationship Id="rId3" Type="http://schemas.openxmlformats.org/officeDocument/2006/relationships/image" Target="../media/image8.png"/><Relationship Id="rId4" Type="http://schemas.openxmlformats.org/officeDocument/2006/relationships/image" Target="../media/image8.png"/><Relationship Id="rId5" Type="http://schemas.openxmlformats.org/officeDocument/2006/relationships/image" Target="../media/image8.png"/><Relationship Id="rId6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image" Target="../media/image11.jpeg"/><Relationship Id="rId8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13.png"/><Relationship Id="rId7" Type="http://schemas.openxmlformats.org/officeDocument/2006/relationships/image" Target="../media/image14.jpeg"/><Relationship Id="rId8" Type="http://schemas.openxmlformats.org/officeDocument/2006/relationships/oleObject" Target="../embeddings/oleObject2.bin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16.jpeg"/><Relationship Id="rId6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264600" y="3846600"/>
            <a:ext cx="4611240" cy="246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usiness Model with 2</a:t>
            </a:r>
            <a:r>
              <a:rPr b="1" lang="en-US" sz="1800" spc="-1" strike="noStrike" baseline="30000">
                <a:solidFill>
                  <a:srgbClr val="2632a8"/>
                </a:solidFill>
                <a:latin typeface="Arial"/>
              </a:rPr>
              <a:t>nd  </a:t>
            </a: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c0128"/>
                </a:solidFill>
                <a:latin typeface="Arial"/>
              </a:rPr>
              <a:t>4th</a:t>
            </a: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 Gener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Wireless Access Techn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632a8"/>
                </a:solidFill>
                <a:latin typeface="Arial"/>
              </a:rPr>
              <a:t>Bob Kelsch- Presid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roadband Wireless World For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February 12-14, 200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Anaheim, 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679840" y="3886200"/>
            <a:ext cx="266400" cy="241200"/>
          </a:xfrm>
          <a:prstGeom prst="line">
            <a:avLst/>
          </a:prstGeom>
          <a:ln w="28440">
            <a:solidFill>
              <a:srgbClr val="fc012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4" name=""/>
          <p:cNvGraphicFramePr/>
          <p:nvPr/>
        </p:nvGraphicFramePr>
        <p:xfrm>
          <a:off x="3654360" y="466560"/>
          <a:ext cx="1428840" cy="97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654360" y="466560"/>
                    <a:ext cx="1428840" cy="97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2876400" y="800280"/>
            <a:ext cx="6204240" cy="406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pectral Efficienc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spectraleffeiciencys" descr=""/>
          <p:cNvPicPr/>
          <p:nvPr/>
        </p:nvPicPr>
        <p:blipFill>
          <a:blip r:embed="rId1"/>
          <a:stretch/>
        </p:blipFill>
        <p:spPr>
          <a:xfrm>
            <a:off x="723960" y="1635120"/>
            <a:ext cx="7762680" cy="3622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ity Model- Assumptions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469880" y="63360"/>
            <a:ext cx="6204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266840" y="1317600"/>
            <a:ext cx="3160800" cy="160704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opulation: 1,25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s: 520 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sinesses: 10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rea: 2300 Sq.Mi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85840" indent="-28584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3657600"/>
                <a:tab algn="r" pos="635004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useholds/Sq. Mi.: 22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1284120" y="3079800"/>
            <a:ext cx="6821280" cy="3103200"/>
            <a:chOff x="1284120" y="3079800"/>
            <a:chExt cx="6821280" cy="3103200"/>
          </a:xfrm>
        </p:grpSpPr>
        <p:grpSp>
          <p:nvGrpSpPr>
            <p:cNvPr id="172" name=""/>
            <p:cNvGrpSpPr/>
            <p:nvPr/>
          </p:nvGrpSpPr>
          <p:grpSpPr>
            <a:xfrm>
              <a:off x="1288800" y="3084480"/>
              <a:ext cx="6810840" cy="3092760"/>
              <a:chOff x="1288800" y="3084480"/>
              <a:chExt cx="6810840" cy="3092760"/>
            </a:xfrm>
          </p:grpSpPr>
          <p:grpSp>
            <p:nvGrpSpPr>
              <p:cNvPr id="173" name=""/>
              <p:cNvGrpSpPr/>
              <p:nvPr/>
            </p:nvGrpSpPr>
            <p:grpSpPr>
              <a:xfrm>
                <a:off x="1288800" y="3084480"/>
                <a:ext cx="1908360" cy="676080"/>
                <a:chOff x="1288800" y="3084480"/>
                <a:chExt cx="1908360" cy="676080"/>
              </a:xfrm>
            </p:grpSpPr>
            <p:sp>
              <p:nvSpPr>
                <p:cNvPr id="174" name=""/>
                <p:cNvSpPr/>
                <p:nvPr/>
              </p:nvSpPr>
              <p:spPr>
                <a:xfrm>
                  <a:off x="1288800" y="3084480"/>
                  <a:ext cx="190836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75" name=""/>
                <p:cNvGrpSpPr/>
                <p:nvPr/>
              </p:nvGrpSpPr>
              <p:grpSpPr>
                <a:xfrm>
                  <a:off x="1288800" y="3084480"/>
                  <a:ext cx="1908000" cy="675720"/>
                  <a:chOff x="1288800" y="3084480"/>
                  <a:chExt cx="1908000" cy="675720"/>
                </a:xfrm>
              </p:grpSpPr>
              <p:sp>
                <p:nvSpPr>
                  <p:cNvPr id="176" name=""/>
                  <p:cNvSpPr/>
                  <p:nvPr/>
                </p:nvSpPr>
                <p:spPr>
                  <a:xfrm>
                    <a:off x="1360800" y="3084480"/>
                    <a:ext cx="176364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7" name=""/>
                  <p:cNvSpPr/>
                  <p:nvPr/>
                </p:nvSpPr>
                <p:spPr>
                  <a:xfrm>
                    <a:off x="1288800" y="3084480"/>
                    <a:ext cx="190800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78" name=""/>
              <p:cNvGrpSpPr/>
              <p:nvPr/>
            </p:nvGrpSpPr>
            <p:grpSpPr>
              <a:xfrm>
                <a:off x="3197520" y="3084480"/>
                <a:ext cx="979920" cy="676080"/>
                <a:chOff x="3197520" y="3084480"/>
                <a:chExt cx="979920" cy="67608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19752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0" name=""/>
                <p:cNvGrpSpPr/>
                <p:nvPr/>
              </p:nvGrpSpPr>
              <p:grpSpPr>
                <a:xfrm>
                  <a:off x="3197520" y="3084480"/>
                  <a:ext cx="979560" cy="675720"/>
                  <a:chOff x="3197520" y="3084480"/>
                  <a:chExt cx="979560" cy="675720"/>
                </a:xfrm>
              </p:grpSpPr>
              <p:sp>
                <p:nvSpPr>
                  <p:cNvPr id="181" name=""/>
                  <p:cNvSpPr/>
                  <p:nvPr/>
                </p:nvSpPr>
                <p:spPr>
                  <a:xfrm>
                    <a:off x="3269160" y="3084480"/>
                    <a:ext cx="83592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1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2" name=""/>
                  <p:cNvSpPr/>
                  <p:nvPr/>
                </p:nvSpPr>
                <p:spPr>
                  <a:xfrm>
                    <a:off x="319752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3" name=""/>
              <p:cNvGrpSpPr/>
              <p:nvPr/>
            </p:nvGrpSpPr>
            <p:grpSpPr>
              <a:xfrm>
                <a:off x="4178160" y="3084480"/>
                <a:ext cx="979920" cy="676080"/>
                <a:chOff x="4178160" y="3084480"/>
                <a:chExt cx="979920" cy="676080"/>
              </a:xfrm>
            </p:grpSpPr>
            <p:sp>
              <p:nvSpPr>
                <p:cNvPr id="184" name=""/>
                <p:cNvSpPr/>
                <p:nvPr/>
              </p:nvSpPr>
              <p:spPr>
                <a:xfrm>
                  <a:off x="417816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5" name=""/>
                <p:cNvGrpSpPr/>
                <p:nvPr/>
              </p:nvGrpSpPr>
              <p:grpSpPr>
                <a:xfrm>
                  <a:off x="4178160" y="3084480"/>
                  <a:ext cx="979560" cy="675720"/>
                  <a:chOff x="4178160" y="3084480"/>
                  <a:chExt cx="979560" cy="675720"/>
                </a:xfrm>
              </p:grpSpPr>
              <p:sp>
                <p:nvSpPr>
                  <p:cNvPr id="186" name=""/>
                  <p:cNvSpPr/>
                  <p:nvPr/>
                </p:nvSpPr>
                <p:spPr>
                  <a:xfrm>
                    <a:off x="425016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2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87" name=""/>
                  <p:cNvSpPr/>
                  <p:nvPr/>
                </p:nvSpPr>
                <p:spPr>
                  <a:xfrm>
                    <a:off x="417816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88" name=""/>
              <p:cNvGrpSpPr/>
              <p:nvPr/>
            </p:nvGrpSpPr>
            <p:grpSpPr>
              <a:xfrm>
                <a:off x="5158440" y="3084480"/>
                <a:ext cx="980280" cy="676080"/>
                <a:chOff x="5158440" y="3084480"/>
                <a:chExt cx="980280" cy="676080"/>
              </a:xfrm>
            </p:grpSpPr>
            <p:sp>
              <p:nvSpPr>
                <p:cNvPr id="189" name=""/>
                <p:cNvSpPr/>
                <p:nvPr/>
              </p:nvSpPr>
              <p:spPr>
                <a:xfrm>
                  <a:off x="5158440" y="3084480"/>
                  <a:ext cx="98028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0" name=""/>
                <p:cNvGrpSpPr/>
                <p:nvPr/>
              </p:nvGrpSpPr>
              <p:grpSpPr>
                <a:xfrm>
                  <a:off x="5158440" y="3084480"/>
                  <a:ext cx="979920" cy="675720"/>
                  <a:chOff x="5158440" y="3084480"/>
                  <a:chExt cx="979920" cy="675720"/>
                </a:xfrm>
              </p:grpSpPr>
              <p:sp>
                <p:nvSpPr>
                  <p:cNvPr id="191" name=""/>
                  <p:cNvSpPr/>
                  <p:nvPr/>
                </p:nvSpPr>
                <p:spPr>
                  <a:xfrm>
                    <a:off x="523044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3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2" name=""/>
                  <p:cNvSpPr/>
                  <p:nvPr/>
                </p:nvSpPr>
                <p:spPr>
                  <a:xfrm>
                    <a:off x="5158440" y="3084480"/>
                    <a:ext cx="97992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3" name=""/>
              <p:cNvGrpSpPr/>
              <p:nvPr/>
            </p:nvGrpSpPr>
            <p:grpSpPr>
              <a:xfrm>
                <a:off x="6139440" y="3084480"/>
                <a:ext cx="979920" cy="676080"/>
                <a:chOff x="6139440" y="3084480"/>
                <a:chExt cx="979920" cy="676080"/>
              </a:xfrm>
            </p:grpSpPr>
            <p:sp>
              <p:nvSpPr>
                <p:cNvPr id="194" name=""/>
                <p:cNvSpPr/>
                <p:nvPr/>
              </p:nvSpPr>
              <p:spPr>
                <a:xfrm>
                  <a:off x="613944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95" name=""/>
                <p:cNvGrpSpPr/>
                <p:nvPr/>
              </p:nvGrpSpPr>
              <p:grpSpPr>
                <a:xfrm>
                  <a:off x="6139440" y="3084480"/>
                  <a:ext cx="979560" cy="675720"/>
                  <a:chOff x="6139440" y="3084480"/>
                  <a:chExt cx="979560" cy="67572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621108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4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613944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198" name=""/>
              <p:cNvGrpSpPr/>
              <p:nvPr/>
            </p:nvGrpSpPr>
            <p:grpSpPr>
              <a:xfrm>
                <a:off x="7119720" y="3084480"/>
                <a:ext cx="979920" cy="676080"/>
                <a:chOff x="7119720" y="3084480"/>
                <a:chExt cx="979920" cy="676080"/>
              </a:xfrm>
            </p:grpSpPr>
            <p:sp>
              <p:nvSpPr>
                <p:cNvPr id="199" name=""/>
                <p:cNvSpPr/>
                <p:nvPr/>
              </p:nvSpPr>
              <p:spPr>
                <a:xfrm>
                  <a:off x="7119720" y="3084480"/>
                  <a:ext cx="979920" cy="6760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00" name=""/>
                <p:cNvGrpSpPr/>
                <p:nvPr/>
              </p:nvGrpSpPr>
              <p:grpSpPr>
                <a:xfrm>
                  <a:off x="7119720" y="3084480"/>
                  <a:ext cx="979560" cy="675720"/>
                  <a:chOff x="7119720" y="3084480"/>
                  <a:chExt cx="979560" cy="675720"/>
                </a:xfrm>
              </p:grpSpPr>
              <p:sp>
                <p:nvSpPr>
                  <p:cNvPr id="201" name=""/>
                  <p:cNvSpPr/>
                  <p:nvPr/>
                </p:nvSpPr>
                <p:spPr>
                  <a:xfrm>
                    <a:off x="7191720" y="3084480"/>
                    <a:ext cx="835560" cy="67572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6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Year 5</a:t>
                    </a: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6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2" name=""/>
                  <p:cNvSpPr/>
                  <p:nvPr/>
                </p:nvSpPr>
                <p:spPr>
                  <a:xfrm>
                    <a:off x="7119720" y="3084480"/>
                    <a:ext cx="979560" cy="67572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03" name=""/>
              <p:cNvGrpSpPr/>
              <p:nvPr/>
            </p:nvGrpSpPr>
            <p:grpSpPr>
              <a:xfrm>
                <a:off x="1288800" y="3760920"/>
                <a:ext cx="1908360" cy="676080"/>
                <a:chOff x="1288800" y="3760920"/>
                <a:chExt cx="1908360" cy="676080"/>
              </a:xfrm>
            </p:grpSpPr>
            <p:sp>
              <p:nvSpPr>
                <p:cNvPr id="204" name=""/>
                <p:cNvSpPr/>
                <p:nvPr/>
              </p:nvSpPr>
              <p:spPr>
                <a:xfrm>
                  <a:off x="1360800" y="3760920"/>
                  <a:ext cx="176400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Household served (%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1288800" y="3760920"/>
                  <a:ext cx="190836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6" name=""/>
              <p:cNvGrpSpPr/>
              <p:nvPr/>
            </p:nvGrpSpPr>
            <p:grpSpPr>
              <a:xfrm>
                <a:off x="3197520" y="3760920"/>
                <a:ext cx="979920" cy="676080"/>
                <a:chOff x="3197520" y="3760920"/>
                <a:chExt cx="979920" cy="676080"/>
              </a:xfrm>
            </p:grpSpPr>
            <p:sp>
              <p:nvSpPr>
                <p:cNvPr id="207" name=""/>
                <p:cNvSpPr/>
                <p:nvPr/>
              </p:nvSpPr>
              <p:spPr>
                <a:xfrm>
                  <a:off x="3269160" y="3760920"/>
                  <a:ext cx="83628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319752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09" name=""/>
              <p:cNvGrpSpPr/>
              <p:nvPr/>
            </p:nvGrpSpPr>
            <p:grpSpPr>
              <a:xfrm>
                <a:off x="4178160" y="3760920"/>
                <a:ext cx="979920" cy="676080"/>
                <a:chOff x="4178160" y="3760920"/>
                <a:chExt cx="979920" cy="676080"/>
              </a:xfrm>
            </p:grpSpPr>
            <p:sp>
              <p:nvSpPr>
                <p:cNvPr id="210" name=""/>
                <p:cNvSpPr/>
                <p:nvPr/>
              </p:nvSpPr>
              <p:spPr>
                <a:xfrm>
                  <a:off x="425016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6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417816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2" name=""/>
              <p:cNvGrpSpPr/>
              <p:nvPr/>
            </p:nvGrpSpPr>
            <p:grpSpPr>
              <a:xfrm>
                <a:off x="5158440" y="3760920"/>
                <a:ext cx="980280" cy="676080"/>
                <a:chOff x="5158440" y="3760920"/>
                <a:chExt cx="980280" cy="676080"/>
              </a:xfrm>
            </p:grpSpPr>
            <p:sp>
              <p:nvSpPr>
                <p:cNvPr id="213" name=""/>
                <p:cNvSpPr/>
                <p:nvPr/>
              </p:nvSpPr>
              <p:spPr>
                <a:xfrm>
                  <a:off x="523044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1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5158440" y="3760920"/>
                  <a:ext cx="98028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5" name=""/>
              <p:cNvGrpSpPr/>
              <p:nvPr/>
            </p:nvGrpSpPr>
            <p:grpSpPr>
              <a:xfrm>
                <a:off x="6139440" y="3760920"/>
                <a:ext cx="979920" cy="676080"/>
                <a:chOff x="6139440" y="3760920"/>
                <a:chExt cx="979920" cy="676080"/>
              </a:xfrm>
            </p:grpSpPr>
            <p:sp>
              <p:nvSpPr>
                <p:cNvPr id="216" name=""/>
                <p:cNvSpPr/>
                <p:nvPr/>
              </p:nvSpPr>
              <p:spPr>
                <a:xfrm>
                  <a:off x="621108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16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613944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18" name=""/>
              <p:cNvGrpSpPr/>
              <p:nvPr/>
            </p:nvGrpSpPr>
            <p:grpSpPr>
              <a:xfrm>
                <a:off x="7119720" y="3760920"/>
                <a:ext cx="979920" cy="676080"/>
                <a:chOff x="7119720" y="3760920"/>
                <a:chExt cx="979920" cy="676080"/>
              </a:xfrm>
            </p:grpSpPr>
            <p:sp>
              <p:nvSpPr>
                <p:cNvPr id="219" name=""/>
                <p:cNvSpPr/>
                <p:nvPr/>
              </p:nvSpPr>
              <p:spPr>
                <a:xfrm>
                  <a:off x="7191720" y="3760920"/>
                  <a:ext cx="835920" cy="67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0%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0" name=""/>
                <p:cNvSpPr/>
                <p:nvPr/>
              </p:nvSpPr>
              <p:spPr>
                <a:xfrm>
                  <a:off x="7119720" y="3760920"/>
                  <a:ext cx="979920" cy="6760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1" name=""/>
              <p:cNvGrpSpPr/>
              <p:nvPr/>
            </p:nvGrpSpPr>
            <p:grpSpPr>
              <a:xfrm>
                <a:off x="1288800" y="4437720"/>
                <a:ext cx="1908360" cy="869400"/>
                <a:chOff x="1288800" y="4437720"/>
                <a:chExt cx="1908360" cy="869400"/>
              </a:xfrm>
            </p:grpSpPr>
            <p:sp>
              <p:nvSpPr>
                <p:cNvPr id="222" name=""/>
                <p:cNvSpPr/>
                <p:nvPr/>
              </p:nvSpPr>
              <p:spPr>
                <a:xfrm>
                  <a:off x="1360800" y="4437720"/>
                  <a:ext cx="176400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residential subscrib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"/>
                <p:cNvSpPr/>
                <p:nvPr/>
              </p:nvSpPr>
              <p:spPr>
                <a:xfrm>
                  <a:off x="1288800" y="4437720"/>
                  <a:ext cx="190836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4" name=""/>
              <p:cNvGrpSpPr/>
              <p:nvPr/>
            </p:nvGrpSpPr>
            <p:grpSpPr>
              <a:xfrm>
                <a:off x="3197520" y="4437720"/>
                <a:ext cx="979920" cy="869400"/>
                <a:chOff x="3197520" y="4437720"/>
                <a:chExt cx="979920" cy="86940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3269160" y="4437720"/>
                  <a:ext cx="83628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>
                  <a:off x="319752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27" name=""/>
              <p:cNvGrpSpPr/>
              <p:nvPr/>
            </p:nvGrpSpPr>
            <p:grpSpPr>
              <a:xfrm>
                <a:off x="4178160" y="4437720"/>
                <a:ext cx="979920" cy="869400"/>
                <a:chOff x="4178160" y="4437720"/>
                <a:chExt cx="979920" cy="8694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25016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6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17816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0" name=""/>
              <p:cNvGrpSpPr/>
              <p:nvPr/>
            </p:nvGrpSpPr>
            <p:grpSpPr>
              <a:xfrm>
                <a:off x="5158440" y="4437720"/>
                <a:ext cx="980280" cy="869400"/>
                <a:chOff x="5158440" y="4437720"/>
                <a:chExt cx="980280" cy="869400"/>
              </a:xfrm>
            </p:grpSpPr>
            <p:sp>
              <p:nvSpPr>
                <p:cNvPr id="231" name=""/>
                <p:cNvSpPr/>
                <p:nvPr/>
              </p:nvSpPr>
              <p:spPr>
                <a:xfrm>
                  <a:off x="523044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53,3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2" name=""/>
                <p:cNvSpPr/>
                <p:nvPr/>
              </p:nvSpPr>
              <p:spPr>
                <a:xfrm>
                  <a:off x="5158440" y="4437720"/>
                  <a:ext cx="98028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3" name=""/>
              <p:cNvGrpSpPr/>
              <p:nvPr/>
            </p:nvGrpSpPr>
            <p:grpSpPr>
              <a:xfrm>
                <a:off x="6139440" y="4437720"/>
                <a:ext cx="979920" cy="869400"/>
                <a:chOff x="6139440" y="4437720"/>
                <a:chExt cx="979920" cy="86940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621108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2,7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613944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6" name=""/>
              <p:cNvGrpSpPr/>
              <p:nvPr/>
            </p:nvGrpSpPr>
            <p:grpSpPr>
              <a:xfrm>
                <a:off x="7119720" y="4437720"/>
                <a:ext cx="979920" cy="869400"/>
                <a:chOff x="7119720" y="4437720"/>
                <a:chExt cx="979920" cy="869400"/>
              </a:xfrm>
            </p:grpSpPr>
            <p:sp>
              <p:nvSpPr>
                <p:cNvPr id="237" name=""/>
                <p:cNvSpPr/>
                <p:nvPr/>
              </p:nvSpPr>
              <p:spPr>
                <a:xfrm>
                  <a:off x="7191720" y="4437720"/>
                  <a:ext cx="835920" cy="869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2,100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"/>
                <p:cNvSpPr/>
                <p:nvPr/>
              </p:nvSpPr>
              <p:spPr>
                <a:xfrm>
                  <a:off x="7119720" y="4437720"/>
                  <a:ext cx="979920" cy="86940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9" name=""/>
              <p:cNvGrpSpPr/>
              <p:nvPr/>
            </p:nvGrpSpPr>
            <p:grpSpPr>
              <a:xfrm>
                <a:off x="1288800" y="5307480"/>
                <a:ext cx="1908360" cy="869760"/>
                <a:chOff x="1288800" y="5307480"/>
                <a:chExt cx="1908360" cy="869760"/>
              </a:xfrm>
            </p:grpSpPr>
            <p:sp>
              <p:nvSpPr>
                <p:cNvPr id="240" name=""/>
                <p:cNvSpPr/>
                <p:nvPr/>
              </p:nvSpPr>
              <p:spPr>
                <a:xfrm>
                  <a:off x="1360800" y="5307480"/>
                  <a:ext cx="176400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Number of business subscribers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>
                  <a:off x="1288800" y="5307480"/>
                  <a:ext cx="190836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2" name=""/>
              <p:cNvGrpSpPr/>
              <p:nvPr/>
            </p:nvGrpSpPr>
            <p:grpSpPr>
              <a:xfrm>
                <a:off x="3197520" y="5307480"/>
                <a:ext cx="979920" cy="869760"/>
                <a:chOff x="3197520" y="5307480"/>
                <a:chExt cx="979920" cy="8697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269160" y="5307480"/>
                  <a:ext cx="83628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84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19752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5" name=""/>
              <p:cNvGrpSpPr/>
              <p:nvPr/>
            </p:nvGrpSpPr>
            <p:grpSpPr>
              <a:xfrm>
                <a:off x="4178160" y="5307480"/>
                <a:ext cx="979920" cy="869760"/>
                <a:chOff x="4178160" y="5307480"/>
                <a:chExt cx="979920" cy="869760"/>
              </a:xfrm>
            </p:grpSpPr>
            <p:sp>
              <p:nvSpPr>
                <p:cNvPr id="246" name=""/>
                <p:cNvSpPr/>
                <p:nvPr/>
              </p:nvSpPr>
              <p:spPr>
                <a:xfrm>
                  <a:off x="425016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2,625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7" name=""/>
                <p:cNvSpPr/>
                <p:nvPr/>
              </p:nvSpPr>
              <p:spPr>
                <a:xfrm>
                  <a:off x="417816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48" name=""/>
              <p:cNvGrpSpPr/>
              <p:nvPr/>
            </p:nvGrpSpPr>
            <p:grpSpPr>
              <a:xfrm>
                <a:off x="5158440" y="5307480"/>
                <a:ext cx="980280" cy="869760"/>
                <a:chOff x="5158440" y="5307480"/>
                <a:chExt cx="980280" cy="869760"/>
              </a:xfrm>
            </p:grpSpPr>
            <p:sp>
              <p:nvSpPr>
                <p:cNvPr id="249" name=""/>
                <p:cNvSpPr/>
                <p:nvPr/>
              </p:nvSpPr>
              <p:spPr>
                <a:xfrm>
                  <a:off x="523044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4,921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>
                  <a:off x="5158440" y="5307480"/>
                  <a:ext cx="98028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1" name=""/>
              <p:cNvGrpSpPr/>
              <p:nvPr/>
            </p:nvGrpSpPr>
            <p:grpSpPr>
              <a:xfrm>
                <a:off x="6139440" y="5307480"/>
                <a:ext cx="979920" cy="869760"/>
                <a:chOff x="6139440" y="5307480"/>
                <a:chExt cx="979920" cy="869760"/>
              </a:xfrm>
            </p:grpSpPr>
            <p:sp>
              <p:nvSpPr>
                <p:cNvPr id="252" name=""/>
                <p:cNvSpPr/>
                <p:nvPr/>
              </p:nvSpPr>
              <p:spPr>
                <a:xfrm>
                  <a:off x="621108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7,218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3" name=""/>
                <p:cNvSpPr/>
                <p:nvPr/>
              </p:nvSpPr>
              <p:spPr>
                <a:xfrm>
                  <a:off x="613944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4" name=""/>
              <p:cNvGrpSpPr/>
              <p:nvPr/>
            </p:nvGrpSpPr>
            <p:grpSpPr>
              <a:xfrm>
                <a:off x="7119720" y="5307480"/>
                <a:ext cx="979920" cy="869760"/>
                <a:chOff x="7119720" y="5307480"/>
                <a:chExt cx="979920" cy="869760"/>
              </a:xfrm>
            </p:grpSpPr>
            <p:sp>
              <p:nvSpPr>
                <p:cNvPr id="255" name=""/>
                <p:cNvSpPr/>
                <p:nvPr/>
              </p:nvSpPr>
              <p:spPr>
                <a:xfrm>
                  <a:off x="7191720" y="5307480"/>
                  <a:ext cx="835920" cy="869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9,187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56" name=""/>
                <p:cNvSpPr/>
                <p:nvPr/>
              </p:nvSpPr>
              <p:spPr>
                <a:xfrm>
                  <a:off x="7119720" y="5307480"/>
                  <a:ext cx="979920" cy="86976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57" name=""/>
            <p:cNvSpPr/>
            <p:nvPr/>
          </p:nvSpPr>
          <p:spPr>
            <a:xfrm>
              <a:off x="1284120" y="3079800"/>
              <a:ext cx="6821280" cy="31032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8" name=""/>
          <p:cNvSpPr/>
          <p:nvPr/>
        </p:nvSpPr>
        <p:spPr>
          <a:xfrm>
            <a:off x="3635280" y="6094440"/>
            <a:ext cx="2654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2a8"/>
                </a:solidFill>
                <a:latin typeface="Times New Roman"/>
                <a:ea typeface="Times New Roman"/>
              </a:rPr>
              <a:t>Service Roll-ou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umptions  (cont’d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"/>
          <p:cNvGrpSpPr/>
          <p:nvPr/>
        </p:nvGrpSpPr>
        <p:grpSpPr>
          <a:xfrm>
            <a:off x="1220760" y="1571760"/>
            <a:ext cx="6127560" cy="2433600"/>
            <a:chOff x="1220760" y="1571760"/>
            <a:chExt cx="6127560" cy="2433600"/>
          </a:xfrm>
        </p:grpSpPr>
        <p:grpSp>
          <p:nvGrpSpPr>
            <p:cNvPr id="261" name=""/>
            <p:cNvGrpSpPr/>
            <p:nvPr/>
          </p:nvGrpSpPr>
          <p:grpSpPr>
            <a:xfrm>
              <a:off x="1225440" y="1576080"/>
              <a:ext cx="6117120" cy="2423880"/>
              <a:chOff x="1225440" y="1576080"/>
              <a:chExt cx="6117120" cy="242388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1225440" y="1576080"/>
                <a:ext cx="2466720" cy="605880"/>
                <a:chOff x="1225440" y="1576080"/>
                <a:chExt cx="2466720" cy="60588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1225440" y="1576080"/>
                  <a:ext cx="246672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4" name=""/>
                <p:cNvGrpSpPr/>
                <p:nvPr/>
              </p:nvGrpSpPr>
              <p:grpSpPr>
                <a:xfrm>
                  <a:off x="1225440" y="1576080"/>
                  <a:ext cx="2466360" cy="605880"/>
                  <a:chOff x="1225440" y="1576080"/>
                  <a:chExt cx="2466360" cy="605880"/>
                </a:xfrm>
              </p:grpSpPr>
              <p:sp>
                <p:nvSpPr>
                  <p:cNvPr id="265" name=""/>
                  <p:cNvSpPr/>
                  <p:nvPr/>
                </p:nvSpPr>
                <p:spPr>
                  <a:xfrm>
                    <a:off x="1294560" y="1576080"/>
                    <a:ext cx="232776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 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1225440" y="1576080"/>
                    <a:ext cx="246636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67" name=""/>
              <p:cNvGrpSpPr/>
              <p:nvPr/>
            </p:nvGrpSpPr>
            <p:grpSpPr>
              <a:xfrm>
                <a:off x="3692520" y="1576080"/>
                <a:ext cx="1824840" cy="605880"/>
                <a:chOff x="3692520" y="1576080"/>
                <a:chExt cx="1824840" cy="60588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3692520" y="1576080"/>
                  <a:ext cx="182484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69" name=""/>
                <p:cNvGrpSpPr/>
                <p:nvPr/>
              </p:nvGrpSpPr>
              <p:grpSpPr>
                <a:xfrm>
                  <a:off x="3692520" y="1576080"/>
                  <a:ext cx="1824480" cy="605880"/>
                  <a:chOff x="3692520" y="1576080"/>
                  <a:chExt cx="1824480" cy="605880"/>
                </a:xfrm>
              </p:grpSpPr>
              <p:sp>
                <p:nvSpPr>
                  <p:cNvPr id="270" name=""/>
                  <p:cNvSpPr/>
                  <p:nvPr/>
                </p:nvSpPr>
                <p:spPr>
                  <a:xfrm>
                    <a:off x="3761640" y="1576080"/>
                    <a:ext cx="168588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Residential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1" name=""/>
                  <p:cNvSpPr/>
                  <p:nvPr/>
                </p:nvSpPr>
                <p:spPr>
                  <a:xfrm>
                    <a:off x="3692520" y="1576080"/>
                    <a:ext cx="182448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2" name=""/>
              <p:cNvGrpSpPr/>
              <p:nvPr/>
            </p:nvGrpSpPr>
            <p:grpSpPr>
              <a:xfrm>
                <a:off x="5518080" y="1576080"/>
                <a:ext cx="1824480" cy="605880"/>
                <a:chOff x="5518080" y="1576080"/>
                <a:chExt cx="1824480" cy="605880"/>
              </a:xfrm>
            </p:grpSpPr>
            <p:sp>
              <p:nvSpPr>
                <p:cNvPr id="273" name=""/>
                <p:cNvSpPr/>
                <p:nvPr/>
              </p:nvSpPr>
              <p:spPr>
                <a:xfrm>
                  <a:off x="5518080" y="1576080"/>
                  <a:ext cx="1824480" cy="605880"/>
                </a:xfrm>
                <a:prstGeom prst="rect">
                  <a:avLst/>
                </a:prstGeom>
                <a:solidFill>
                  <a:srgbClr val="c0c0c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4" name=""/>
                <p:cNvGrpSpPr/>
                <p:nvPr/>
              </p:nvGrpSpPr>
              <p:grpSpPr>
                <a:xfrm>
                  <a:off x="5518080" y="1576080"/>
                  <a:ext cx="1824120" cy="605880"/>
                  <a:chOff x="5518080" y="1576080"/>
                  <a:chExt cx="1824120" cy="605880"/>
                </a:xfrm>
              </p:grpSpPr>
              <p:sp>
                <p:nvSpPr>
                  <p:cNvPr id="275" name=""/>
                  <p:cNvSpPr/>
                  <p:nvPr/>
                </p:nvSpPr>
                <p:spPr>
                  <a:xfrm>
                    <a:off x="5586840" y="1576080"/>
                    <a:ext cx="1686240" cy="605880"/>
                  </a:xfrm>
                  <a:prstGeom prst="rect">
                    <a:avLst/>
                  </a:prstGeom>
                  <a:solidFill>
                    <a:srgbClr val="c0c0c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000000"/>
                        </a:solidFill>
                        <a:latin typeface="Times New Roman"/>
                        <a:ea typeface="Times New Roman"/>
                      </a:rPr>
                      <a:t>Business</a:t>
                    </a: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0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76" name=""/>
                  <p:cNvSpPr/>
                  <p:nvPr/>
                </p:nvSpPr>
                <p:spPr>
                  <a:xfrm>
                    <a:off x="5518080" y="1576080"/>
                    <a:ext cx="1824120" cy="605880"/>
                  </a:xfrm>
                  <a:prstGeom prst="rect">
                    <a:avLst/>
                  </a:prstGeom>
                  <a:noFill/>
                  <a:ln w="0">
                    <a:solidFill>
                      <a:srgbClr val="a0a0a0"/>
                    </a:solidFill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7" name=""/>
              <p:cNvGrpSpPr/>
              <p:nvPr/>
            </p:nvGrpSpPr>
            <p:grpSpPr>
              <a:xfrm>
                <a:off x="1225440" y="2181960"/>
                <a:ext cx="2466720" cy="605880"/>
                <a:chOff x="1225440" y="2181960"/>
                <a:chExt cx="2466720" cy="605880"/>
              </a:xfrm>
            </p:grpSpPr>
            <p:sp>
              <p:nvSpPr>
                <p:cNvPr id="278" name=""/>
                <p:cNvSpPr/>
                <p:nvPr/>
              </p:nvSpPr>
              <p:spPr>
                <a:xfrm>
                  <a:off x="1294560" y="218196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Servic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6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(1.5 Mb/s / 1.2 Mb/s)</a:t>
                  </a: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6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9" name=""/>
                <p:cNvSpPr/>
                <p:nvPr/>
              </p:nvSpPr>
              <p:spPr>
                <a:xfrm>
                  <a:off x="1225440" y="218196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0" name=""/>
              <p:cNvGrpSpPr/>
              <p:nvPr/>
            </p:nvGrpSpPr>
            <p:grpSpPr>
              <a:xfrm>
                <a:off x="3692520" y="2181960"/>
                <a:ext cx="1824840" cy="605880"/>
                <a:chOff x="3692520" y="2181960"/>
                <a:chExt cx="1824840" cy="605880"/>
              </a:xfrm>
            </p:grpSpPr>
            <p:sp>
              <p:nvSpPr>
                <p:cNvPr id="281" name=""/>
                <p:cNvSpPr/>
                <p:nvPr/>
              </p:nvSpPr>
              <p:spPr>
                <a:xfrm>
                  <a:off x="3761640" y="218196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 49/ 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2" name=""/>
                <p:cNvSpPr/>
                <p:nvPr/>
              </p:nvSpPr>
              <p:spPr>
                <a:xfrm>
                  <a:off x="3692520" y="218196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3" name=""/>
              <p:cNvGrpSpPr/>
              <p:nvPr/>
            </p:nvGrpSpPr>
            <p:grpSpPr>
              <a:xfrm>
                <a:off x="5518080" y="2181960"/>
                <a:ext cx="1824480" cy="605880"/>
                <a:chOff x="5518080" y="2181960"/>
                <a:chExt cx="1824480" cy="605880"/>
              </a:xfrm>
            </p:grpSpPr>
            <p:sp>
              <p:nvSpPr>
                <p:cNvPr id="284" name=""/>
                <p:cNvSpPr/>
                <p:nvPr/>
              </p:nvSpPr>
              <p:spPr>
                <a:xfrm>
                  <a:off x="5586840" y="218196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 79/ mo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5" name=""/>
                <p:cNvSpPr/>
                <p:nvPr/>
              </p:nvSpPr>
              <p:spPr>
                <a:xfrm>
                  <a:off x="5518080" y="218196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6" name=""/>
              <p:cNvGrpSpPr/>
              <p:nvPr/>
            </p:nvGrpSpPr>
            <p:grpSpPr>
              <a:xfrm>
                <a:off x="1225440" y="2788200"/>
                <a:ext cx="2466720" cy="605880"/>
                <a:chOff x="1225440" y="2788200"/>
                <a:chExt cx="2466720" cy="605880"/>
              </a:xfrm>
            </p:grpSpPr>
            <p:sp>
              <p:nvSpPr>
                <p:cNvPr id="287" name=""/>
                <p:cNvSpPr/>
                <p:nvPr/>
              </p:nvSpPr>
              <p:spPr>
                <a:xfrm>
                  <a:off x="1294560" y="278820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CPE reven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8" name=""/>
                <p:cNvSpPr/>
                <p:nvPr/>
              </p:nvSpPr>
              <p:spPr>
                <a:xfrm>
                  <a:off x="1225440" y="278820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3692520" y="2788200"/>
                <a:ext cx="1824840" cy="605880"/>
                <a:chOff x="3692520" y="2788200"/>
                <a:chExt cx="1824840" cy="605880"/>
              </a:xfrm>
            </p:grpSpPr>
            <p:sp>
              <p:nvSpPr>
                <p:cNvPr id="290" name=""/>
                <p:cNvSpPr/>
                <p:nvPr/>
              </p:nvSpPr>
              <p:spPr>
                <a:xfrm>
                  <a:off x="3761640" y="278820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1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1" name=""/>
                <p:cNvSpPr/>
                <p:nvPr/>
              </p:nvSpPr>
              <p:spPr>
                <a:xfrm>
                  <a:off x="3692520" y="278820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2" name=""/>
              <p:cNvGrpSpPr/>
              <p:nvPr/>
            </p:nvGrpSpPr>
            <p:grpSpPr>
              <a:xfrm>
                <a:off x="5518080" y="2788200"/>
                <a:ext cx="1824480" cy="605880"/>
                <a:chOff x="5518080" y="2788200"/>
                <a:chExt cx="1824480" cy="605880"/>
              </a:xfrm>
            </p:grpSpPr>
            <p:sp>
              <p:nvSpPr>
                <p:cNvPr id="293" name=""/>
                <p:cNvSpPr/>
                <p:nvPr/>
              </p:nvSpPr>
              <p:spPr>
                <a:xfrm>
                  <a:off x="5586840" y="278820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20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4" name=""/>
                <p:cNvSpPr/>
                <p:nvPr/>
              </p:nvSpPr>
              <p:spPr>
                <a:xfrm>
                  <a:off x="5518080" y="278820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5" name=""/>
              <p:cNvGrpSpPr/>
              <p:nvPr/>
            </p:nvGrpSpPr>
            <p:grpSpPr>
              <a:xfrm>
                <a:off x="1225440" y="3394080"/>
                <a:ext cx="2466720" cy="605880"/>
                <a:chOff x="1225440" y="3394080"/>
                <a:chExt cx="2466720" cy="605880"/>
              </a:xfrm>
            </p:grpSpPr>
            <p:sp>
              <p:nvSpPr>
                <p:cNvPr id="296" name=""/>
                <p:cNvSpPr/>
                <p:nvPr/>
              </p:nvSpPr>
              <p:spPr>
                <a:xfrm>
                  <a:off x="1294560" y="3394080"/>
                  <a:ext cx="232812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Installation Revenue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97" name=""/>
                <p:cNvSpPr/>
                <p:nvPr/>
              </p:nvSpPr>
              <p:spPr>
                <a:xfrm>
                  <a:off x="1225440" y="3394080"/>
                  <a:ext cx="246672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98" name=""/>
              <p:cNvGrpSpPr/>
              <p:nvPr/>
            </p:nvGrpSpPr>
            <p:grpSpPr>
              <a:xfrm>
                <a:off x="3692520" y="3394080"/>
                <a:ext cx="1824840" cy="605880"/>
                <a:chOff x="3692520" y="3394080"/>
                <a:chExt cx="1824840" cy="605880"/>
              </a:xfrm>
            </p:grpSpPr>
            <p:sp>
              <p:nvSpPr>
                <p:cNvPr id="299" name=""/>
                <p:cNvSpPr/>
                <p:nvPr/>
              </p:nvSpPr>
              <p:spPr>
                <a:xfrm>
                  <a:off x="3761640" y="3394080"/>
                  <a:ext cx="168624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0" name=""/>
                <p:cNvSpPr/>
                <p:nvPr/>
              </p:nvSpPr>
              <p:spPr>
                <a:xfrm>
                  <a:off x="3692520" y="3394080"/>
                  <a:ext cx="182484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1" name=""/>
              <p:cNvGrpSpPr/>
              <p:nvPr/>
            </p:nvGrpSpPr>
            <p:grpSpPr>
              <a:xfrm>
                <a:off x="5518080" y="3394080"/>
                <a:ext cx="1824480" cy="605880"/>
                <a:chOff x="5518080" y="3394080"/>
                <a:chExt cx="1824480" cy="605880"/>
              </a:xfrm>
            </p:grpSpPr>
            <p:sp>
              <p:nvSpPr>
                <p:cNvPr id="302" name=""/>
                <p:cNvSpPr/>
                <p:nvPr/>
              </p:nvSpPr>
              <p:spPr>
                <a:xfrm>
                  <a:off x="5586840" y="3394080"/>
                  <a:ext cx="1686600" cy="605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000000"/>
                      </a:solidFill>
                      <a:latin typeface="Times New Roman"/>
                      <a:ea typeface="Times New Roman"/>
                    </a:rPr>
                    <a:t>$240</a:t>
                  </a: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03" name=""/>
                <p:cNvSpPr/>
                <p:nvPr/>
              </p:nvSpPr>
              <p:spPr>
                <a:xfrm>
                  <a:off x="5518080" y="3394080"/>
                  <a:ext cx="1824480" cy="6058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304" name=""/>
            <p:cNvSpPr/>
            <p:nvPr/>
          </p:nvSpPr>
          <p:spPr>
            <a:xfrm>
              <a:off x="1220760" y="1571760"/>
              <a:ext cx="6127560" cy="243360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5" name=""/>
          <p:cNvSpPr/>
          <p:nvPr/>
        </p:nvSpPr>
        <p:spPr>
          <a:xfrm>
            <a:off x="3114720" y="957240"/>
            <a:ext cx="26542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2632a8"/>
                </a:solidFill>
                <a:latin typeface="Times New Roman"/>
                <a:ea typeface="Times New Roman"/>
              </a:rPr>
              <a:t>Revenu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952560" y="4219560"/>
            <a:ext cx="5961240" cy="208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nly 4x 6 MHz channels requir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4 mile cell radi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Base station antenna height:100f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90% coverage, 99.99% availab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acquisition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125 per add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Customer service &amp; billing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7/ mo/ 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Overhead: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$9/ mo/s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frastructure cost per subscri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8" name=""/>
          <p:cNvGraphicFramePr/>
          <p:nvPr/>
        </p:nvGraphicFramePr>
        <p:xfrm>
          <a:off x="1065240" y="1576440"/>
          <a:ext cx="7520040" cy="43657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65240" y="1576440"/>
                    <a:ext cx="7520040" cy="4365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rison to DSL-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114280" y="6018120"/>
            <a:ext cx="5306040" cy="368280"/>
          </a:xfrm>
          <a:prstGeom prst="rect">
            <a:avLst/>
          </a:prstGeom>
          <a:solidFill>
            <a:srgbClr val="cecece"/>
          </a:solidFill>
          <a:ln w="0">
            <a:noFill/>
          </a:ln>
          <a:effectLst>
            <a:outerShdw dist="107932" dir="189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632a8"/>
                </a:solidFill>
                <a:latin typeface="Arial"/>
              </a:rPr>
              <a:t>IRR: 39% for BeamReach solution vs 16% for DS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12" name=""/>
          <p:cNvGraphicFramePr/>
          <p:nvPr/>
        </p:nvGraphicFramePr>
        <p:xfrm>
          <a:off x="1103400" y="1525680"/>
          <a:ext cx="7267320" cy="42177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03400" y="1525680"/>
                    <a:ext cx="7267320" cy="4217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/>
          </p:nvPr>
        </p:nvSpPr>
        <p:spPr>
          <a:xfrm>
            <a:off x="563040" y="1533240"/>
            <a:ext cx="7069320" cy="4771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High return business case with superior economics to DS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0">
              <a:lnSpc>
                <a:spcPct val="11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Concurrently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supports large coverage </a:t>
            </a: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large capacity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st infrastructure cos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est capital requiremen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ow cost, customer deployable CP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uperior IR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6" name="base_combo" descr=""/>
          <p:cNvPicPr/>
          <p:nvPr/>
        </p:nvPicPr>
        <p:blipFill>
          <a:blip r:embed="rId2"/>
          <a:stretch/>
        </p:blipFill>
        <p:spPr>
          <a:xfrm>
            <a:off x="5748480" y="3576600"/>
            <a:ext cx="2917800" cy="2816280"/>
          </a:xfrm>
          <a:prstGeom prst="rect">
            <a:avLst/>
          </a:prstGeom>
          <a:ln w="0">
            <a:noFill/>
          </a:ln>
        </p:spPr>
      </p:pic>
      <p:pic>
        <p:nvPicPr>
          <p:cNvPr id="317" name="group%201%20inside%20with%20laptop" descr=""/>
          <p:cNvPicPr/>
          <p:nvPr/>
        </p:nvPicPr>
        <p:blipFill>
          <a:blip r:embed="rId3"/>
          <a:stretch/>
        </p:blipFill>
        <p:spPr>
          <a:xfrm>
            <a:off x="7581960" y="1535040"/>
            <a:ext cx="1217520" cy="182556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789840" y="5475240"/>
            <a:ext cx="502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c0128"/>
                </a:solidFill>
                <a:latin typeface="Arial"/>
              </a:rPr>
              <a:t>No compromise with BeamPlex</a:t>
            </a:r>
            <a:r>
              <a:rPr b="1" lang="en-US" sz="2400" spc="-1" strike="noStrike">
                <a:solidFill>
                  <a:srgbClr val="fc0128"/>
                </a:solidFill>
                <a:latin typeface="Arial"/>
                <a:ea typeface="Arial"/>
              </a:rPr>
              <a:t>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045800" y="852120"/>
            <a:ext cx="7069320" cy="5933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Requirements for high return busin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15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2a8"/>
                </a:solidFill>
                <a:latin typeface="Arial"/>
              </a:rPr>
              <a:t>4th Generation Technolog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15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632a8"/>
                </a:solidFill>
                <a:latin typeface="Arial"/>
              </a:rPr>
              <a:t>System </a:t>
            </a: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perform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Business Mod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200000"/>
              </a:lnSpc>
              <a:spcBef>
                <a:spcPts val="901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540ac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2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1248840" y="1263960"/>
            <a:ext cx="7069320" cy="585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, customer installable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Eliminate installation costs, rapid service deploy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cost of cove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7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acro-cell with &gt; 4 miles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Non line-of-sight performance with &gt;90% coverag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9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link budget (&gt; 150-160 dB) &amp; low fade margins (&lt;5 db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1f2bcd"/>
                </a:solidFill>
                <a:latin typeface="Arial"/>
              </a:rPr>
              <a:t>Low cost per sub for infra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Large base station capacity = 1000’s of subscriber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Low Spectrum Co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igh spectral efficiency and flexibility in spectrum 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Business and residential service 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ymmetric 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10000"/>
              </a:lnSpc>
              <a:spcBef>
                <a:spcPts val="67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40ac"/>
                </a:solidFill>
                <a:latin typeface="Arial"/>
              </a:rPr>
              <a:t>Potential for additional revenu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Voice servic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1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ome Network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2727000" y="76176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equirements for high return business mod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050560" y="774360"/>
            <a:ext cx="7029720" cy="43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daptive MultiBeam OFDM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Arial"/>
              </a:rPr>
              <a:t>™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Technolog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905040" y="2371680"/>
            <a:ext cx="3117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523880" y="2751120"/>
            <a:ext cx="1843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ofdm_nt" descr=""/>
          <p:cNvPicPr/>
          <p:nvPr/>
        </p:nvPicPr>
        <p:blipFill>
          <a:blip r:embed="rId1"/>
          <a:stretch/>
        </p:blipFill>
        <p:spPr>
          <a:xfrm>
            <a:off x="4851360" y="1219320"/>
            <a:ext cx="3708360" cy="525780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>
            <a:off x="890640" y="1693800"/>
            <a:ext cx="3387600" cy="4702680"/>
          </a:xfrm>
          <a:prstGeom prst="rect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228600" rIns="90000" tIns="228600" bIns="228600" anchor="t">
            <a:spAutoFit/>
          </a:bodyPr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Seamless integration of technology ele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elivers superio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overa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apacit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Co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228600" indent="-228600">
              <a:lnSpc>
                <a:spcPct val="100000"/>
              </a:lnSpc>
              <a:spcBef>
                <a:spcPts val="2001"/>
              </a:spcBef>
              <a:spcAft>
                <a:spcPts val="2001"/>
              </a:spcAft>
              <a:buClr>
                <a:srgbClr val="2632a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Service Delivery</a:t>
            </a:r>
            <a:r>
              <a:rPr b="1" lang="en-US" sz="1600" spc="-1" strike="noStrike">
                <a:solidFill>
                  <a:srgbClr val="2632a8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184720" y="189036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Time Divis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Duplexing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968720" y="2819160"/>
            <a:ext cx="168624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tacked Carrier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prea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Spectru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603760" y="379692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ntenna Array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734160" y="3493800"/>
            <a:ext cx="1685880" cy="54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QOS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Enabled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RQ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40320" y="1688400"/>
            <a:ext cx="168624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OFDM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7000920" y="2503080"/>
            <a:ext cx="1685880" cy="3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Adaptive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8f8f8"/>
                </a:solidFill>
                <a:latin typeface="Arial"/>
              </a:rPr>
              <a:t>Modulatio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5740560" y="1434960"/>
            <a:ext cx="2743200" cy="2806920"/>
          </a:xfrm>
          <a:custGeom>
            <a:avLst/>
            <a:gdLst>
              <a:gd name="textAreaLeft" fmla="*/ 6480 w 2743200"/>
              <a:gd name="textAreaRight" fmla="*/ 2736720 w 2743200"/>
              <a:gd name="textAreaTop" fmla="*/ 6480 h 2806920"/>
              <a:gd name="textAreaBottom" fmla="*/ 2800440 h 2806920"/>
            </a:gdLst>
            <a:ahLst/>
            <a:rect l="textAreaLeft" t="textAreaTop" r="textAreaRight" b="textAreaBottom"/>
            <a:pathLst>
              <a:path w="21600" h="22102">
                <a:moveTo>
                  <a:pt x="183" y="0"/>
                </a:moveTo>
                <a:arcTo wR="183" hR="183" stAng="16200000" swAng="-5400000"/>
                <a:lnTo>
                  <a:pt x="0" y="21919"/>
                </a:lnTo>
                <a:arcTo wR="183" hR="183" stAng="10800000" swAng="-5400000"/>
                <a:lnTo>
                  <a:pt x="21417" y="22102"/>
                </a:lnTo>
                <a:arcTo wR="183" hR="183" stAng="5400000" swAng="-5400000"/>
                <a:lnTo>
                  <a:pt x="21600" y="183"/>
                </a:lnTo>
                <a:arcTo wR="183" hR="183" stAng="0" swAng="-5400000"/>
                <a:close/>
              </a:path>
            </a:pathLst>
          </a:custGeom>
          <a:solidFill>
            <a:srgbClr val="e8e8ea"/>
          </a:solidFill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beampattern" descr=""/>
          <p:cNvPicPr/>
          <p:nvPr/>
        </p:nvPicPr>
        <p:blipFill>
          <a:blip r:embed="rId1"/>
          <a:srcRect l="16657" t="2674" r="15014" b="25371"/>
          <a:stretch/>
        </p:blipFill>
        <p:spPr>
          <a:xfrm>
            <a:off x="5826240" y="1549440"/>
            <a:ext cx="2531880" cy="2604960"/>
          </a:xfrm>
          <a:prstGeom prst="rect">
            <a:avLst/>
          </a:prstGeom>
          <a:ln w="0">
            <a:noFill/>
          </a:ln>
        </p:spPr>
      </p:pic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Beamforming and Null Stee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73200" y="4322160"/>
            <a:ext cx="8137440" cy="2032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eamforming improves system gain, extending cell radiu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daptive algorithms maximize signal to interference and noise ratio (SIN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ptimal combining provides spatial diversity, reducing fade marg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ort multipath delays are combined coherently, improving SIN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ll Steering rejects co-channel interference, enabling full frequency re-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"/>
          <p:cNvGrpSpPr/>
          <p:nvPr/>
        </p:nvGrpSpPr>
        <p:grpSpPr>
          <a:xfrm>
            <a:off x="1047600" y="1625760"/>
            <a:ext cx="3530520" cy="2482560"/>
            <a:chOff x="1047600" y="1625760"/>
            <a:chExt cx="3530520" cy="2482560"/>
          </a:xfrm>
        </p:grpSpPr>
        <p:pic>
          <p:nvPicPr>
            <p:cNvPr id="116" name="antenna2houses" descr=""/>
            <p:cNvPicPr/>
            <p:nvPr/>
          </p:nvPicPr>
          <p:blipFill>
            <a:blip r:embed="rId7"/>
            <a:stretch/>
          </p:blipFill>
          <p:spPr>
            <a:xfrm>
              <a:off x="1116000" y="1625760"/>
              <a:ext cx="3409920" cy="2482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"/>
            <p:cNvSpPr/>
            <p:nvPr/>
          </p:nvSpPr>
          <p:spPr>
            <a:xfrm>
              <a:off x="2966760" y="1796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Unit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047600" y="2669760"/>
              <a:ext cx="1244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200"/>
              </a:b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terferen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117600" y="3520800"/>
              <a:ext cx="14605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hort delay multipath sour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4946760" y="3241800"/>
            <a:ext cx="12445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 Towards Interfer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22920" y="1565280"/>
            <a:ext cx="1243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Gain To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9900"/>
                </a:solidFill>
                <a:latin typeface="Arial"/>
              </a:rPr>
              <a:t>Desired Sig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334280" y="1908000"/>
            <a:ext cx="1244520" cy="53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Multipat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mbin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coherent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039000" y="3774960"/>
            <a:ext cx="2146320" cy="3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eam formed adaptively to maximize SIN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083280" y="3390840"/>
            <a:ext cx="393840" cy="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H="1">
            <a:off x="7822800" y="2425680"/>
            <a:ext cx="266760" cy="241200"/>
          </a:xfrm>
          <a:prstGeom prst="line">
            <a:avLst/>
          </a:prstGeom>
          <a:ln w="25560">
            <a:solidFill>
              <a:srgbClr val="94afe4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61040" y="1473120"/>
            <a:ext cx="0" cy="304920"/>
          </a:xfrm>
          <a:prstGeom prst="line">
            <a:avLst/>
          </a:prstGeom>
          <a:ln w="2556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ulti-Bea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7960" y="4635000"/>
            <a:ext cx="8137440" cy="1517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current adaptation of multiple independent bea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ultiple users supported at the same time on the same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28560" indent="-228600">
              <a:lnSpc>
                <a:spcPct val="100000"/>
              </a:lnSpc>
              <a:spcBef>
                <a:spcPts val="601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mmon antennas and transceivers at the base st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ull inter-cell reuse (N=1) and intra-cell reuse factor of 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" name=""/>
          <p:cNvGrpSpPr/>
          <p:nvPr/>
        </p:nvGrpSpPr>
        <p:grpSpPr>
          <a:xfrm>
            <a:off x="609480" y="1454040"/>
            <a:ext cx="7826040" cy="2710080"/>
            <a:chOff x="609480" y="1454040"/>
            <a:chExt cx="7826040" cy="2710080"/>
          </a:xfrm>
        </p:grpSpPr>
        <p:sp>
          <p:nvSpPr>
            <p:cNvPr id="130" name=""/>
            <p:cNvSpPr/>
            <p:nvPr/>
          </p:nvSpPr>
          <p:spPr>
            <a:xfrm>
              <a:off x="5180040" y="160668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32a8"/>
                  </a:solidFill>
                  <a:latin typeface="Arial"/>
                </a:rPr>
                <a:t>Remot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84880" y="149220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emot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aphicFrame>
          <p:nvGraphicFramePr>
            <p:cNvPr id="132" name=""/>
            <p:cNvGraphicFramePr/>
            <p:nvPr/>
          </p:nvGraphicFramePr>
          <p:xfrm>
            <a:off x="1508040" y="1830240"/>
            <a:ext cx="6637320" cy="2333880"/>
          </p:xfrm>
          <a:graphic>
            <a:graphicData uri="http://schemas.openxmlformats.org/presentationml/2006/ole">
              <p:oleObj r:id="rId4" spid="">
                <p:embed/>
                <p:pic>
                  <p:nvPicPr>
                    <p:cNvPr id="133" name="" descr=""/>
                    <p:cNvPicPr/>
                    <p:nvPr/>
                  </p:nvPicPr>
                  <p:blipFill>
                    <a:blip r:embed="rId5"/>
                    <a:stretch/>
                  </p:blipFill>
                  <p:spPr>
                    <a:xfrm>
                      <a:off x="1508040" y="1830240"/>
                      <a:ext cx="6637320" cy="23338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34" name=""/>
            <p:cNvSpPr/>
            <p:nvPr/>
          </p:nvSpPr>
          <p:spPr>
            <a:xfrm>
              <a:off x="7453080" y="182232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12880" y="151776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2632a8"/>
                  </a:solidFill>
                  <a:latin typeface="Arial"/>
                </a:rPr>
                <a:t>Remote 1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2728800" y="145404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ae00"/>
                  </a:solidFill>
                  <a:latin typeface="Arial"/>
                </a:rPr>
                <a:t>Remote 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3821040" y="1581120"/>
              <a:ext cx="982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9900"/>
                  </a:solidFill>
                  <a:latin typeface="Arial"/>
                </a:rPr>
                <a:t>Remote 3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609480" y="2975040"/>
              <a:ext cx="12445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fe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4832280" y="2415960"/>
              <a:ext cx="1244520" cy="604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Nulling 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out-of-cell</a:t>
              </a:r>
              <a:br>
                <a:rPr sz="1400"/>
              </a:br>
              <a:r>
                <a:rPr b="1" lang="en-US" sz="1400" spc="-1" strike="noStrike">
                  <a:solidFill>
                    <a:srgbClr val="000000"/>
                  </a:solidFill>
                  <a:latin typeface="Arial"/>
                </a:rPr>
                <a:t>Interferer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5457600" y="3089160"/>
              <a:ext cx="2673360" cy="67716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ultiple users on the same frequency at the same tim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825200" y="596520"/>
            <a:ext cx="7118280" cy="444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aptive Multi-Beam with Stacked Carrier Spread Spectru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63640" y="4838400"/>
            <a:ext cx="7756560" cy="1504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gnals adaptively spread over multiple frequenc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llows discrimination between users on the same azimut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duces susceptibility to frequency-selective f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versity at CPE without multiple antennas and radi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3" name=""/>
          <p:cNvGraphicFramePr/>
          <p:nvPr/>
        </p:nvGraphicFramePr>
        <p:xfrm>
          <a:off x="4352760" y="2813040"/>
          <a:ext cx="1508400" cy="15336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352760" y="2813040"/>
                    <a:ext cx="1508400" cy="153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45" name="adaptbeamform" descr=""/>
          <p:cNvPicPr/>
          <p:nvPr/>
        </p:nvPicPr>
        <p:blipFill>
          <a:blip r:embed="rId7"/>
          <a:srcRect l="29118" t="12301" r="42036" b="27751"/>
          <a:stretch/>
        </p:blipFill>
        <p:spPr>
          <a:xfrm>
            <a:off x="1663560" y="1409760"/>
            <a:ext cx="1627200" cy="23716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787320" y="3848040"/>
            <a:ext cx="340380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1f2bcd"/>
                </a:solidFill>
                <a:latin typeface="Arial"/>
              </a:rPr>
              <a:t>Spatial &amp; Spectral Beamform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 antennas, 2 frequenci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2M degrees of freedo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5740560" y="1714680"/>
            <a:ext cx="3403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Use of 2 Frequencies Enab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Range-Based Discrim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4334040" y="1263600"/>
          <a:ext cx="1653840" cy="161280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4334040" y="1263600"/>
                    <a:ext cx="1653840" cy="161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0" name=""/>
          <p:cNvSpPr/>
          <p:nvPr/>
        </p:nvSpPr>
        <p:spPr>
          <a:xfrm>
            <a:off x="6235560" y="3251160"/>
            <a:ext cx="2438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Combined spectral/spati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beamforming deliv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a spot beam to each us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739600" y="748800"/>
            <a:ext cx="6203880" cy="406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daptive Multi-beam with T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901800" y="4914720"/>
            <a:ext cx="7400880" cy="1614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/>
          </a:bodyPr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ith TDD, forward and reverse link channels are “reciprocal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lind adaptive algorithms operate at base station and CP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patial beams and nulls are formed in both direction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100000"/>
              </a:lnSpc>
              <a:spcBef>
                <a:spcPts val="1125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ngle antenna and RF chain provides lowest cost CPE solu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reciprocal" descr=""/>
          <p:cNvPicPr/>
          <p:nvPr/>
        </p:nvPicPr>
        <p:blipFill>
          <a:blip r:embed="rId5"/>
          <a:stretch/>
        </p:blipFill>
        <p:spPr>
          <a:xfrm>
            <a:off x="1251000" y="1308240"/>
            <a:ext cx="6464160" cy="3411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3886200" y="1346040"/>
            <a:ext cx="11653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Reciproc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Chann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087640" y="1577880"/>
            <a:ext cx="168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</a:rPr>
              <a:t>uplink 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886200" y="306396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UP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4362480"/>
            <a:ext cx="1165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DOW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13360" y="1566720"/>
            <a:ext cx="1685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618ffd"/>
                </a:solidFill>
                <a:latin typeface="Arial"/>
              </a:rPr>
              <a:t>uplink de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302080" y="4397400"/>
            <a:ext cx="168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128c4"/>
                </a:solidFill>
                <a:latin typeface="Arial"/>
              </a:rPr>
              <a:t>downlink 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774800" y="4424400"/>
            <a:ext cx="214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b128c4"/>
                </a:solidFill>
                <a:latin typeface="Arial"/>
              </a:rPr>
              <a:t>downlink desprea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05000" y="2808360"/>
            <a:ext cx="963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f2bcd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711840" y="2865600"/>
            <a:ext cx="98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1960f"/>
                </a:solidFill>
                <a:latin typeface="Arial"/>
              </a:rPr>
              <a:t>Adap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1960f"/>
                </a:solidFill>
                <a:latin typeface="Arial"/>
              </a:rPr>
              <a:t>loop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98880" y="279000"/>
            <a:ext cx="5829120" cy="825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que Propagation Advan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779040" y="1362240"/>
            <a:ext cx="7877160" cy="4506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rmAutofit fontScale="99000"/>
          </a:bodyPr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eamforming and Spectral combining gain adds 6 to 10 db to link budg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ptimal M-branch diversity combining reduces fade margin required by 5 to 15 d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bined link budget advantage is 11 - 25 db in typical deployme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2960" indent="-28296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7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creased coverage &amp; link reliabil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radius by factor of 2 to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22080" indent="-226080">
              <a:lnSpc>
                <a:spcPct val="135000"/>
              </a:lnSpc>
              <a:spcBef>
                <a:spcPts val="1125"/>
              </a:spcBef>
              <a:buClr>
                <a:srgbClr val="0034dc"/>
              </a:buClr>
              <a:buSzPct val="6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ell area by factor of 4 to 1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456200" y="5992920"/>
            <a:ext cx="6944400" cy="398880"/>
          </a:xfrm>
          <a:prstGeom prst="rect">
            <a:avLst/>
          </a:prstGeom>
          <a:solidFill>
            <a:srgbClr val="b2b2b2"/>
          </a:solidFill>
          <a:ln w="0">
            <a:noFill/>
          </a:ln>
          <a:effectLst>
            <a:outerShdw dist="107932" dir="2700000" blurRad="0" rotWithShape="0">
              <a:srgbClr val="91919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632a8"/>
                </a:solidFill>
                <a:latin typeface="Arial"/>
              </a:rPr>
              <a:t>Required for deployment of indoor customer installable C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6-09T12:05:52Z</dcterms:created>
  <dc:creator>Phil Kelly</dc:creator>
  <dc:description/>
  <dc:language>en-US</dc:language>
  <cp:lastModifiedBy>b_aboussouan</cp:lastModifiedBy>
  <cp:lastPrinted>2002-02-08T00:29:02Z</cp:lastPrinted>
  <dcterms:modified xsi:type="dcterms:W3CDTF">2002-02-08T18:33:39Z</dcterms:modified>
  <cp:revision>792</cp:revision>
  <dc:subject>Investor Presentation</dc:subject>
  <dc:title>Radix Technologies</dc:title>
</cp:coreProperties>
</file>