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8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1.wmf" ContentType="image/x-wmf"/>
  <Override PartName="/ppt/media/image17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2.jpeg" ContentType="image/jpeg"/>
  <Override PartName="/ppt/media/image21.png" ContentType="image/png"/>
  <Override PartName="/ppt/media/image19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8.png" ContentType="image/pn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0F37-C9DE-4357-A8AD-54CED3197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r target market for LMDS is Small to Medium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Greater Green Bay Nearly 6000 company’s in th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yond Green B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usau  ** Eau Claire  ** Stevens Point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eton  ** Sturgeon Bay  ** Oshkosh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inette/Menominee  ** Manitowoc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nd du Lac  ** Sheboygan  ** Marshfield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ughton  ** Marquette  ** Ishpeming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ult Ste. Marie  ** Escanaba  ** Ironwoo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on Mountain  ** Rhinelander  **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s cost of equipment drops small towns becom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for business and resident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yond Green B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usau  ** Eau Claire  ** Stevens Point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eton  ** Sturgeon Bay  ** Oshkosh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inette/Menominee  ** Manitowoc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nd du Lac  ** Sheboygan  ** Marshfield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ughton  ** Marquette  ** Ishpeming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ult Ste. Marie  ** Escanaba  ** Ironwoo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on Mountain  ** Rhinelander  **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s cost of equipment drops small towns becom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for business and resident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B8E12-2B45-4E3D-B834-8DC59515B6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7ED1F-E69C-48C5-96E0-ACEF96C5D3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FC155-4371-40F6-AEFA-F9394241FC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5CC1D-8071-48B1-BBD9-3BDF0A1EC5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5CB32-BFAC-481C-8DE5-6E489811B6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7F6F1-E176-47FE-B085-A645AE385A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1B51C-47B2-4DAE-9D98-CADBB33491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53100-921B-416F-B8A8-F677525676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9EB93-FF66-4B7D-A5E1-690F3FB5C9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26302-1B0D-4670-AFFB-8F9373B494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648B7-2A21-4A1B-AA25-9BAE7D0452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233CE-9D61-4198-A27E-0A5B685BA1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0A8D-743D-4D1A-BFAA-4EA391C52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header-logo" descr=""/>
          <p:cNvPicPr/>
          <p:nvPr/>
        </p:nvPicPr>
        <p:blipFill>
          <a:blip r:embed="rId2"/>
          <a:stretch/>
        </p:blipFill>
        <p:spPr>
          <a:xfrm>
            <a:off x="152280" y="6019920"/>
            <a:ext cx="1581120" cy="7333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7200" y="1828800"/>
            <a:ext cx="81532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nr_bwwf02%20copy" descr=""/>
          <p:cNvPicPr/>
          <p:nvPr/>
        </p:nvPicPr>
        <p:blipFill>
          <a:blip r:embed="rId1"/>
          <a:stretch/>
        </p:blipFill>
        <p:spPr>
          <a:xfrm>
            <a:off x="0" y="-14400"/>
            <a:ext cx="929628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93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110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127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144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161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179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196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213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230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247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057400" y="2285280"/>
            <a:ext cx="5475600" cy="3658320"/>
            <a:chOff x="2057400" y="2285280"/>
            <a:chExt cx="5475600" cy="3658320"/>
          </a:xfrm>
        </p:grpSpPr>
        <p:cxnSp>
          <p:nvCxnSpPr>
            <p:cNvPr id="264" name=""/>
            <p:cNvCxnSpPr/>
            <p:nvPr/>
          </p:nvCxnSpPr>
          <p:spPr>
            <a:xfrm flipV="1">
              <a:off x="6400800" y="5486040"/>
              <a:ext cx="113256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5" name=""/>
            <p:cNvCxnSpPr/>
            <p:nvPr/>
          </p:nvCxnSpPr>
          <p:spPr>
            <a:xfrm flipV="1">
              <a:off x="2057400" y="228528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6" name=""/>
            <p:cNvCxnSpPr/>
            <p:nvPr/>
          </p:nvCxnSpPr>
          <p:spPr>
            <a:xfrm flipV="1">
              <a:off x="2133720" y="373320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7" name=""/>
            <p:cNvCxnSpPr/>
            <p:nvPr/>
          </p:nvCxnSpPr>
          <p:spPr>
            <a:xfrm flipV="1">
              <a:off x="4114800" y="327600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8" name=""/>
            <p:cNvCxnSpPr/>
            <p:nvPr/>
          </p:nvCxnSpPr>
          <p:spPr>
            <a:xfrm flipV="1">
              <a:off x="4419720" y="4495320"/>
              <a:ext cx="1132560" cy="2311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9" name=""/>
            <p:cNvCxnSpPr/>
            <p:nvPr/>
          </p:nvCxnSpPr>
          <p:spPr>
            <a:xfrm flipV="1">
              <a:off x="3593880" y="5333760"/>
              <a:ext cx="1130760" cy="5292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70" name=""/>
            <p:cNvCxnSpPr/>
            <p:nvPr/>
          </p:nvCxnSpPr>
          <p:spPr>
            <a:xfrm>
              <a:off x="2514240" y="4724280"/>
              <a:ext cx="1080360" cy="1375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273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290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307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324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341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7" name=""/>
          <p:cNvCxnSpPr/>
          <p:nvPr/>
        </p:nvCxnSpPr>
        <p:spPr>
          <a:xfrm flipV="1">
            <a:off x="2057400" y="2285280"/>
            <a:ext cx="1132560" cy="23076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58" name=""/>
          <p:cNvCxnSpPr/>
          <p:nvPr/>
        </p:nvCxnSpPr>
        <p:spPr>
          <a:xfrm flipV="1">
            <a:off x="2133720" y="37332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59" name=""/>
          <p:cNvCxnSpPr/>
          <p:nvPr/>
        </p:nvCxnSpPr>
        <p:spPr>
          <a:xfrm flipV="1">
            <a:off x="4114800" y="32760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0" name=""/>
          <p:cNvCxnSpPr/>
          <p:nvPr/>
        </p:nvCxnSpPr>
        <p:spPr>
          <a:xfrm flipV="1">
            <a:off x="4419720" y="4495320"/>
            <a:ext cx="1132560" cy="2311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1" name=""/>
          <p:cNvCxnSpPr/>
          <p:nvPr/>
        </p:nvCxnSpPr>
        <p:spPr>
          <a:xfrm flipV="1">
            <a:off x="6400800" y="5486040"/>
            <a:ext cx="1132560" cy="4579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2" name=""/>
          <p:cNvCxnSpPr>
            <a:stCxn id="320" idx="6"/>
          </p:cNvCxnSpPr>
          <p:nvPr/>
        </p:nvCxnSpPr>
        <p:spPr>
          <a:xfrm flipV="1">
            <a:off x="3593880" y="5333760"/>
            <a:ext cx="1130760" cy="52920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3" name=""/>
          <p:cNvCxnSpPr/>
          <p:nvPr/>
        </p:nvCxnSpPr>
        <p:spPr>
          <a:xfrm>
            <a:off x="2514240" y="4724280"/>
            <a:ext cx="1080360" cy="13752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64" name=""/>
          <p:cNvSpPr/>
          <p:nvPr/>
        </p:nvSpPr>
        <p:spPr>
          <a:xfrm>
            <a:off x="281952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752480" y="228600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48120" y="19810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429000" y="464832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581280" y="4724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5880" y="4114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96080" y="5257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86728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29000" y="34290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371600" y="38862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34120" y="2971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33526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Can Not Serve Them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379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396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413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430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447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63" name=""/>
          <p:cNvCxnSpPr/>
          <p:nvPr/>
        </p:nvCxnSpPr>
        <p:spPr>
          <a:xfrm flipV="1">
            <a:off x="2057400" y="2285280"/>
            <a:ext cx="1132560" cy="23076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4" name=""/>
          <p:cNvCxnSpPr/>
          <p:nvPr/>
        </p:nvCxnSpPr>
        <p:spPr>
          <a:xfrm flipV="1">
            <a:off x="2133720" y="37332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5" name=""/>
          <p:cNvCxnSpPr/>
          <p:nvPr/>
        </p:nvCxnSpPr>
        <p:spPr>
          <a:xfrm flipV="1">
            <a:off x="4114800" y="32760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6" name=""/>
          <p:cNvCxnSpPr/>
          <p:nvPr/>
        </p:nvCxnSpPr>
        <p:spPr>
          <a:xfrm flipV="1">
            <a:off x="4419720" y="4495320"/>
            <a:ext cx="1132560" cy="2311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7" name=""/>
          <p:cNvCxnSpPr/>
          <p:nvPr/>
        </p:nvCxnSpPr>
        <p:spPr>
          <a:xfrm flipV="1">
            <a:off x="6400800" y="5486040"/>
            <a:ext cx="1132560" cy="4579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8" name=""/>
          <p:cNvCxnSpPr>
            <a:stCxn id="426" idx="6"/>
          </p:cNvCxnSpPr>
          <p:nvPr/>
        </p:nvCxnSpPr>
        <p:spPr>
          <a:xfrm flipV="1">
            <a:off x="3593880" y="5333760"/>
            <a:ext cx="1130760" cy="52920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9" name=""/>
          <p:cNvCxnSpPr/>
          <p:nvPr/>
        </p:nvCxnSpPr>
        <p:spPr>
          <a:xfrm>
            <a:off x="2514240" y="4724280"/>
            <a:ext cx="1080360" cy="13752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70" name=""/>
          <p:cNvSpPr/>
          <p:nvPr/>
        </p:nvSpPr>
        <p:spPr>
          <a:xfrm>
            <a:off x="281952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52480" y="228600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48120" y="19810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29000" y="464832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81280" y="4724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95880" y="4114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696080" y="5257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86728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429000" y="34290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1600" y="38862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4120" y="2971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657600" y="33526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ditional LMDS Technolo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int to Point    P2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int to Multi-Point     PM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996840" y="2085840"/>
            <a:ext cx="2508120" cy="2195640"/>
            <a:chOff x="996840" y="2085840"/>
            <a:chExt cx="2508120" cy="2195640"/>
          </a:xfrm>
        </p:grpSpPr>
        <p:sp>
          <p:nvSpPr>
            <p:cNvPr id="487" name=""/>
            <p:cNvSpPr/>
            <p:nvPr/>
          </p:nvSpPr>
          <p:spPr>
            <a:xfrm>
              <a:off x="1257480" y="22870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36640" y="21722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913040" y="285264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371040" y="2085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595960" y="2651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433960" y="214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50120" y="320724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419120" y="3418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405880" y="3677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441600" y="37731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996840" y="41950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58880" y="4108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336120" y="2958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765520" y="40989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877400" y="35049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109160" y="3101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2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3962520" y="2604960"/>
            <a:ext cx="2507760" cy="2195640"/>
            <a:chOff x="3962520" y="2604960"/>
            <a:chExt cx="2507760" cy="2195640"/>
          </a:xfrm>
        </p:grpSpPr>
        <p:sp>
          <p:nvSpPr>
            <p:cNvPr id="506" name=""/>
            <p:cNvSpPr/>
            <p:nvPr/>
          </p:nvSpPr>
          <p:spPr>
            <a:xfrm>
              <a:off x="4223160" y="28062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02320" y="26913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878360" y="337176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36360" y="2604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561640" y="3170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399280" y="2661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815440" y="372636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384800" y="3937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371560" y="4196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06920" y="42922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962520" y="471420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624560" y="46278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301440" y="3477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730840" y="46180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842720" y="402408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074840" y="36208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752480" y="4357800"/>
            <a:ext cx="2508120" cy="2195280"/>
            <a:chOff x="1752480" y="4357800"/>
            <a:chExt cx="2508120" cy="2195280"/>
          </a:xfrm>
        </p:grpSpPr>
        <p:sp>
          <p:nvSpPr>
            <p:cNvPr id="523" name=""/>
            <p:cNvSpPr/>
            <p:nvPr/>
          </p:nvSpPr>
          <p:spPr>
            <a:xfrm>
              <a:off x="2013120" y="45590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492280" y="44442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668680" y="51246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126680" y="43578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351600" y="49230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189600" y="4414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605760" y="54792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174760" y="5690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61520" y="5948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197240" y="6044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752480" y="64666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414520" y="6380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091760" y="5230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521160" y="63705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633040" y="57765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864800" y="5373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5105520" y="4129200"/>
            <a:ext cx="2507760" cy="2195280"/>
            <a:chOff x="5105520" y="4129200"/>
            <a:chExt cx="2507760" cy="2195280"/>
          </a:xfrm>
        </p:grpSpPr>
        <p:sp>
          <p:nvSpPr>
            <p:cNvPr id="540" name=""/>
            <p:cNvSpPr/>
            <p:nvPr/>
          </p:nvSpPr>
          <p:spPr>
            <a:xfrm>
              <a:off x="5366160" y="43304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45320" y="42156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21360" y="48960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479360" y="4129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04640" y="4694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542280" y="4186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958440" y="52506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527800" y="5461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514560" y="572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549920" y="58161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105520" y="62380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767560" y="6151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444440" y="5001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873840" y="61419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985720" y="55479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217840" y="51451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1176480" y="2082960"/>
            <a:ext cx="6824160" cy="4394160"/>
            <a:chOff x="1176480" y="2082960"/>
            <a:chExt cx="6824160" cy="4394160"/>
          </a:xfrm>
        </p:grpSpPr>
        <p:sp>
          <p:nvSpPr>
            <p:cNvPr id="557" name=""/>
            <p:cNvSpPr/>
            <p:nvPr/>
          </p:nvSpPr>
          <p:spPr>
            <a:xfrm>
              <a:off x="1885680" y="24861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189240" y="225612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668760" y="361800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635600" y="20829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527440" y="32148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86080" y="219744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18280" y="432756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325600" y="4749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10120" y="5267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827840" y="545976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176480" y="63039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977920" y="61311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540560" y="38293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987880" y="61120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71920" y="492300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482480" y="411660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" name=""/>
          <p:cNvSpPr/>
          <p:nvPr/>
        </p:nvSpPr>
        <p:spPr>
          <a:xfrm flipV="1">
            <a:off x="1981080" y="2300040"/>
            <a:ext cx="1219320" cy="22860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733920" y="5043600"/>
            <a:ext cx="1295280" cy="30456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 flipV="1">
            <a:off x="5638680" y="3290760"/>
            <a:ext cx="609840" cy="106704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101400" y="2193480"/>
            <a:ext cx="51624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scriber units are cos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551556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Delivers large bands of data up to OC-3 and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027400" y="4343040"/>
            <a:ext cx="350604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Line of sight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63160" y="3276000"/>
            <a:ext cx="63712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Need big customers close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C-3 ?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camera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533520" y="2209680"/>
            <a:ext cx="17524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hich of these customers want 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OC-3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996840" y="2133720"/>
            <a:ext cx="2508120" cy="2195280"/>
            <a:chOff x="996840" y="2133720"/>
            <a:chExt cx="2508120" cy="2195280"/>
          </a:xfrm>
        </p:grpSpPr>
        <p:sp>
          <p:nvSpPr>
            <p:cNvPr id="585" name=""/>
            <p:cNvSpPr/>
            <p:nvPr/>
          </p:nvSpPr>
          <p:spPr>
            <a:xfrm>
              <a:off x="1257480" y="23349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736640" y="2220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13040" y="29005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371040" y="213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595960" y="2698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433960" y="2190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850120" y="32551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419120" y="3466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405880" y="3724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441600" y="38206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996840" y="424260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658880" y="4156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336120" y="30060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765520" y="41464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877400" y="355248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109160" y="3149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2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3962520" y="2652840"/>
            <a:ext cx="2507760" cy="2195280"/>
            <a:chOff x="3962520" y="2652840"/>
            <a:chExt cx="2507760" cy="2195280"/>
          </a:xfrm>
        </p:grpSpPr>
        <p:sp>
          <p:nvSpPr>
            <p:cNvPr id="604" name=""/>
            <p:cNvSpPr/>
            <p:nvPr/>
          </p:nvSpPr>
          <p:spPr>
            <a:xfrm>
              <a:off x="4223160" y="28540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702320" y="27392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878360" y="341964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336360" y="2652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561640" y="3218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99280" y="2709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815440" y="377424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384800" y="3985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371560" y="4243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406920" y="4339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62520" y="47617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24560" y="4675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301440" y="3525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30840" y="4665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42720" y="40716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074840" y="3668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1752480" y="4405320"/>
            <a:ext cx="2508120" cy="2195640"/>
            <a:chOff x="1752480" y="4405320"/>
            <a:chExt cx="2508120" cy="2195640"/>
          </a:xfrm>
        </p:grpSpPr>
        <p:sp>
          <p:nvSpPr>
            <p:cNvPr id="621" name=""/>
            <p:cNvSpPr/>
            <p:nvPr/>
          </p:nvSpPr>
          <p:spPr>
            <a:xfrm>
              <a:off x="2013120" y="46065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492280" y="44917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668680" y="51721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126680" y="4405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351600" y="4970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189600" y="4462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605760" y="55267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174760" y="5737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161520" y="5996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197240" y="6092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52480" y="651456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414520" y="642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091760" y="527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521160" y="64184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633040" y="582444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64800" y="54212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5105520" y="4176720"/>
            <a:ext cx="2507760" cy="2195640"/>
            <a:chOff x="5105520" y="4176720"/>
            <a:chExt cx="2507760" cy="2195640"/>
          </a:xfrm>
        </p:grpSpPr>
        <p:sp>
          <p:nvSpPr>
            <p:cNvPr id="638" name=""/>
            <p:cNvSpPr/>
            <p:nvPr/>
          </p:nvSpPr>
          <p:spPr>
            <a:xfrm>
              <a:off x="5366160" y="43779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845320" y="4263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021360" y="49435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479360" y="4176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704640" y="474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542280" y="4233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958440" y="52981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527800" y="5509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514560" y="5767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549920" y="58640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105520" y="628596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767560" y="6199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444440" y="50493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873840" y="61898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985720" y="559584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217840" y="5192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1176480" y="2133720"/>
            <a:ext cx="6824160" cy="4394160"/>
            <a:chOff x="1176480" y="2133720"/>
            <a:chExt cx="6824160" cy="4394160"/>
          </a:xfrm>
        </p:grpSpPr>
        <p:sp>
          <p:nvSpPr>
            <p:cNvPr id="655" name=""/>
            <p:cNvSpPr/>
            <p:nvPr/>
          </p:nvSpPr>
          <p:spPr>
            <a:xfrm>
              <a:off x="1885680" y="25369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189240" y="230688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668760" y="366876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635600" y="21337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527440" y="32655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086080" y="22482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218280" y="437832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325600" y="48006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010120" y="53182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827840" y="551052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176480" y="635472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977920" y="61819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40560" y="388008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987880" y="616284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571920" y="497376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482480" y="41673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"/>
          <p:cNvSpPr/>
          <p:nvPr/>
        </p:nvSpPr>
        <p:spPr>
          <a:xfrm flipV="1">
            <a:off x="1981080" y="2347560"/>
            <a:ext cx="1219320" cy="22860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733920" y="5091120"/>
            <a:ext cx="1295280" cy="30492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 flipV="1">
            <a:off x="5638680" y="3338280"/>
            <a:ext cx="609840" cy="106668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073520" y="2118240"/>
            <a:ext cx="6936480" cy="28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t can work in large urban cent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ere the distance between bi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andwidth customers is short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customers can support the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573280" y="5083920"/>
            <a:ext cx="569592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Our company does not se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any large urban ce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996840" y="2082960"/>
            <a:ext cx="6824880" cy="4394160"/>
            <a:chOff x="996840" y="2082960"/>
            <a:chExt cx="6824880" cy="4394160"/>
          </a:xfrm>
        </p:grpSpPr>
        <p:sp>
          <p:nvSpPr>
            <p:cNvPr id="678" name=""/>
            <p:cNvSpPr/>
            <p:nvPr/>
          </p:nvSpPr>
          <p:spPr>
            <a:xfrm>
              <a:off x="1706400" y="248616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009960" y="22561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489480" y="361800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456320" y="20829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348160" y="3214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906800" y="219744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039000" y="432756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146320" y="47498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830840" y="5267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648560" y="545976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996840" y="630396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798640" y="6131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361280" y="382932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808600" y="611208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392640" y="492300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303200" y="411660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429000" y="313524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057040" y="3344400"/>
            <a:ext cx="3274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ase Station very cos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$$$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M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946160" y="4978440"/>
            <a:ext cx="302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ubscriber Termi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are not free either 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There Enough Customers Close to the To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996840" y="2082960"/>
            <a:ext cx="6824880" cy="4394160"/>
            <a:chOff x="996840" y="2082960"/>
            <a:chExt cx="6824880" cy="4394160"/>
          </a:xfrm>
        </p:grpSpPr>
        <p:sp>
          <p:nvSpPr>
            <p:cNvPr id="702" name=""/>
            <p:cNvSpPr/>
            <p:nvPr/>
          </p:nvSpPr>
          <p:spPr>
            <a:xfrm>
              <a:off x="1706400" y="248616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009960" y="22561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89480" y="361800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56320" y="20829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348160" y="3214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906800" y="219744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039000" y="432756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46320" y="47498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830840" y="5267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648560" y="545976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996840" y="630396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798640" y="6131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361280" y="382932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08600" y="611208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392640" y="492300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303200" y="411660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3429000" y="313524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Green%20air" descr=""/>
          <p:cNvPicPr/>
          <p:nvPr/>
        </p:nvPicPr>
        <p:blipFill>
          <a:blip r:embed="rId1"/>
          <a:stretch/>
        </p:blipFill>
        <p:spPr>
          <a:xfrm>
            <a:off x="-1219320" y="-431640"/>
            <a:ext cx="10896840" cy="7262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761760"/>
            <a:ext cx="6324840" cy="114300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er 2 and Tier 3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rket Area Econom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H. Riord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ve Vice Presi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header-logo" descr=""/>
          <p:cNvPicPr/>
          <p:nvPr/>
        </p:nvPicPr>
        <p:blipFill>
          <a:blip r:embed="rId2"/>
          <a:stretch/>
        </p:blipFill>
        <p:spPr>
          <a:xfrm>
            <a:off x="3753000" y="4876920"/>
            <a:ext cx="158112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There Enough Customers Close to the To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22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40" name=""/>
          <p:cNvGrpSpPr/>
          <p:nvPr/>
        </p:nvGrpSpPr>
        <p:grpSpPr>
          <a:xfrm>
            <a:off x="838080" y="1905120"/>
            <a:ext cx="7086600" cy="4647600"/>
            <a:chOff x="838080" y="1905120"/>
            <a:chExt cx="7086600" cy="4647600"/>
          </a:xfrm>
        </p:grpSpPr>
        <p:sp>
          <p:nvSpPr>
            <p:cNvPr id="741" name=""/>
            <p:cNvSpPr/>
            <p:nvPr/>
          </p:nvSpPr>
          <p:spPr>
            <a:xfrm>
              <a:off x="7315200" y="190512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162920" y="3657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467480" y="52574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6386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6668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38080" y="609588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Blind Sp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51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69" name=""/>
          <p:cNvGrpSpPr/>
          <p:nvPr/>
        </p:nvGrpSpPr>
        <p:grpSpPr>
          <a:xfrm>
            <a:off x="838080" y="1905120"/>
            <a:ext cx="7086600" cy="4647600"/>
            <a:chOff x="838080" y="1905120"/>
            <a:chExt cx="7086600" cy="4647600"/>
          </a:xfrm>
        </p:grpSpPr>
        <p:sp>
          <p:nvSpPr>
            <p:cNvPr id="770" name=""/>
            <p:cNvSpPr/>
            <p:nvPr/>
          </p:nvSpPr>
          <p:spPr>
            <a:xfrm>
              <a:off x="7315200" y="190512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162920" y="3657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467480" y="52574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6386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6668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38080" y="609588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4800600" y="2057400"/>
            <a:ext cx="1523880" cy="2590920"/>
            <a:chOff x="4800600" y="2057400"/>
            <a:chExt cx="1523880" cy="2590920"/>
          </a:xfrm>
        </p:grpSpPr>
        <p:sp>
          <p:nvSpPr>
            <p:cNvPr id="777" name=""/>
            <p:cNvSpPr/>
            <p:nvPr/>
          </p:nvSpPr>
          <p:spPr>
            <a:xfrm>
              <a:off x="4800600" y="205740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105520" y="304812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867280" y="419112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 MORE TO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90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s Cost $$$$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818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4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5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Requires Frequency Coordin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952800" y="3805200"/>
            <a:ext cx="2119320" cy="1728720"/>
          </a:xfrm>
          <a:custGeom>
            <a:avLst/>
            <a:gdLst/>
            <a:ahLst/>
            <a:rect l="l" t="t" r="r" b="b"/>
            <a:pathLst>
              <a:path w="1335" h="1089">
                <a:moveTo>
                  <a:pt x="246" y="3"/>
                </a:moveTo>
                <a:lnTo>
                  <a:pt x="1335" y="579"/>
                </a:lnTo>
                <a:lnTo>
                  <a:pt x="1221" y="738"/>
                </a:lnTo>
                <a:lnTo>
                  <a:pt x="1074" y="879"/>
                </a:lnTo>
                <a:lnTo>
                  <a:pt x="933" y="990"/>
                </a:lnTo>
                <a:lnTo>
                  <a:pt x="759" y="1089"/>
                </a:lnTo>
                <a:lnTo>
                  <a:pt x="534" y="963"/>
                </a:lnTo>
                <a:lnTo>
                  <a:pt x="327" y="777"/>
                </a:lnTo>
                <a:lnTo>
                  <a:pt x="171" y="570"/>
                </a:lnTo>
                <a:lnTo>
                  <a:pt x="72" y="378"/>
                </a:lnTo>
                <a:lnTo>
                  <a:pt x="18" y="180"/>
                </a:lnTo>
                <a:lnTo>
                  <a:pt x="0" y="0"/>
                </a:lnTo>
                <a:lnTo>
                  <a:pt x="246" y="3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847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99040" y="1980360"/>
            <a:ext cx="803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ction started Wednesday, February 18,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 128 rounds ending March 28,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01200" y="3366360"/>
            <a:ext cx="71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ate very few successful deploym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99400" y="4236120"/>
            <a:ext cx="751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now only two options for deploy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 to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 to Multi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 WE NEED TO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KE IT WOR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t Effective at &lt; 1 meg to 25 M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mit Blind Sp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ver Larger Area (w/ limited big us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p to 99.999% ‘Up Time’ (carrier gra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undant Routes (multiple path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st Deployment (easy align and mou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lexible Bandwidth (change w/o visi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THE CUSTOMER WA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85800" y="22096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ame things customers need in the big 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990720" y="2909880"/>
            <a:ext cx="4572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 speed connections t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ir office / home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ndors / inven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anch off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f site data storage (9-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791320" y="3124080"/>
            <a:ext cx="25905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ot as fast as large busin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 few meg will do for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057400" y="60199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of course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6" name=""/>
          <p:cNvGraphicFramePr/>
          <p:nvPr/>
        </p:nvGraphicFramePr>
        <p:xfrm>
          <a:off x="304920" y="932040"/>
          <a:ext cx="8381880" cy="56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32040"/>
                    <a:ext cx="8381880" cy="56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8" name=""/>
          <p:cNvGrpSpPr/>
          <p:nvPr/>
        </p:nvGrpSpPr>
        <p:grpSpPr>
          <a:xfrm>
            <a:off x="840240" y="1186920"/>
            <a:ext cx="7770240" cy="4559760"/>
            <a:chOff x="840240" y="1186920"/>
            <a:chExt cx="7770240" cy="4559760"/>
          </a:xfrm>
        </p:grpSpPr>
        <p:graphicFrame>
          <p:nvGraphicFramePr>
            <p:cNvPr id="879" name=""/>
            <p:cNvGraphicFramePr/>
            <p:nvPr/>
          </p:nvGraphicFramePr>
          <p:xfrm>
            <a:off x="5334120" y="2590920"/>
            <a:ext cx="3276360" cy="3155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4120" y="2590920"/>
                      <a:ext cx="3276360" cy="315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81" name=""/>
            <p:cNvGrpSpPr/>
            <p:nvPr/>
          </p:nvGrpSpPr>
          <p:grpSpPr>
            <a:xfrm>
              <a:off x="840240" y="1186920"/>
              <a:ext cx="7768800" cy="4281840"/>
              <a:chOff x="840240" y="1186920"/>
              <a:chExt cx="7768800" cy="4281840"/>
            </a:xfrm>
          </p:grpSpPr>
          <p:graphicFrame>
            <p:nvGraphicFramePr>
              <p:cNvPr id="882" name=""/>
              <p:cNvGraphicFramePr/>
              <p:nvPr/>
            </p:nvGraphicFramePr>
            <p:xfrm>
              <a:off x="1369800" y="1390680"/>
              <a:ext cx="6097680" cy="40780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88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369800" y="1390680"/>
                        <a:ext cx="6097680" cy="407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84" name=""/>
              <p:cNvSpPr txBox="1"/>
              <p:nvPr/>
            </p:nvSpPr>
            <p:spPr>
              <a:xfrm>
                <a:off x="5941800" y="3314880"/>
                <a:ext cx="60984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17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5" name=""/>
              <p:cNvSpPr txBox="1"/>
              <p:nvPr/>
            </p:nvSpPr>
            <p:spPr>
              <a:xfrm>
                <a:off x="5865840" y="4305240"/>
                <a:ext cx="60948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13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6" name=""/>
              <p:cNvSpPr txBox="1"/>
              <p:nvPr/>
            </p:nvSpPr>
            <p:spPr>
              <a:xfrm>
                <a:off x="7008840" y="3848040"/>
                <a:ext cx="60948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36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7" name=""/>
              <p:cNvSpPr txBox="1"/>
              <p:nvPr/>
            </p:nvSpPr>
            <p:spPr>
              <a:xfrm>
                <a:off x="1674720" y="3543480"/>
                <a:ext cx="137160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5,951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40240" y="1186920"/>
                <a:ext cx="7075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Green Bay Small/Medium Business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228320" y="1899720"/>
                <a:ext cx="29347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-250 Employe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51-500 Employe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417920" y="1964160"/>
                <a:ext cx="4191120" cy="7038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Target Market in Gre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  </a:t>
                </a: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~  6,000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988920" y="2133720"/>
                <a:ext cx="533520" cy="1295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6780240" y="2743200"/>
                <a:ext cx="380880" cy="990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4188960" y="2743200"/>
                <a:ext cx="2590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988920" y="2133720"/>
                <a:ext cx="304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5" name=""/>
          <p:cNvGrpSpPr/>
          <p:nvPr/>
        </p:nvGrpSpPr>
        <p:grpSpPr>
          <a:xfrm>
            <a:off x="2438280" y="5409000"/>
            <a:ext cx="5936400" cy="1222920"/>
            <a:chOff x="2438280" y="5409000"/>
            <a:chExt cx="5936400" cy="1222920"/>
          </a:xfrm>
        </p:grpSpPr>
        <p:sp>
          <p:nvSpPr>
            <p:cNvPr id="896" name=""/>
            <p:cNvSpPr/>
            <p:nvPr/>
          </p:nvSpPr>
          <p:spPr>
            <a:xfrm>
              <a:off x="4868640" y="5409000"/>
              <a:ext cx="3506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501-1000 Employees (dark bl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1000+ Employees (light blu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438280" y="6172200"/>
              <a:ext cx="579132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 Large Businesses in Blue Served by Fib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533520" y="4572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E THERE ANY CUSTOM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lmds" descr=""/>
          <p:cNvPicPr/>
          <p:nvPr/>
        </p:nvPicPr>
        <p:blipFill>
          <a:blip r:embed="rId1"/>
          <a:stretch/>
        </p:blipFill>
        <p:spPr>
          <a:xfrm>
            <a:off x="76320" y="0"/>
            <a:ext cx="9067680" cy="586728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en B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038480" y="3352680"/>
            <a:ext cx="45720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1752480" y="3048120"/>
            <a:ext cx="1676520" cy="685800"/>
            <a:chOff x="1752480" y="3048120"/>
            <a:chExt cx="1676520" cy="685800"/>
          </a:xfrm>
        </p:grpSpPr>
        <p:sp>
          <p:nvSpPr>
            <p:cNvPr id="903" name=""/>
            <p:cNvSpPr/>
            <p:nvPr/>
          </p:nvSpPr>
          <p:spPr>
            <a:xfrm>
              <a:off x="2971800" y="30481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752480" y="31240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124080" y="3352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590920" y="31240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2590920" y="1600200"/>
            <a:ext cx="4419360" cy="2743200"/>
            <a:chOff x="2590920" y="1600200"/>
            <a:chExt cx="4419360" cy="2743200"/>
          </a:xfrm>
        </p:grpSpPr>
        <p:sp>
          <p:nvSpPr>
            <p:cNvPr id="908" name=""/>
            <p:cNvSpPr/>
            <p:nvPr/>
          </p:nvSpPr>
          <p:spPr>
            <a:xfrm>
              <a:off x="3886200" y="36576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343400" y="35812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267080" y="3962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419720" y="160020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7057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5909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505320" y="24382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3581280" y="1219320"/>
            <a:ext cx="1371600" cy="2971800"/>
            <a:chOff x="3581280" y="1219320"/>
            <a:chExt cx="1371600" cy="2971800"/>
          </a:xfrm>
        </p:grpSpPr>
        <p:sp>
          <p:nvSpPr>
            <p:cNvPr id="916" name=""/>
            <p:cNvSpPr/>
            <p:nvPr/>
          </p:nvSpPr>
          <p:spPr>
            <a:xfrm>
              <a:off x="3962520" y="3505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343400" y="2819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038480" y="38098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581280" y="12193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267080" y="1676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648320" y="2362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038480" y="2209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572000" y="29718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2286000"/>
            <a:ext cx="182880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ost don’t have a NFL team or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Lambea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Fiel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4876920"/>
            <a:ext cx="373356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ILLAGES &amp; TOW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5" name="camera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926" name=""/>
          <p:cNvSpPr/>
          <p:nvPr/>
        </p:nvSpPr>
        <p:spPr>
          <a:xfrm>
            <a:off x="685800" y="2209680"/>
            <a:ext cx="1600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f priced right it can work in villages  and small tow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lmds" descr=""/>
          <p:cNvPicPr/>
          <p:nvPr/>
        </p:nvPicPr>
        <p:blipFill>
          <a:blip r:embed="rId1"/>
          <a:stretch/>
        </p:blipFill>
        <p:spPr>
          <a:xfrm>
            <a:off x="76320" y="0"/>
            <a:ext cx="9067680" cy="586728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en B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038480" y="3352680"/>
            <a:ext cx="45720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1752480" y="3048120"/>
            <a:ext cx="1676520" cy="685800"/>
            <a:chOff x="1752480" y="3048120"/>
            <a:chExt cx="1676520" cy="685800"/>
          </a:xfrm>
        </p:grpSpPr>
        <p:sp>
          <p:nvSpPr>
            <p:cNvPr id="931" name=""/>
            <p:cNvSpPr/>
            <p:nvPr/>
          </p:nvSpPr>
          <p:spPr>
            <a:xfrm>
              <a:off x="2971800" y="30481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752480" y="31240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124080" y="3352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590920" y="31240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2590920" y="1600200"/>
            <a:ext cx="4419360" cy="2743200"/>
            <a:chOff x="2590920" y="1600200"/>
            <a:chExt cx="4419360" cy="2743200"/>
          </a:xfrm>
        </p:grpSpPr>
        <p:sp>
          <p:nvSpPr>
            <p:cNvPr id="936" name=""/>
            <p:cNvSpPr/>
            <p:nvPr/>
          </p:nvSpPr>
          <p:spPr>
            <a:xfrm>
              <a:off x="3886200" y="36576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343400" y="35812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267080" y="3962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419720" y="160020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7057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5909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505320" y="24382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3581280" y="1219320"/>
            <a:ext cx="1371600" cy="2971800"/>
            <a:chOff x="3581280" y="1219320"/>
            <a:chExt cx="1371600" cy="2971800"/>
          </a:xfrm>
        </p:grpSpPr>
        <p:sp>
          <p:nvSpPr>
            <p:cNvPr id="944" name=""/>
            <p:cNvSpPr/>
            <p:nvPr/>
          </p:nvSpPr>
          <p:spPr>
            <a:xfrm>
              <a:off x="3962520" y="3505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343400" y="2819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038480" y="38098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581280" y="12193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267080" y="1676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648320" y="2362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038480" y="2209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572000" y="29718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1676520" y="990720"/>
            <a:ext cx="5715000" cy="3352680"/>
          </a:xfrm>
          <a:custGeom>
            <a:avLst/>
            <a:gdLst/>
            <a:ahLst/>
            <a:rect l="l" t="t" r="r" b="b"/>
            <a:pathLst>
              <a:path w="3600" h="2112">
                <a:moveTo>
                  <a:pt x="528" y="480"/>
                </a:moveTo>
                <a:lnTo>
                  <a:pt x="528" y="1104"/>
                </a:lnTo>
                <a:lnTo>
                  <a:pt x="0" y="1200"/>
                </a:lnTo>
                <a:lnTo>
                  <a:pt x="0" y="1584"/>
                </a:lnTo>
                <a:lnTo>
                  <a:pt x="912" y="2064"/>
                </a:lnTo>
                <a:lnTo>
                  <a:pt x="1680" y="2112"/>
                </a:lnTo>
                <a:lnTo>
                  <a:pt x="2112" y="1104"/>
                </a:lnTo>
                <a:lnTo>
                  <a:pt x="2928" y="912"/>
                </a:lnTo>
                <a:lnTo>
                  <a:pt x="3504" y="1104"/>
                </a:lnTo>
                <a:lnTo>
                  <a:pt x="3600" y="816"/>
                </a:lnTo>
                <a:lnTo>
                  <a:pt x="3264" y="384"/>
                </a:lnTo>
                <a:lnTo>
                  <a:pt x="2976" y="336"/>
                </a:lnTo>
                <a:lnTo>
                  <a:pt x="1584" y="0"/>
                </a:lnTo>
                <a:lnTo>
                  <a:pt x="528" y="480"/>
                </a:ln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midwest%20pop" descr=""/>
          <p:cNvPicPr/>
          <p:nvPr/>
        </p:nvPicPr>
        <p:blipFill>
          <a:blip r:embed="rId1"/>
          <a:stretch/>
        </p:blipFill>
        <p:spPr>
          <a:xfrm>
            <a:off x="-4114800" y="-533520"/>
            <a:ext cx="13411080" cy="9753840"/>
          </a:xfrm>
          <a:prstGeom prst="rect">
            <a:avLst/>
          </a:prstGeom>
          <a:ln w="0">
            <a:noFill/>
          </a:ln>
        </p:spPr>
      </p:pic>
      <p:sp>
        <p:nvSpPr>
          <p:cNvPr id="954" name=""/>
          <p:cNvSpPr/>
          <p:nvPr/>
        </p:nvSpPr>
        <p:spPr>
          <a:xfrm>
            <a:off x="2514600" y="990720"/>
            <a:ext cx="5715000" cy="3352680"/>
          </a:xfrm>
          <a:custGeom>
            <a:avLst/>
            <a:gdLst/>
            <a:ahLst/>
            <a:rect l="l" t="t" r="r" b="b"/>
            <a:pathLst>
              <a:path w="3600" h="2112">
                <a:moveTo>
                  <a:pt x="528" y="480"/>
                </a:moveTo>
                <a:lnTo>
                  <a:pt x="528" y="1104"/>
                </a:lnTo>
                <a:lnTo>
                  <a:pt x="0" y="1200"/>
                </a:lnTo>
                <a:lnTo>
                  <a:pt x="0" y="1584"/>
                </a:lnTo>
                <a:lnTo>
                  <a:pt x="912" y="2064"/>
                </a:lnTo>
                <a:lnTo>
                  <a:pt x="1680" y="2112"/>
                </a:lnTo>
                <a:lnTo>
                  <a:pt x="2112" y="1104"/>
                </a:lnTo>
                <a:lnTo>
                  <a:pt x="2928" y="912"/>
                </a:lnTo>
                <a:lnTo>
                  <a:pt x="3504" y="1104"/>
                </a:lnTo>
                <a:lnTo>
                  <a:pt x="3600" y="816"/>
                </a:lnTo>
                <a:lnTo>
                  <a:pt x="3264" y="384"/>
                </a:lnTo>
                <a:lnTo>
                  <a:pt x="2976" y="336"/>
                </a:lnTo>
                <a:lnTo>
                  <a:pt x="1584" y="0"/>
                </a:lnTo>
                <a:lnTo>
                  <a:pt x="528" y="480"/>
                </a:ln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Nsight Telservices </a:t>
            </a:r>
            <a:br>
              <a:rPr sz="4400"/>
            </a:br>
            <a:r>
              <a:rPr b="0" lang="en-US" sz="4000" spc="-1" strike="noStrike">
                <a:solidFill>
                  <a:srgbClr val="3333cc"/>
                </a:solidFill>
                <a:latin typeface="Arial Black"/>
              </a:rPr>
              <a:t>Has Chos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413000" y="4769280"/>
            <a:ext cx="499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entury Gothic"/>
              </a:rPr>
              <a:t>MESH</a:t>
            </a:r>
            <a:r>
              <a:rPr b="0" i="1" lang="en-GB" sz="5400" spc="-1" strike="noStrike">
                <a:solidFill>
                  <a:srgbClr val="000000"/>
                </a:solidFill>
                <a:latin typeface="Century Gothic"/>
              </a:rPr>
              <a:t>WORKS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™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7" name="Radiant-jpeg2" descr=""/>
          <p:cNvPicPr/>
          <p:nvPr/>
        </p:nvPicPr>
        <p:blipFill>
          <a:blip r:embed="rId1"/>
          <a:stretch/>
        </p:blipFill>
        <p:spPr>
          <a:xfrm>
            <a:off x="914400" y="3200400"/>
            <a:ext cx="3886200" cy="1503360"/>
          </a:xfrm>
          <a:prstGeom prst="rect">
            <a:avLst/>
          </a:prstGeom>
          <a:ln w="0">
            <a:noFill/>
          </a:ln>
        </p:spPr>
      </p:pic>
      <p:pic>
        <p:nvPicPr>
          <p:cNvPr id="958" name="ant3" descr=""/>
          <p:cNvPicPr/>
          <p:nvPr/>
        </p:nvPicPr>
        <p:blipFill>
          <a:blip r:embed="rId2"/>
          <a:stretch/>
        </p:blipFill>
        <p:spPr>
          <a:xfrm>
            <a:off x="4724280" y="2209680"/>
            <a:ext cx="389916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Promise of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om Radi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0" name="oslothumb" descr=""/>
          <p:cNvPicPr/>
          <p:nvPr/>
        </p:nvPicPr>
        <p:blipFill>
          <a:blip r:embed="rId1"/>
          <a:stretch/>
        </p:blipFill>
        <p:spPr>
          <a:xfrm>
            <a:off x="609480" y="1901880"/>
            <a:ext cx="7925040" cy="4292640"/>
          </a:xfrm>
          <a:prstGeom prst="rect">
            <a:avLst/>
          </a:prstGeom>
          <a:ln w="0">
            <a:noFill/>
          </a:ln>
        </p:spPr>
      </p:pic>
      <p:sp>
        <p:nvSpPr>
          <p:cNvPr id="961" name=""/>
          <p:cNvSpPr/>
          <p:nvPr/>
        </p:nvSpPr>
        <p:spPr>
          <a:xfrm>
            <a:off x="1625400" y="1156320"/>
            <a:ext cx="30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MESH</a:t>
            </a:r>
            <a:r>
              <a:rPr b="0" i="1" lang="en-GB" sz="3200" spc="-1" strike="noStrike">
                <a:solidFill>
                  <a:srgbClr val="000000"/>
                </a:solidFill>
                <a:latin typeface="Century Gothic"/>
              </a:rPr>
              <a:t>WORK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965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591640" y="4770000"/>
            <a:ext cx="376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Mesh Subscriber Node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lightly more expens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than today’s PM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ubscriber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465200" y="3093480"/>
            <a:ext cx="46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No costly PMP 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Base S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98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508200" y="3541680"/>
            <a:ext cx="2568600" cy="730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>
            <a:off x="2855520" y="3159000"/>
            <a:ext cx="2530440" cy="2916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782720" y="2390760"/>
            <a:ext cx="1111320" cy="3646440"/>
          </a:xfrm>
          <a:custGeom>
            <a:avLst/>
            <a:gdLst/>
            <a:ahLst/>
            <a:rect l="l" t="t" r="r" b="b"/>
            <a:pathLst>
              <a:path w="58" h="190">
                <a:moveTo>
                  <a:pt x="23" y="119"/>
                </a:moveTo>
                <a:lnTo>
                  <a:pt x="0" y="0"/>
                </a:lnTo>
                <a:lnTo>
                  <a:pt x="58" y="190"/>
                </a:ln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V="1">
            <a:off x="2209680" y="3581280"/>
            <a:ext cx="1295640" cy="1067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209680" y="4648320"/>
            <a:ext cx="609840" cy="1371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 flipV="1">
            <a:off x="1752120" y="2361960"/>
            <a:ext cx="1752840" cy="1143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3581280" y="3123720"/>
            <a:ext cx="1828800" cy="381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 flipV="1">
            <a:off x="5409720" y="3124080"/>
            <a:ext cx="685800" cy="1067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2285640" y="4267080"/>
            <a:ext cx="3809880" cy="381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2895480" y="4267080"/>
            <a:ext cx="3200400" cy="18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 flipV="1">
            <a:off x="1752480" y="2362320"/>
            <a:ext cx="3657600" cy="7617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00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5410080" y="2209680"/>
            <a:ext cx="22100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PTICAL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IBER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OUTE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019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1" name=""/>
          <p:cNvSpPr/>
          <p:nvPr/>
        </p:nvSpPr>
        <p:spPr>
          <a:xfrm>
            <a:off x="457200" y="898560"/>
            <a:ext cx="8153280" cy="70344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sts Grow As Customers Sign Up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02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025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026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7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028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29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030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32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033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4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5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6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7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8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9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040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42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8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1828800" y="2133360"/>
            <a:ext cx="1219320" cy="22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H="1">
            <a:off x="1371600" y="2438280"/>
            <a:ext cx="380880" cy="1524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124080" y="2133720"/>
            <a:ext cx="18288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5029200" y="1981080"/>
            <a:ext cx="2514600" cy="152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H="1">
            <a:off x="7467480" y="1981080"/>
            <a:ext cx="76320" cy="1752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467480" y="3733920"/>
            <a:ext cx="304920" cy="1676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5943600" y="5410080"/>
            <a:ext cx="1752480" cy="609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2971440" y="6019920"/>
            <a:ext cx="28954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H="1">
            <a:off x="1066680" y="6019920"/>
            <a:ext cx="1828800" cy="22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09480" y="457200"/>
            <a:ext cx="787572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s the System Grows the Me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Be Redesigned Remote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071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tennas Remotely Move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 TRUCK RO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4" name="ant3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17552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07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7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078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079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0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2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083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85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086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7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8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9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0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1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2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093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95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09480" y="380880"/>
            <a:ext cx="777240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s Demand Grows More Capacity Is Inserted Into the Me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4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115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4800600" y="1905120"/>
            <a:ext cx="3124080" cy="3733560"/>
            <a:chOff x="4800600" y="1905120"/>
            <a:chExt cx="3124080" cy="3733560"/>
          </a:xfrm>
        </p:grpSpPr>
        <p:sp>
          <p:nvSpPr>
            <p:cNvPr id="1118" name=""/>
            <p:cNvSpPr/>
            <p:nvPr/>
          </p:nvSpPr>
          <p:spPr>
            <a:xfrm>
              <a:off x="4800600" y="1905120"/>
              <a:ext cx="380880" cy="457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543800" y="5181480"/>
              <a:ext cx="380880" cy="457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0880" y="2286000"/>
            <a:ext cx="1828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hey do have a lot of resid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1905120"/>
            <a:ext cx="6248520" cy="3962160"/>
          </a:xfrm>
          <a:custGeom>
            <a:avLst/>
            <a:gdLst/>
            <a:ahLst/>
            <a:rect l="l" t="t" r="r" b="b"/>
            <a:pathLst>
              <a:path w="3936" h="2496">
                <a:moveTo>
                  <a:pt x="0" y="0"/>
                </a:moveTo>
                <a:lnTo>
                  <a:pt x="3936" y="0"/>
                </a:lnTo>
                <a:lnTo>
                  <a:pt x="3936" y="1584"/>
                </a:lnTo>
                <a:lnTo>
                  <a:pt x="3312" y="2496"/>
                </a:lnTo>
                <a:lnTo>
                  <a:pt x="1344" y="1536"/>
                </a:lnTo>
                <a:lnTo>
                  <a:pt x="816" y="720"/>
                </a:lnTo>
                <a:lnTo>
                  <a:pt x="480" y="1104"/>
                </a:lnTo>
                <a:lnTo>
                  <a:pt x="0" y="8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3733920"/>
            <a:ext cx="1600200" cy="2590560"/>
          </a:xfrm>
          <a:custGeom>
            <a:avLst/>
            <a:gdLst/>
            <a:ahLst/>
            <a:rect l="l" t="t" r="r" b="b"/>
            <a:pathLst>
              <a:path w="1008" h="1632">
                <a:moveTo>
                  <a:pt x="0" y="0"/>
                </a:moveTo>
                <a:lnTo>
                  <a:pt x="1008" y="528"/>
                </a:lnTo>
                <a:lnTo>
                  <a:pt x="576" y="1488"/>
                </a:lnTo>
                <a:lnTo>
                  <a:pt x="192" y="1296"/>
                </a:lnTo>
                <a:lnTo>
                  <a:pt x="0" y="16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5029200"/>
            <a:ext cx="1676160" cy="1523880"/>
          </a:xfrm>
          <a:custGeom>
            <a:avLst/>
            <a:gdLst/>
            <a:ahLst/>
            <a:rect l="l" t="t" r="r" b="b"/>
            <a:pathLst>
              <a:path w="1056" h="960">
                <a:moveTo>
                  <a:pt x="432" y="0"/>
                </a:moveTo>
                <a:lnTo>
                  <a:pt x="0" y="960"/>
                </a:lnTo>
                <a:lnTo>
                  <a:pt x="720" y="960"/>
                </a:lnTo>
                <a:lnTo>
                  <a:pt x="1056" y="288"/>
                </a:lnTo>
                <a:lnTo>
                  <a:pt x="432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905120" y="2742840"/>
            <a:ext cx="3276360" cy="6858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3429000"/>
            <a:ext cx="2819520" cy="2133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3429000"/>
            <a:ext cx="1447560" cy="17524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121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2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123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124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5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27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128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30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131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2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3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4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5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6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7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138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1073160" y="2006640"/>
            <a:ext cx="6670800" cy="4221000"/>
            <a:chOff x="1073160" y="2006640"/>
            <a:chExt cx="6670800" cy="4221000"/>
          </a:xfrm>
        </p:grpSpPr>
        <p:sp>
          <p:nvSpPr>
            <p:cNvPr id="1140" name=""/>
            <p:cNvSpPr/>
            <p:nvPr/>
          </p:nvSpPr>
          <p:spPr>
            <a:xfrm>
              <a:off x="1073160" y="2006640"/>
              <a:ext cx="6670800" cy="4221000"/>
            </a:xfrm>
            <a:custGeom>
              <a:avLst/>
              <a:gdLst/>
              <a:ahLst/>
              <a:rect l="l" t="t" r="r" b="b"/>
              <a:pathLst>
                <a:path w="348" h="220">
                  <a:moveTo>
                    <a:pt x="37" y="22"/>
                  </a:moveTo>
                  <a:lnTo>
                    <a:pt x="107" y="9"/>
                  </a:lnTo>
                  <a:lnTo>
                    <a:pt x="204" y="6"/>
                  </a:lnTo>
                  <a:lnTo>
                    <a:pt x="339" y="0"/>
                  </a:lnTo>
                  <a:lnTo>
                    <a:pt x="227" y="60"/>
                  </a:lnTo>
                  <a:lnTo>
                    <a:pt x="129" y="80"/>
                  </a:lnTo>
                  <a:lnTo>
                    <a:pt x="14" y="106"/>
                  </a:lnTo>
                  <a:lnTo>
                    <a:pt x="60" y="138"/>
                  </a:lnTo>
                  <a:lnTo>
                    <a:pt x="124" y="149"/>
                  </a:lnTo>
                  <a:lnTo>
                    <a:pt x="201" y="167"/>
                  </a:lnTo>
                  <a:lnTo>
                    <a:pt x="265" y="116"/>
                  </a:lnTo>
                  <a:lnTo>
                    <a:pt x="334" y="90"/>
                  </a:lnTo>
                  <a:lnTo>
                    <a:pt x="348" y="177"/>
                  </a:lnTo>
                  <a:lnTo>
                    <a:pt x="249" y="211"/>
                  </a:lnTo>
                  <a:lnTo>
                    <a:pt x="93" y="212"/>
                  </a:lnTo>
                  <a:lnTo>
                    <a:pt x="0" y="22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205000" y="2025720"/>
              <a:ext cx="5329440" cy="4011480"/>
            </a:xfrm>
            <a:custGeom>
              <a:avLst/>
              <a:gdLst/>
              <a:ahLst/>
              <a:rect l="l" t="t" r="r" b="b"/>
              <a:pathLst>
                <a:path w="278" h="209">
                  <a:moveTo>
                    <a:pt x="193" y="209"/>
                  </a:moveTo>
                  <a:lnTo>
                    <a:pt x="140" y="165"/>
                  </a:lnTo>
                  <a:lnTo>
                    <a:pt x="169" y="58"/>
                  </a:lnTo>
                  <a:lnTo>
                    <a:pt x="143" y="3"/>
                  </a:lnTo>
                  <a:lnTo>
                    <a:pt x="70" y="79"/>
                  </a:lnTo>
                  <a:lnTo>
                    <a:pt x="47" y="6"/>
                  </a:lnTo>
                  <a:lnTo>
                    <a:pt x="0" y="137"/>
                  </a:lnTo>
                  <a:lnTo>
                    <a:pt x="35" y="209"/>
                  </a:lnTo>
                  <a:lnTo>
                    <a:pt x="66" y="146"/>
                  </a:lnTo>
                  <a:lnTo>
                    <a:pt x="204" y="117"/>
                  </a:lnTo>
                  <a:lnTo>
                    <a:pt x="278" y="0"/>
                  </a:lnTo>
                  <a:lnTo>
                    <a:pt x="273" y="89"/>
                  </a:lnTo>
                  <a:lnTo>
                    <a:pt x="193" y="209"/>
                  </a:ln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092240" y="2390760"/>
              <a:ext cx="690480" cy="3836880"/>
            </a:xfrm>
            <a:custGeom>
              <a:avLst/>
              <a:gdLst/>
              <a:ahLst/>
              <a:rect l="l" t="t" r="r" b="b"/>
              <a:pathLst>
                <a:path w="36" h="200">
                  <a:moveTo>
                    <a:pt x="36" y="0"/>
                  </a:moveTo>
                  <a:lnTo>
                    <a:pt x="14" y="88"/>
                  </a:lnTo>
                  <a:lnTo>
                    <a:pt x="0" y="20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1054080" y="1987560"/>
            <a:ext cx="6651720" cy="4259160"/>
            <a:chOff x="1054080" y="1987560"/>
            <a:chExt cx="6651720" cy="4259160"/>
          </a:xfrm>
        </p:grpSpPr>
        <p:sp>
          <p:nvSpPr>
            <p:cNvPr id="1144" name=""/>
            <p:cNvSpPr/>
            <p:nvPr/>
          </p:nvSpPr>
          <p:spPr>
            <a:xfrm>
              <a:off x="1073160" y="2390760"/>
              <a:ext cx="6364440" cy="3798720"/>
            </a:xfrm>
            <a:custGeom>
              <a:avLst/>
              <a:gdLst/>
              <a:ahLst/>
              <a:rect l="l" t="t" r="r" b="b"/>
              <a:pathLst>
                <a:path w="332" h="198">
                  <a:moveTo>
                    <a:pt x="332" y="72"/>
                  </a:moveTo>
                  <a:lnTo>
                    <a:pt x="228" y="40"/>
                  </a:lnTo>
                  <a:lnTo>
                    <a:pt x="58" y="119"/>
                  </a:lnTo>
                  <a:lnTo>
                    <a:pt x="253" y="191"/>
                  </a:lnTo>
                  <a:lnTo>
                    <a:pt x="228" y="40"/>
                  </a:lnTo>
                  <a:lnTo>
                    <a:pt x="37" y="2"/>
                  </a:lnTo>
                  <a:lnTo>
                    <a:pt x="126" y="127"/>
                  </a:lnTo>
                  <a:lnTo>
                    <a:pt x="0" y="198"/>
                  </a:lnTo>
                  <a:lnTo>
                    <a:pt x="128" y="60"/>
                  </a:lnTo>
                  <a:lnTo>
                    <a:pt x="36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054080" y="3522600"/>
              <a:ext cx="6651720" cy="2724120"/>
            </a:xfrm>
            <a:custGeom>
              <a:avLst/>
              <a:gdLst/>
              <a:ahLst/>
              <a:rect l="l" t="t" r="r" b="b"/>
              <a:pathLst>
                <a:path w="347" h="142">
                  <a:moveTo>
                    <a:pt x="0" y="142"/>
                  </a:moveTo>
                  <a:lnTo>
                    <a:pt x="201" y="86"/>
                  </a:lnTo>
                  <a:lnTo>
                    <a:pt x="347" y="97"/>
                  </a:lnTo>
                  <a:lnTo>
                    <a:pt x="130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451320" y="1987560"/>
              <a:ext cx="4101840" cy="410688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0" y="147"/>
                  </a:moveTo>
                  <a:lnTo>
                    <a:pt x="214" y="0"/>
                  </a:lnTo>
                  <a:lnTo>
                    <a:pt x="127" y="214"/>
                  </a:lnTo>
                  <a:lnTo>
                    <a:pt x="78" y="8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379520" y="2179440"/>
              <a:ext cx="4735440" cy="3857760"/>
            </a:xfrm>
            <a:custGeom>
              <a:avLst/>
              <a:gdLst/>
              <a:ahLst/>
              <a:rect l="l" t="t" r="r" b="b"/>
              <a:pathLst>
                <a:path w="247" h="201">
                  <a:moveTo>
                    <a:pt x="0" y="97"/>
                  </a:moveTo>
                  <a:lnTo>
                    <a:pt x="247" y="109"/>
                  </a:lnTo>
                  <a:lnTo>
                    <a:pt x="88" y="0"/>
                  </a:lnTo>
                  <a:lnTo>
                    <a:pt x="78" y="201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067200" y="2160360"/>
              <a:ext cx="3780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1399680" y="2122560"/>
              <a:ext cx="3544920" cy="18986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565440" y="3522600"/>
              <a:ext cx="3890880" cy="24912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2894040" y="2025360"/>
              <a:ext cx="4640400" cy="401148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153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09480" y="380880"/>
            <a:ext cx="777240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the Mesh is Rerouted to Adjust for Customer Dem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173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4800600" y="1905120"/>
            <a:ext cx="3124080" cy="3733560"/>
            <a:chOff x="4800600" y="1905120"/>
            <a:chExt cx="3124080" cy="3733560"/>
          </a:xfrm>
        </p:grpSpPr>
        <p:sp>
          <p:nvSpPr>
            <p:cNvPr id="1176" name=""/>
            <p:cNvSpPr/>
            <p:nvPr/>
          </p:nvSpPr>
          <p:spPr>
            <a:xfrm>
              <a:off x="4800600" y="1905120"/>
              <a:ext cx="380880" cy="4572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543800" y="5181480"/>
              <a:ext cx="380880" cy="4572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8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179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181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182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3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184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85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186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88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189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0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1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2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3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4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5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196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1073160" y="2006640"/>
            <a:ext cx="6670800" cy="4221000"/>
            <a:chOff x="1073160" y="2006640"/>
            <a:chExt cx="6670800" cy="4221000"/>
          </a:xfrm>
        </p:grpSpPr>
        <p:sp>
          <p:nvSpPr>
            <p:cNvPr id="1198" name=""/>
            <p:cNvSpPr/>
            <p:nvPr/>
          </p:nvSpPr>
          <p:spPr>
            <a:xfrm>
              <a:off x="1073160" y="2006640"/>
              <a:ext cx="6670800" cy="4221000"/>
            </a:xfrm>
            <a:custGeom>
              <a:avLst/>
              <a:gdLst/>
              <a:ahLst/>
              <a:rect l="l" t="t" r="r" b="b"/>
              <a:pathLst>
                <a:path w="348" h="220">
                  <a:moveTo>
                    <a:pt x="37" y="22"/>
                  </a:moveTo>
                  <a:lnTo>
                    <a:pt x="107" y="9"/>
                  </a:lnTo>
                  <a:lnTo>
                    <a:pt x="204" y="6"/>
                  </a:lnTo>
                  <a:lnTo>
                    <a:pt x="339" y="0"/>
                  </a:lnTo>
                  <a:lnTo>
                    <a:pt x="227" y="60"/>
                  </a:lnTo>
                  <a:lnTo>
                    <a:pt x="129" y="80"/>
                  </a:lnTo>
                  <a:lnTo>
                    <a:pt x="14" y="106"/>
                  </a:lnTo>
                  <a:lnTo>
                    <a:pt x="60" y="138"/>
                  </a:lnTo>
                  <a:lnTo>
                    <a:pt x="124" y="149"/>
                  </a:lnTo>
                  <a:lnTo>
                    <a:pt x="201" y="167"/>
                  </a:lnTo>
                  <a:lnTo>
                    <a:pt x="265" y="116"/>
                  </a:lnTo>
                  <a:lnTo>
                    <a:pt x="334" y="90"/>
                  </a:lnTo>
                  <a:lnTo>
                    <a:pt x="348" y="177"/>
                  </a:lnTo>
                  <a:lnTo>
                    <a:pt x="249" y="211"/>
                  </a:lnTo>
                  <a:lnTo>
                    <a:pt x="93" y="212"/>
                  </a:lnTo>
                  <a:lnTo>
                    <a:pt x="0" y="22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205000" y="2025720"/>
              <a:ext cx="5329440" cy="4011480"/>
            </a:xfrm>
            <a:custGeom>
              <a:avLst/>
              <a:gdLst/>
              <a:ahLst/>
              <a:rect l="l" t="t" r="r" b="b"/>
              <a:pathLst>
                <a:path w="278" h="209">
                  <a:moveTo>
                    <a:pt x="193" y="209"/>
                  </a:moveTo>
                  <a:lnTo>
                    <a:pt x="140" y="165"/>
                  </a:lnTo>
                  <a:lnTo>
                    <a:pt x="169" y="58"/>
                  </a:lnTo>
                  <a:lnTo>
                    <a:pt x="143" y="3"/>
                  </a:lnTo>
                  <a:lnTo>
                    <a:pt x="70" y="79"/>
                  </a:lnTo>
                  <a:lnTo>
                    <a:pt x="47" y="6"/>
                  </a:lnTo>
                  <a:lnTo>
                    <a:pt x="0" y="137"/>
                  </a:lnTo>
                  <a:lnTo>
                    <a:pt x="35" y="209"/>
                  </a:lnTo>
                  <a:lnTo>
                    <a:pt x="66" y="146"/>
                  </a:lnTo>
                  <a:lnTo>
                    <a:pt x="204" y="117"/>
                  </a:lnTo>
                  <a:lnTo>
                    <a:pt x="278" y="0"/>
                  </a:lnTo>
                  <a:lnTo>
                    <a:pt x="273" y="89"/>
                  </a:lnTo>
                  <a:lnTo>
                    <a:pt x="193" y="209"/>
                  </a:ln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092240" y="2390760"/>
              <a:ext cx="690480" cy="3836880"/>
            </a:xfrm>
            <a:custGeom>
              <a:avLst/>
              <a:gdLst/>
              <a:ahLst/>
              <a:rect l="l" t="t" r="r" b="b"/>
              <a:pathLst>
                <a:path w="36" h="200">
                  <a:moveTo>
                    <a:pt x="36" y="0"/>
                  </a:moveTo>
                  <a:lnTo>
                    <a:pt x="14" y="88"/>
                  </a:lnTo>
                  <a:lnTo>
                    <a:pt x="0" y="20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1" name=""/>
          <p:cNvGrpSpPr/>
          <p:nvPr/>
        </p:nvGrpSpPr>
        <p:grpSpPr>
          <a:xfrm>
            <a:off x="1054080" y="1987560"/>
            <a:ext cx="6651720" cy="4259160"/>
            <a:chOff x="1054080" y="1987560"/>
            <a:chExt cx="6651720" cy="4259160"/>
          </a:xfrm>
        </p:grpSpPr>
        <p:sp>
          <p:nvSpPr>
            <p:cNvPr id="1202" name=""/>
            <p:cNvSpPr/>
            <p:nvPr/>
          </p:nvSpPr>
          <p:spPr>
            <a:xfrm>
              <a:off x="1073160" y="2390760"/>
              <a:ext cx="6364440" cy="3798720"/>
            </a:xfrm>
            <a:custGeom>
              <a:avLst/>
              <a:gdLst/>
              <a:ahLst/>
              <a:rect l="l" t="t" r="r" b="b"/>
              <a:pathLst>
                <a:path w="332" h="198">
                  <a:moveTo>
                    <a:pt x="332" y="72"/>
                  </a:moveTo>
                  <a:lnTo>
                    <a:pt x="228" y="40"/>
                  </a:lnTo>
                  <a:lnTo>
                    <a:pt x="58" y="119"/>
                  </a:lnTo>
                  <a:lnTo>
                    <a:pt x="253" y="191"/>
                  </a:lnTo>
                  <a:lnTo>
                    <a:pt x="228" y="40"/>
                  </a:lnTo>
                  <a:lnTo>
                    <a:pt x="37" y="2"/>
                  </a:lnTo>
                  <a:lnTo>
                    <a:pt x="126" y="127"/>
                  </a:lnTo>
                  <a:lnTo>
                    <a:pt x="0" y="198"/>
                  </a:lnTo>
                  <a:lnTo>
                    <a:pt x="128" y="60"/>
                  </a:lnTo>
                  <a:lnTo>
                    <a:pt x="36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054080" y="3522600"/>
              <a:ext cx="6651720" cy="2724120"/>
            </a:xfrm>
            <a:custGeom>
              <a:avLst/>
              <a:gdLst/>
              <a:ahLst/>
              <a:rect l="l" t="t" r="r" b="b"/>
              <a:pathLst>
                <a:path w="347" h="142">
                  <a:moveTo>
                    <a:pt x="0" y="142"/>
                  </a:moveTo>
                  <a:lnTo>
                    <a:pt x="201" y="86"/>
                  </a:lnTo>
                  <a:lnTo>
                    <a:pt x="347" y="97"/>
                  </a:lnTo>
                  <a:lnTo>
                    <a:pt x="130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451320" y="1987560"/>
              <a:ext cx="4101840" cy="410688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0" y="147"/>
                  </a:moveTo>
                  <a:lnTo>
                    <a:pt x="214" y="0"/>
                  </a:lnTo>
                  <a:lnTo>
                    <a:pt x="127" y="214"/>
                  </a:lnTo>
                  <a:lnTo>
                    <a:pt x="78" y="8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379520" y="2179440"/>
              <a:ext cx="4735440" cy="3857760"/>
            </a:xfrm>
            <a:custGeom>
              <a:avLst/>
              <a:gdLst/>
              <a:ahLst/>
              <a:rect l="l" t="t" r="r" b="b"/>
              <a:pathLst>
                <a:path w="247" h="201">
                  <a:moveTo>
                    <a:pt x="0" y="97"/>
                  </a:moveTo>
                  <a:lnTo>
                    <a:pt x="247" y="109"/>
                  </a:lnTo>
                  <a:lnTo>
                    <a:pt x="88" y="0"/>
                  </a:lnTo>
                  <a:lnTo>
                    <a:pt x="78" y="201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067200" y="2160360"/>
              <a:ext cx="3780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H="1">
              <a:off x="1399680" y="2122560"/>
              <a:ext cx="3544920" cy="18986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565440" y="3522600"/>
              <a:ext cx="3890880" cy="24912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2894040" y="2025360"/>
              <a:ext cx="4640400" cy="401148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0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211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9" name="" descr=""/>
          <p:cNvPicPr/>
          <p:nvPr/>
        </p:nvPicPr>
        <p:blipFill>
          <a:blip r:embed="rId2"/>
          <a:stretch/>
        </p:blipFill>
        <p:spPr>
          <a:xfrm>
            <a:off x="3962520" y="2220840"/>
            <a:ext cx="612720" cy="1371600"/>
          </a:xfrm>
          <a:prstGeom prst="rect">
            <a:avLst/>
          </a:prstGeom>
          <a:ln w="0">
            <a:noFill/>
          </a:ln>
        </p:spPr>
      </p:pic>
      <p:sp>
        <p:nvSpPr>
          <p:cNvPr id="1230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1" name="rmesh" descr=""/>
          <p:cNvPicPr/>
          <p:nvPr/>
        </p:nvPicPr>
        <p:blipFill>
          <a:blip r:embed="rId1"/>
          <a:stretch/>
        </p:blipFill>
        <p:spPr>
          <a:xfrm>
            <a:off x="380880" y="1865160"/>
            <a:ext cx="8153640" cy="4687920"/>
          </a:xfrm>
          <a:prstGeom prst="rect">
            <a:avLst/>
          </a:prstGeom>
          <a:ln w="0">
            <a:noFill/>
          </a:ln>
        </p:spPr>
      </p:pic>
      <p:sp>
        <p:nvSpPr>
          <p:cNvPr id="1232" name=""/>
          <p:cNvSpPr/>
          <p:nvPr/>
        </p:nvSpPr>
        <p:spPr>
          <a:xfrm>
            <a:off x="1295280" y="264636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 ‘Line of Sigh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295280" y="335268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er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295280" y="411480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- 9’s  Reliability  - ‘QoS’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295280" y="4876920"/>
            <a:ext cx="54104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ndant Rou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295280" y="1905120"/>
            <a:ext cx="54104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Customer R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8" name="" descr=""/>
          <p:cNvPicPr/>
          <p:nvPr/>
        </p:nvPicPr>
        <p:blipFill>
          <a:blip r:embed="rId2"/>
          <a:stretch/>
        </p:blipFill>
        <p:spPr>
          <a:xfrm>
            <a:off x="10667880" y="525780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239" name=""/>
          <p:cNvSpPr/>
          <p:nvPr/>
        </p:nvSpPr>
        <p:spPr>
          <a:xfrm>
            <a:off x="1295280" y="563868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 Low Cost Install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609480" y="2209680"/>
            <a:ext cx="762012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nd Much Mo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1" name="green%20bay%20by%20air" descr=""/>
          <p:cNvPicPr/>
          <p:nvPr/>
        </p:nvPicPr>
        <p:blipFill>
          <a:blip r:embed="rId1"/>
          <a:stretch/>
        </p:blipFill>
        <p:spPr>
          <a:xfrm>
            <a:off x="-914400" y="0"/>
            <a:ext cx="10439280" cy="6956280"/>
          </a:xfrm>
          <a:prstGeom prst="rect">
            <a:avLst/>
          </a:prstGeom>
          <a:ln w="0">
            <a:noFill/>
          </a:ln>
        </p:spPr>
      </p:pic>
      <p:sp>
        <p:nvSpPr>
          <p:cNvPr id="1242" name=""/>
          <p:cNvSpPr txBox="1"/>
          <p:nvPr/>
        </p:nvSpPr>
        <p:spPr>
          <a:xfrm>
            <a:off x="838080" y="476280"/>
            <a:ext cx="7620120" cy="1352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e Beleive MeshWork's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for Nsigh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3" name="cowclose" descr=""/>
          <p:cNvPicPr/>
          <p:nvPr/>
        </p:nvPicPr>
        <p:blipFill>
          <a:blip r:embed="rId1"/>
          <a:stretch/>
        </p:blipFill>
        <p:spPr>
          <a:xfrm>
            <a:off x="488880" y="0"/>
            <a:ext cx="4159440" cy="6019920"/>
          </a:xfrm>
          <a:prstGeom prst="rect">
            <a:avLst/>
          </a:prstGeom>
          <a:ln w="0">
            <a:noFill/>
          </a:ln>
        </p:spPr>
      </p:pic>
      <p:sp>
        <p:nvSpPr>
          <p:cNvPr id="1244" name=""/>
          <p:cNvSpPr/>
          <p:nvPr/>
        </p:nvSpPr>
        <p:spPr>
          <a:xfrm>
            <a:off x="4683600" y="532800"/>
            <a:ext cx="415368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from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Heartl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Ame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Wisconsin, US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America’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Dairyl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196360" y="6018840"/>
            <a:ext cx="40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b’s e-mail - ceo@netnet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80880" y="2286000"/>
            <a:ext cx="1828800" cy="39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y do have a lot of residential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ocke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SME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1905120"/>
            <a:ext cx="6248520" cy="3962160"/>
          </a:xfrm>
          <a:custGeom>
            <a:avLst/>
            <a:gdLst/>
            <a:ahLst/>
            <a:rect l="l" t="t" r="r" b="b"/>
            <a:pathLst>
              <a:path w="3936" h="2496">
                <a:moveTo>
                  <a:pt x="0" y="0"/>
                </a:moveTo>
                <a:lnTo>
                  <a:pt x="3936" y="0"/>
                </a:lnTo>
                <a:lnTo>
                  <a:pt x="3936" y="1584"/>
                </a:lnTo>
                <a:lnTo>
                  <a:pt x="3312" y="2496"/>
                </a:lnTo>
                <a:lnTo>
                  <a:pt x="1344" y="1536"/>
                </a:lnTo>
                <a:lnTo>
                  <a:pt x="816" y="720"/>
                </a:lnTo>
                <a:lnTo>
                  <a:pt x="480" y="1104"/>
                </a:lnTo>
                <a:lnTo>
                  <a:pt x="3" y="8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733920"/>
            <a:ext cx="1609560" cy="2590560"/>
          </a:xfrm>
          <a:custGeom>
            <a:avLst/>
            <a:gdLst/>
            <a:ahLst/>
            <a:rect l="l" t="t" r="r" b="b"/>
            <a:pathLst>
              <a:path w="1014" h="1632">
                <a:moveTo>
                  <a:pt x="0" y="0"/>
                </a:moveTo>
                <a:lnTo>
                  <a:pt x="1014" y="480"/>
                </a:lnTo>
                <a:lnTo>
                  <a:pt x="576" y="1488"/>
                </a:lnTo>
                <a:lnTo>
                  <a:pt x="192" y="1296"/>
                </a:lnTo>
                <a:lnTo>
                  <a:pt x="0" y="16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90760" y="5029200"/>
            <a:ext cx="1662120" cy="1581120"/>
          </a:xfrm>
          <a:custGeom>
            <a:avLst/>
            <a:gdLst/>
            <a:ahLst/>
            <a:rect l="l" t="t" r="r" b="b"/>
            <a:pathLst>
              <a:path w="1047" h="996">
                <a:moveTo>
                  <a:pt x="423" y="0"/>
                </a:moveTo>
                <a:lnTo>
                  <a:pt x="0" y="993"/>
                </a:lnTo>
                <a:lnTo>
                  <a:pt x="702" y="996"/>
                </a:lnTo>
                <a:lnTo>
                  <a:pt x="1047" y="288"/>
                </a:lnTo>
                <a:lnTo>
                  <a:pt x="423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1320" y="3048120"/>
            <a:ext cx="6253200" cy="3581280"/>
          </a:xfrm>
          <a:custGeom>
            <a:avLst/>
            <a:gdLst/>
            <a:ahLst/>
            <a:rect l="l" t="t" r="r" b="b"/>
            <a:pathLst>
              <a:path w="3939" h="2256">
                <a:moveTo>
                  <a:pt x="9" y="120"/>
                </a:moveTo>
                <a:lnTo>
                  <a:pt x="483" y="384"/>
                </a:lnTo>
                <a:lnTo>
                  <a:pt x="819" y="0"/>
                </a:lnTo>
                <a:lnTo>
                  <a:pt x="1347" y="816"/>
                </a:lnTo>
                <a:lnTo>
                  <a:pt x="3315" y="1776"/>
                </a:lnTo>
                <a:lnTo>
                  <a:pt x="3939" y="864"/>
                </a:lnTo>
                <a:lnTo>
                  <a:pt x="3939" y="2256"/>
                </a:lnTo>
                <a:lnTo>
                  <a:pt x="1278" y="2241"/>
                </a:lnTo>
                <a:lnTo>
                  <a:pt x="1683" y="1536"/>
                </a:lnTo>
                <a:lnTo>
                  <a:pt x="1059" y="1248"/>
                </a:lnTo>
                <a:lnTo>
                  <a:pt x="633" y="2241"/>
                </a:lnTo>
                <a:lnTo>
                  <a:pt x="0" y="2241"/>
                </a:lnTo>
                <a:lnTo>
                  <a:pt x="3" y="2064"/>
                </a:lnTo>
                <a:lnTo>
                  <a:pt x="195" y="1728"/>
                </a:lnTo>
                <a:lnTo>
                  <a:pt x="579" y="1920"/>
                </a:lnTo>
                <a:lnTo>
                  <a:pt x="1011" y="912"/>
                </a:lnTo>
                <a:lnTo>
                  <a:pt x="3" y="432"/>
                </a:lnTo>
                <a:lnTo>
                  <a:pt x="9" y="12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752480" y="4038480"/>
            <a:ext cx="1752840" cy="990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4952880"/>
            <a:ext cx="4191120" cy="1371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ellcom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6324480" cy="50590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2286000"/>
            <a:ext cx="16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ot very many tall buil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ellcom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6324480" cy="50590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corporate" descr=""/>
          <p:cNvPicPr/>
          <p:nvPr/>
        </p:nvPicPr>
        <p:blipFill>
          <a:blip r:embed="rId2"/>
          <a:stretch/>
        </p:blipFill>
        <p:spPr>
          <a:xfrm>
            <a:off x="1600200" y="2243160"/>
            <a:ext cx="4343400" cy="3697200"/>
          </a:xfrm>
          <a:prstGeom prst="rect">
            <a:avLst/>
          </a:prstGeom>
          <a:ln w="0">
            <a:noFill/>
          </a:ln>
        </p:spPr>
      </p:pic>
      <p:pic>
        <p:nvPicPr>
          <p:cNvPr id="82" name="oldhouse2" descr=""/>
          <p:cNvPicPr/>
          <p:nvPr/>
        </p:nvPicPr>
        <p:blipFill>
          <a:blip r:embed="rId3"/>
          <a:stretch/>
        </p:blipFill>
        <p:spPr>
          <a:xfrm>
            <a:off x="4572000" y="1981080"/>
            <a:ext cx="3200400" cy="3019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343400" y="1676520"/>
            <a:ext cx="2133720" cy="36576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809880" y="2895480"/>
            <a:ext cx="32576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7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rees block LMD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209680"/>
            <a:ext cx="1295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ost are one and two stories t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Blind Spo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dia3" descr=""/>
          <p:cNvPicPr/>
          <p:nvPr/>
        </p:nvPicPr>
        <p:blipFill>
          <a:blip r:embed="rId1"/>
          <a:stretch/>
        </p:blipFill>
        <p:spPr>
          <a:xfrm>
            <a:off x="533520" y="1911240"/>
            <a:ext cx="807696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 LOVE OUR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green%20bay%20section%20air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6400800" cy="4647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880" y="2209680"/>
            <a:ext cx="16765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mall towns   love       our     </a:t>
            </a:r>
            <a:r>
              <a:rPr b="1" i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T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nd we have lots of trees in Wiscons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15:29:58Z</dcterms:created>
  <dc:creator>Cellcom</dc:creator>
  <dc:description/>
  <dc:language>en-US</dc:language>
  <cp:lastModifiedBy>Cellcom</cp:lastModifiedBy>
  <dcterms:modified xsi:type="dcterms:W3CDTF">2002-02-06T13:52:17Z</dcterms:modified>
  <cp:revision>7</cp:revision>
  <dc:subject/>
  <dc:title>No Slide Title</dc:title>
</cp:coreProperties>
</file>