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7383-1F4F-46AC-B94A-A63D081A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75C1-8D71-4FCB-AB31-9F3036C6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B461-EA98-461D-9F0D-19B10B8B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C5C1-8C5A-420E-8E05-E6270C61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E117-DF31-4A25-B8D8-56F3F8952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F331-8027-452B-AC6D-636362D7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9DBA-7BCF-46F5-B491-83D09F43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8122-8BA4-4311-8509-4D3EC7B8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A9D6-B4B0-4CD7-B6C9-E2BA5943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D1EA-EED1-4B86-8B6C-35D518FF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14D1-CA91-408E-9F37-B0EF694F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DC24-04C8-46D9-A6FF-837AF3D5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23FF-200B-42EB-BFDC-2C0F5814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0728-EAE1-4CCD-95C4-168D7166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3383-9381-4C7E-82BD-6CC7CC53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6320-4FE1-46AB-AC89-0BB078ED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C14D-CA50-4625-80B4-DAEE50D2F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0465-2DF5-4589-B0D9-B13EA022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2FC7-FAAF-4126-BF72-B0F084E3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0851-2E21-41C2-BFAA-E7C291E5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316F-B33E-4597-A75F-98B4235E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84CB-7597-489D-8633-04EA2286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CDFB-EC46-4153-895C-A9F15A82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1B2F-2303-4263-A108-F280EEE1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3C72-D37C-4EE1-9570-7B2CA8063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B50F-1021-4AEE-955C-A7B4B0F60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ttclogo1%206-2000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38280" y="30492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Caslon Regular"/>
              </a:rPr>
              <a:t>Central Texas Telephone Cooperative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66440" y="2362320"/>
            <a:ext cx="49798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ST PRACTICE: Planning and Exec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Profitable Coverage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96240" y="4782960"/>
            <a:ext cx="40273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sented By:  Larry D. Pechacek, 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 Texas Telephone Cooperative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ief Technology Offi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Network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596600" y="2330280"/>
            <a:ext cx="566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Transport via ATM Network Allow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Services via ATM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uit Emulation Interface To TD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 via ATM VPI/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ss Concentration via ATM Switch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 Network QoS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97680" y="4127400"/>
            <a:ext cx="57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-location of MMDS and LMDS Systems Where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96240" y="4510080"/>
            <a:ext cx="47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Data Traffic From End Office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94080" y="489096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VoIP to local End Office Switch - Existing Class 5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es With Appreciable Service Life From Both Fina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ervices Persp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94800" y="198108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Integrate Wireless Systems with Existing Wirelin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RF Planning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595520" y="3672000"/>
            <a:ext cx="672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/LMDS Sectorization Used to Accommodate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 Characterized by Customer Density and U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cteristics (Capacity and Symme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94080" y="1828800"/>
            <a:ext cx="69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Will Begin with 3 Super Cells and Additional Mini/Micro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as Needed Basis As Dictated By Line-of-Sight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97320" y="2438280"/>
            <a:ext cx="66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equires Planning and Coordination with Surrounding B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94080" y="3016080"/>
            <a:ext cx="729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adius of Coverage, Channel Bandwidth, and Mod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tions Must be Coordinated for Best Fit to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95160" y="4616280"/>
            <a:ext cx="70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 Requires Careful Radius of Coverage Determination Based Up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in Fade and Re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98040" y="5226120"/>
            <a:ext cx="63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ermitting of Telecommunications Facilities Can be Proble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99120" y="5576760"/>
            <a:ext cx="54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Frequency Planning for TDD Systems vs FD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93360" y="5958000"/>
            <a:ext cx="67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and Base and RF Planning Software for Link Evaluation &amp;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– Initial San Angelo, Tx RF Covera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1447920" y="1828800"/>
          <a:ext cx="6781680" cy="4098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1828800"/>
                    <a:ext cx="678168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592280" y="1905120"/>
            <a:ext cx="623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tarted With a 3 Base Station Deployment In San Angelo an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Base Station Deployment In Goldthwaite U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95160" y="2819520"/>
            <a:ext cx="57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Redeployed Using Ensemble Communication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94080" y="3214800"/>
            <a:ext cx="653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Currently Ha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Base Stations Deployed in San Angelo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 Sectors Using both A and B Band 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ximately 52 Customers and 45 CPE Deploy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and Voice (Limited) Services Provided and Loo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wards Video Services 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93000" y="4967280"/>
            <a:ext cx="687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Allowed us to go into San Angelo, a town of 100,000 peopl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very efficiently deploy facilities without overbuilding, and exp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service area and create additional revenue streams as a full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C offering advanced broad band servi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594440" y="2057400"/>
            <a:ext cx="65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Evaluation System in Goldthwaite and Undergo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luation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90480" y="4343400"/>
            <a:ext cx="706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If it works as anticipated, and as we expect, the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local loop will allow us to deliver broad band services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iciently across our Cooperative area and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.  It will also allow us to cost efficiently expand our compet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age areas into the surrounding rural are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94080" y="306216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8 Test CPE with Services Being Provided Up To 25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94440" y="3427560"/>
            <a:ext cx="666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Test Customer Installations Providing 2-Way Data and An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V Using the Same Antenna.  (Replace the receiver with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eiver and add a data mod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99120" y="2666880"/>
            <a:ext cx="58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Using MDS I for Upstream and MMDS E1 for Down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9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94440" y="2330280"/>
            <a:ext cx="56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up to 3 and 5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96960" y="2725560"/>
            <a:ext cx="641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Generally Proprietary Equipment Based Upon ATM and DOC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97680" y="3335400"/>
            <a:ext cx="53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Developing Towards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96240" y="411480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93720" y="4495680"/>
            <a:ext cx="62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Not Generally Subject to Multipath Inter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94800" y="4876920"/>
            <a:ext cx="60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Greater Compared to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92280" y="3716280"/>
            <a:ext cx="71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ell (TDM via Circuit Emulation) and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95520" y="233028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25 to 30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95880" y="2725560"/>
            <a:ext cx="57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Both Standards Based and Proprietary Solu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97680" y="3106800"/>
            <a:ext cx="66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Up To 3 Mbps on Standards Based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95880" y="3854520"/>
            <a:ext cx="465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Relatively Unaffected by 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93000" y="4235400"/>
            <a:ext cx="62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 (or Near Line of Sigh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93720" y="4616280"/>
            <a:ext cx="64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Subject to Multipath Interference (or Challeng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94800" y="4997520"/>
            <a:ext cx="58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Lower Compared to L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98400" y="3487680"/>
            <a:ext cx="35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Experiences To D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6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594080" y="1905120"/>
            <a:ext cx="677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From Wireless TV Start-Up and Operations H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d Learning Curve for the 2-Way WLL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tart-up Issues/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95160" y="2819520"/>
            <a:ext cx="668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During First LMDS Deployment Has Been 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neficial to Ascertaining Technology and 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91920" y="3656160"/>
            <a:ext cx="667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nterconnection Agreement Negotiations Were Initially Tediou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ngthy; Today Favorable Agreements Exist That May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ed I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91920" y="4494240"/>
            <a:ext cx="63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Zoning and Permitting of Telecommunications Facilities Can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at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94440" y="5105520"/>
            <a:ext cx="656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ct the MMDS and LMDS WLL Technologies Will Play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 Role in Enabling Advanced and Broad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communications, and Expanding Our Service Area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enue Options in a Cost Effective Ma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Conclus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596240" y="2133720"/>
            <a:ext cx="668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and CTC - Very Excited About the Economic and Serv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ilities the MMDS and LMDS WLL Technologies W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 for our Organiz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90480" y="3048120"/>
            <a:ext cx="694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be an Important Asset Signific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urviving Forthcoming Regulatory Requirements and in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ingly Competitive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90840" y="3960720"/>
            <a:ext cx="669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 by Alleviating the Need to Rock Saw for Pla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le in the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90480" y="4876920"/>
            <a:ext cx="64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rove to be a Cost 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echnically Capable Broadband Alterna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97320" y="228600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unded in 1951 in Goldthwaite Tex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98040" y="274320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3,302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96600" y="3200400"/>
            <a:ext cx="56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17 Telephone Exchanges with DSL Deploy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all Ex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98040" y="3824280"/>
            <a:ext cx="44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Approximately 7,600 Access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96600" y="4738680"/>
            <a:ext cx="46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ember of the Texas Lone Star Fiber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94440" y="5195880"/>
            <a:ext cx="69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Unregulated Services Through Central Texas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95520" y="4295880"/>
            <a:ext cx="59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Distance Learning by Connecting 12 Rural Sch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96600" y="2286000"/>
            <a:ext cx="70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rmed in 1993 to Provide Wireless TV Services Using MDS &amp;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98400" y="2743200"/>
            <a:ext cx="41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4700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97680" y="320040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3 Super Cells with Analog Head 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95520" y="3657600"/>
            <a:ext cx="69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Video Broadcast Services to Approximately 3,000 Subscri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97680" y="4129200"/>
            <a:ext cx="44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Long Distance to CTTC Custo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99120" y="458640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perates an ISP Business Since 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98040" y="5027760"/>
            <a:ext cx="60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rticipated in the 1997/1998 LMDS Auction and Ac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&amp; B Spectrum Blocks in 2 Basic Trade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ing 19 County Area Consisting of 212,000 p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and CTC Coverage Are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57" name="Texas%20LMDS_MMDS_ILEC%20Larry3" descr=""/>
          <p:cNvPicPr/>
          <p:nvPr/>
        </p:nvPicPr>
        <p:blipFill>
          <a:blip r:embed="rId4"/>
          <a:stretch/>
        </p:blipFill>
        <p:spPr>
          <a:xfrm>
            <a:off x="1828800" y="1295280"/>
            <a:ext cx="632448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egacy Narrow Band Networ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2" name="Circuit%20Network%20No%20Title" descr=""/>
          <p:cNvPicPr/>
          <p:nvPr/>
        </p:nvPicPr>
        <p:blipFill>
          <a:blip r:embed="rId4"/>
          <a:stretch/>
        </p:blipFill>
        <p:spPr>
          <a:xfrm>
            <a:off x="2057400" y="16002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Fixed Wireless (LMDS) and ATM Network Overl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7" name="ATM%20Overlay" descr=""/>
          <p:cNvPicPr/>
          <p:nvPr/>
        </p:nvPicPr>
        <p:blipFill>
          <a:blip r:embed="rId4"/>
          <a:stretch/>
        </p:blipFill>
        <p:spPr>
          <a:xfrm>
            <a:off x="1905120" y="1600200"/>
            <a:ext cx="609588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otivations for Wireless Technolog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593360" y="22860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Services a High Cost Area - Alternative to Bulldoz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ck S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99120" y="35193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xpand Service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98400" y="3914640"/>
            <a:ext cx="31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New Revenue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94440" y="4295880"/>
            <a:ext cx="601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Enhanced Services to our Comm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ad Ban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 Effective Packet Based Enabling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hanced Voice Services (Vo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92640" y="2895480"/>
            <a:ext cx="579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C - Cost Efficient Local Loop Enabling Facilities 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Services Tele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Market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592640" y="1981080"/>
            <a:ext cx="674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2-Way M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Radius of Coverage Area Suitable for Spar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 Based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3 Mbps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ly Low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Residential, SOHO, and Sm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93360" y="4005360"/>
            <a:ext cx="6671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 Radius of Coverage Area Suitable for Den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th ATM and Packet Based System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vely High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Small Through Very L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&amp; LMDS - Getting Start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596600" y="1905120"/>
            <a:ext cx="461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Use Spectrum We’ve Secured Over the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93720" y="3930480"/>
            <a:ext cx="66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dentified Requirements and Issued a Detailed Request for 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elected Vend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95520" y="2681280"/>
            <a:ext cx="49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Leveraging Existing As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ber Network Into Surrounding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utation of Mobile Wireless Affil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TV Fac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97680" y="4586400"/>
            <a:ext cx="552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elected Vendors and Deployed Evalu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/Alca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semble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vecom Communications and Ci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98040" y="2286000"/>
            <a:ext cx="43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Perform Preliminary Network RF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8:19:14Z</dcterms:created>
  <dc:creator>Mike Connely</dc:creator>
  <dc:description/>
  <dc:language>en-US</dc:language>
  <cp:lastModifiedBy>LarryP</cp:lastModifiedBy>
  <cp:lastPrinted>2001-12-18T15:54:35Z</cp:lastPrinted>
  <dcterms:modified xsi:type="dcterms:W3CDTF">2002-02-06T21:23:23Z</dcterms:modified>
  <cp:revision>77</cp:revision>
  <dc:subject/>
  <dc:title>No Slide Title</dc:title>
</cp:coreProperties>
</file>