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9A38-B3E0-4527-AF15-464D6782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A2C-C125-4078-B037-B056726E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773-15D2-4764-B2AE-85CBD623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F94-D1D0-4350-9C75-9D668C62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5694-9B88-4892-9E58-E240E5B4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E4FE-E2B7-4F09-BC47-1D29A28E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8118-F43A-4E6F-BC7F-B5FB3EA1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FDB0-BEA3-43B6-BDDB-97B14493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789D-D37C-4E2F-9F40-8A856359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C0F2-A76F-4473-A637-6FA0D7FE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364B-4231-4634-BBD9-4A5A4725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ADF-ADB9-4263-AA6F-3AA92578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05A8-07D3-4105-AFF8-7E430466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7A0A-4CFC-4C59-9D56-8FDFBB33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28E8-B442-47DD-8B31-E1728270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A413-9581-439F-849C-E466D4AF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658C-F05F-44D9-AD8A-0B7A94ED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053-A67B-4C6C-A46F-B333FC42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293-0EE9-44CE-9D94-609305FF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7E5-A39C-4EE0-8542-74BCE54A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AC6-B25E-4887-A0B7-65BF43AD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38B-D03B-4694-BD3F-42FAA632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C16-0556-4F33-83D7-52B08C18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251-F8ED-4AEF-9122-A355D12C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866C-0311-419D-B261-329AACAA56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0543-3FA9-4355-9345-935A942A1F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ing a knowledge base for telecom reform in East, South &amp; Southeast Asia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34286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han Samarajiva and Sujata G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lirneasia.n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3276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To improve the lives of the people of Asia by facilitating their use of  information and communication technologies; by catalyzing the reform of the laws, policies and regulations to enable those uses; by building Asia-based human capacity through research, training, consulting and advoca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capa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u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stering networks because of belief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work &gt; sum of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tory building makes for greater sustainability and fit fo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 costs must be kept in mi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jective is sector performance, through improved capac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network building in and of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netw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existing research organizations as building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w transaction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ganizations may be inept/rapac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 to determine whether organization is of goo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st way: productivity of its researche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 from resear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to find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evine/snowba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ma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b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production in the age of the world wide we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a tree falls in the forest and no one hears it, does it make a sound?”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hop George Berkeley (1685-175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es a place in cyberspace exist if no one visits it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her Dyson (1951-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research is done but the results are unavailable on the web, was it actually don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bjective of knowledge-mapping resear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ize the knowledge b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tured best through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net presence should be tempered by peer-review crite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Presence and Quality as dri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ed through university directories, Social Science Citation Index, and Scholar.goo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universities in the directory of universities compiled by the International Association of Universities, a UNESCO organ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earch 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150 universities surveyed in the ‘Asia’s Best Universities 2000 Survey’ by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siaweek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cial Science Citation Index; ISI Citation Database (SSC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ocuments published between 2000-2005 containing the word telecom or its variation (telecom*) AND ‘asia’ in the title or abstract, and the name of one of the 22 ‘Asian’ countries in the  addr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rst 200 documents returned for a search with keywords “telecom * ‘country,” for each of the 22 countries in South, Southeast and East Asia. Initial search yielded 2000+ records. Documents relevant to telecom infrastructure reforms were handpicked from initial sample to yield 717 records. Of these, 105 contained at least one ‘Asia’-based auth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 and bi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ases in directories and SS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 version of scholar.goog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glish language documents on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the language of scien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ine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b crawler may not catch policy relevant documents from non-academic ci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better than alterna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verage:  22 countri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hina, Japan, Hong Kong SAR, Singapore, South Korea, Taiwan RO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fghanistan, Bangladesh, Bhutan, India, Maldives, 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ambodia, 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earch universities in East, South, and Southeast 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119 universities in a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International Assoc. of Universities direc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1 research univers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 We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urvey,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ves an estimate of the size of overall knowledge-generation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leashing the power of ICTs in Asia: the need for re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as input to the reform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facilitate knowledge net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mapping research on telecom reform expertise in A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51 research universities in reg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79400" y="1752480"/>
          <a:ext cx="757548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00" y="1752480"/>
                    <a:ext cx="7575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92203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esearch universities as knowledge ba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50 universities; Six countries off the ‘map’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19 names; 12 countries off the ‘map’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ri Lank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cholar.google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48 names; All but 5 countries back on the ‘map’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sence = Scholar.Google + SS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ields a total of 377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except 29 names out of 367 captured by scholar.google; As scholar.google or other search engines improve, coverage should impr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5 count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a = 94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th Korea = 86 nam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nd Google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’s Google presence &gt;&gt;&gt;&gt; SSCI presence; Korea’s insuffic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905120"/>
          <a:ext cx="723888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2388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ance by indexed journals and online citations as marks of qua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ty Assess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the set of 377 autho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9 have published in peer-reviewed international journals (SS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5 are cited in scholar.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 are known through the ‘Grapevine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valuate 143 at this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in Scholar.Google 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st citations are from developed countries and own count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ed authors, Indi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f the 94 Indian authors have publications cited in scholar.goog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50% of these authors are from research universities  (3 IITs; 1 IIM; &amp; Jawaharlal Nehru 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universities (5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ustry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(2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ineate the knowledge base:  universities and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research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cited auth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g time necessa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-profile publica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:  Retain in ro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olarly relationships as shown by co-authorships and co-ci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77 ‘Asian’ authors; 614 co-authorships; Most co-authorships are within country; Secondly with developed countr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9040" y="1752480"/>
          <a:ext cx="7754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752480"/>
                    <a:ext cx="7754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3049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 by country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-Asia co-authorships periphe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a roster of Asia-base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to monitor scholar.google and add names to the ro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 links with the graduate programs at the IITs and add new graduates to the r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 out a solicitation annaually or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 their help with LIRN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 roster’s internet presence through LIRNeasia site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“internet presence” and “quality of work” at the individual level drive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153640" cy="480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848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n authors with 2 or more collabo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nsalves, IIT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T Madras (&amp; Tenet); Anna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nghi, IITK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kha Jain, IIM Ahmedabad; 2 expats from a US Company &amp; UC, Berkeley, respectiv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ridh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t, GMU, USA; Virginia Tech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 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765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as expected from agents in knowled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ximity matters (Monge &amp; Contractor (2003); Bozeman (2002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ity drives collaborations, Wagner (2004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er impact factor through collaborations with developed countries (Gamage, ongoing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sian authors, ‘others in Asia’ are neither proximate nor likely to increas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co-authorship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26 citations, not counting self-cit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tations by ‘Asian’ and other developing country auth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 citations too presence and quality are the driv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ximity matters (second highest citations through own country authors); but citations by ‘other’ countries could be further increased through better Internet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cholar.google presence with added SSCI credibility receives higher citations per publication than those with scholar.google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intra-Asia citation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are we kicking own goal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governments/people agree tha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readiness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ing service-sector employm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ing firms participating in global economy more effici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sed lines are critically important to all of the above, pl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t . . . 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tional Leased Line Tariffs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th Asia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2514600"/>
          <a:ext cx="4267080" cy="28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4267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2514600"/>
          <a:ext cx="4038480" cy="2819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2514600"/>
                    <a:ext cx="4038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1905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nnual Tariffs (US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about Indonesia? 2Mbps/2km &amp; 200km, compared with Ind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486400"/>
            <a:ext cx="845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Data compiled from Lokanathan,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ea typeface="Arial"/>
                <a:hlinkClick r:id="rId2"/>
              </a:rPr>
              <a:t>www.lirneasia.n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, EU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report, interview with Indonesian ISP &amp; Network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286000"/>
          <a:ext cx="5867280" cy="2438280"/>
        </p:xfrm>
        <a:graphic>
          <a:graphicData uri="http://schemas.openxmlformats.org/drawingml/2006/table">
            <a:tbl>
              <a:tblPr/>
              <a:tblGrid>
                <a:gridCol w="2286000"/>
                <a:gridCol w="1447920"/>
                <a:gridCol w="213336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Mbps link/y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one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18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45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3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7,6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U Benchmark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Denmark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4,8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9,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leashing power of ICTs, especially in developing As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capacity to absorb technology; to innovate; to re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riers to be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ed Asia has, for the most part; but developing Asia does not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ining can help, bu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 more importan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earch is foundation for all of the above in rapidly changing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lecom sector is one of the most dynam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ologie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et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licy (and its implementation, regulation) must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current technologies that we could not think about 10 years (or even 5 years)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Fi and WiM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market phenomena that we could not think about 15 years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-paid mob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w, more than 80% in most cou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policies, regulatory requirements that no longer make s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ulating mobile prices in mo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g., 64 packages from 4 operator in Sri Lan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approval of equipment in each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ring frequency licenses for every frequency and frequency-emitting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8:38:33Z</dcterms:created>
  <dc:creator>Rohan Samarajiva</dc:creator>
  <dc:description/>
  <dc:language>en-US</dc:language>
  <cp:lastModifiedBy>TMD Tennakoon</cp:lastModifiedBy>
  <dcterms:modified xsi:type="dcterms:W3CDTF">2005-09-30T06:19:07Z</dcterms:modified>
  <cp:revision>117</cp:revision>
  <dc:subject/>
  <dc:title>S&amp;T Inpu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92191917</vt:r8>
  </property>
  <property fmtid="{D5CDD505-2E9C-101B-9397-08002B2CF9AE}" pid="3" name="_AuthorEmail">
    <vt:lpwstr>samarajiva@lirne.net</vt:lpwstr>
  </property>
  <property fmtid="{D5CDD505-2E9C-101B-9397-08002B2CF9AE}" pid="4" name="_AuthorEmailDisplayName">
    <vt:lpwstr>Rohan Samarajiva</vt:lpwstr>
  </property>
  <property fmtid="{D5CDD505-2E9C-101B-9397-08002B2CF9AE}" pid="5" name="_EmailSubject">
    <vt:lpwstr>Slides for your changes</vt:lpwstr>
  </property>
  <property fmtid="{D5CDD505-2E9C-101B-9397-08002B2CF9AE}" pid="6" name="_ReviewingToolsShownOnce">
    <vt:lpwstr/>
  </property>
</Properties>
</file>