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" y="652464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16240" y="652464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214F8E49-67E6-43E2-9C87-ECED0EDABF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Name Service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chwan F.Agu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Network Research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C on Micror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8480" y="1682640"/>
            <a:ext cx="3873240" cy="3797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Top Level Domain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mit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bm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s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vy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mp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p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Neth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Ingg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r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hai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di Indon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Level 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erapa Sub-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ndid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merint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Kom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Non Pro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.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etwork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eberapa Konvens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maan sub-domain diserahkan sepenuhnya kepada pengelola domain t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bersifat kons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pengelola domain bebas menumbuhkan domain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aiknya domain “memberi” ar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le-file yang dibutuh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tc/named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ecutable f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t script (default 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.bo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run sebagai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em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pr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boot scrip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pada boot scri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19320" y="2381400"/>
          <a:ext cx="610380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81400"/>
                    <a:ext cx="61038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ing-onl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igurasi minimal dari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query akan diteruskan ke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che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b.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mary dan Secondar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erver “memelihara” langsung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erver sebagai “image” dari primary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es updating dengan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merupakan primary dan secondary dari beberapa dom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6574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zona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condary 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server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mage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nto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recto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etc/named.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tb.ac.i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e.itb.ac.id 167.205.136.132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lkom.go.id 167.205.136.5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telk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ppt.go.id   202.46.1.2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b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26040" y="3282840"/>
            <a:ext cx="212112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ppt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30360" y="996840"/>
            <a:ext cx="189216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kom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4240" y="3130560"/>
            <a:ext cx="2121120" cy="19684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9360" y="920880"/>
            <a:ext cx="2120760" cy="18921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e.itb.ac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4560" y="4959360"/>
            <a:ext cx="1663560" cy="1130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470120" y="2311560"/>
            <a:ext cx="584280" cy="7873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927320" y="2692440"/>
            <a:ext cx="507960" cy="7110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44720" y="2844720"/>
            <a:ext cx="48276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01920" y="2463840"/>
            <a:ext cx="558720" cy="6350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7040" y="3886200"/>
            <a:ext cx="8636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7040" y="441972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488680" y="4292640"/>
            <a:ext cx="58428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489040" y="4902120"/>
            <a:ext cx="965520" cy="10159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0684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1196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7600" y="569448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66160" y="561816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etakan dari IP address ke 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erlukan untuk log file dan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gunakan sebagai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 Level domai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-addr.ar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Domain dibentuk dari IP address mulai dari Most Significant Dig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byektif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jalankan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mpu membuat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prinsip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cara setup resol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uit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slook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Tre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327120" y="1778040"/>
            <a:ext cx="149868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4440" y="16826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92680" y="2825640"/>
            <a:ext cx="21564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73560" y="2292480"/>
            <a:ext cx="216000" cy="215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61240" y="2036880"/>
            <a:ext cx="91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r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70160" y="2570040"/>
            <a:ext cx="146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-ad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8640" y="2978280"/>
            <a:ext cx="181620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669680" y="2978280"/>
            <a:ext cx="22986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889000" y="2978280"/>
            <a:ext cx="100332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3073320"/>
            <a:ext cx="101592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42900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57200" y="3103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6160" y="3179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24280" y="30272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7130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956040" y="4121280"/>
            <a:ext cx="123192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641480" y="4121280"/>
            <a:ext cx="62244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64280" y="4121280"/>
            <a:ext cx="59688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59320" y="4140360"/>
            <a:ext cx="177804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6560" y="4121280"/>
            <a:ext cx="22734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67280" y="493236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1916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94240" y="48610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1640" y="358776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6760" y="46544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Reverse 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B              167.205.xx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5.167.in-ad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C 196.3.6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6.3.196.in-a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6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klarasi Reverse Domain Server pada boot 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rmat (sbg primary dan second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&lt;server&gt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  205.167.in-addr.arpa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167.205.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 1.46.202.in-addr.arpa 202.46.1.2 db.2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Resource Recor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Zona Fil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Stndard Resource Record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f Authority Record (S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Record (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 Record (M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 Record (CN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Information Record (H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Known Services Record (W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of Authority (SO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zone] IN SOA origin contact 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fr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x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in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e Server Record (N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DNS server untuk zona file  (Boleh lebih dari satu ho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domain] IN N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dress Record (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P address dari host-host yang terdapat pada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Exchanger Record (MX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Mail Server untuk suatu domain ataupun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  IN MX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reference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nonical Name Record (CNAME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alias name untuk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ick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IN CNAME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y DNS..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581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lasan dan Kenyat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sia “ingat” nama, komputer kenal ang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kembangan jaringan yang cukup pes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ad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ntralisasi pemeliharaan jarin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st Information Record (HINFO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nformasi singkat tentang hardware dan sistem operasi dari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HONFO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ardwar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Services Record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WK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kan informasi tentang layanan yang disediakan oleh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WK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 protocol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inter to Hostname (PTR)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Untuk Reverse Domain Server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 informasi hostname dari IP address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umber_in_Clas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PTR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FQD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e Fi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untuk mengakses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99999999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ns.nic.ddn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.nic.ddn.mil 99999999 IN A 192.112.36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di run apabila boot script dan zona file telah dibuat sebelum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n dari Shel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# named -b /etc/named.b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Times New Roman"/>
              </a:rPr>
              <a:t>Konfigurasi Resolver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gaimana Client mengakses DNS server..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le </a:t>
            </a:r>
            <a:r>
              <a:rPr b="0" lang="en-US" sz="4000" spc="-1" strike="noStrike">
                <a:solidFill>
                  <a:srgbClr val="fafd00"/>
                </a:solidFill>
                <a:latin typeface="Courier New"/>
              </a:rPr>
              <a:t>/etc/resolv.conf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domain_nam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IP_addr_DNS_Sercer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itb.ac.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167.205.22.1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NS dan 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Electronic Mail Menggunakan MX Record pada DNS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ngirimkan E-mail ke host yang tidak menjalankan aplikasi Mail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gkah Pengiriman E-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akan mengirim pertama kali ke Mail Server dengan preference terendah (prioritas tertingg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dengan preference paling tinggi merupakan prioritas teren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X record dapat digunakan untuk Wide Domain Ali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nsip Kerja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92880" y="2368440"/>
            <a:ext cx="1092240" cy="1371600"/>
            <a:chOff x="5492880" y="2368440"/>
            <a:chExt cx="1092240" cy="1371600"/>
          </a:xfrm>
        </p:grpSpPr>
        <p:sp>
          <p:nvSpPr>
            <p:cNvPr id="165" name=""/>
            <p:cNvSpPr/>
            <p:nvPr/>
          </p:nvSpPr>
          <p:spPr>
            <a:xfrm>
              <a:off x="5537160" y="241776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92880" y="23684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27320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6320" y="29923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835280" y="2368440"/>
            <a:ext cx="3340080" cy="1892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6280" y="4336920"/>
            <a:ext cx="125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NS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6960" y="457200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9920" y="4572000"/>
            <a:ext cx="8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645160" y="2444760"/>
            <a:ext cx="1092240" cy="1371600"/>
            <a:chOff x="5645160" y="2444760"/>
            <a:chExt cx="1092240" cy="1371600"/>
          </a:xfrm>
        </p:grpSpPr>
        <p:sp>
          <p:nvSpPr>
            <p:cNvPr id="174" name=""/>
            <p:cNvSpPr/>
            <p:nvPr/>
          </p:nvSpPr>
          <p:spPr>
            <a:xfrm>
              <a:off x="5689440" y="24940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45160" y="24447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77000" y="28083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8600" y="30686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97440" y="2597040"/>
            <a:ext cx="1092240" cy="1371600"/>
            <a:chOff x="5797440" y="2597040"/>
            <a:chExt cx="1092240" cy="1371600"/>
          </a:xfrm>
        </p:grpSpPr>
        <p:sp>
          <p:nvSpPr>
            <p:cNvPr id="179" name=""/>
            <p:cNvSpPr/>
            <p:nvPr/>
          </p:nvSpPr>
          <p:spPr>
            <a:xfrm>
              <a:off x="5842080" y="2646360"/>
              <a:ext cx="104760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7440" y="25970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29606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1240" y="32209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50080" y="2749680"/>
            <a:ext cx="1092240" cy="1371600"/>
            <a:chOff x="5950080" y="2749680"/>
            <a:chExt cx="1092240" cy="1371600"/>
          </a:xfrm>
        </p:grpSpPr>
        <p:sp>
          <p:nvSpPr>
            <p:cNvPr id="184" name=""/>
            <p:cNvSpPr/>
            <p:nvPr/>
          </p:nvSpPr>
          <p:spPr>
            <a:xfrm>
              <a:off x="5994360" y="2798640"/>
              <a:ext cx="1047960" cy="13226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0080" y="274968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1560" y="311292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3520" y="3373560"/>
              <a:ext cx="311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02360" y="2901960"/>
            <a:ext cx="1092240" cy="1371600"/>
            <a:chOff x="6102360" y="2901960"/>
            <a:chExt cx="1092240" cy="1371600"/>
          </a:xfrm>
        </p:grpSpPr>
        <p:sp>
          <p:nvSpPr>
            <p:cNvPr id="189" name=""/>
            <p:cNvSpPr/>
            <p:nvPr/>
          </p:nvSpPr>
          <p:spPr>
            <a:xfrm>
              <a:off x="6146640" y="29512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2360" y="29019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32655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65800" y="35258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54640" y="3054240"/>
            <a:ext cx="1092240" cy="1371600"/>
            <a:chOff x="6254640" y="3054240"/>
            <a:chExt cx="1092240" cy="1371600"/>
          </a:xfrm>
        </p:grpSpPr>
        <p:sp>
          <p:nvSpPr>
            <p:cNvPr id="194" name=""/>
            <p:cNvSpPr/>
            <p:nvPr/>
          </p:nvSpPr>
          <p:spPr>
            <a:xfrm>
              <a:off x="6299280" y="3103560"/>
              <a:ext cx="1047600" cy="13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54640" y="3054240"/>
              <a:ext cx="1035000" cy="130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6480" y="3417840"/>
              <a:ext cx="58428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8440" y="3678120"/>
              <a:ext cx="311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282840" y="281952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9360" y="281952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70440" y="3581280"/>
            <a:ext cx="698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69880" y="3581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565160" y="4495680"/>
            <a:ext cx="698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9840" y="449568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87840" y="3422520"/>
            <a:ext cx="710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16360" y="2597040"/>
            <a:ext cx="1130400" cy="12826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560" y="2444760"/>
            <a:ext cx="1282680" cy="1587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Host dengan berbagai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ystem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40 mail.bppt.go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 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0 maingtw.itb.ac.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 system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an : Prioritas tertinggi adalah host it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tility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mengetahui apakah DNS server dapat berjalan sebagaiman mestinya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i shell pro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 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 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ame: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es:167.205.22.101,167.205.2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ara Interak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meliharaan dan Updating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perubahan zona file dapat diupdate oleh secondary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SOA diikuti dengan menambah serial nu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nakan beberapa seondary server untuk kehandala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ordinasi dengan Adminintrator DNS lainny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ormasi dar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14600" y="1581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si Hardw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 Oper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3560" y="1530360"/>
            <a:ext cx="440676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530360"/>
            <a:ext cx="288288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DN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amed.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65744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Re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resolv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or /etc/host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Host Tab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57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: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Penuli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p_address&gt;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hostname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cnam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3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.paume.itb.ac.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4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.itb.ac.id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27.0.0.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cal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asan penggunaan </a:t>
            </a:r>
            <a:r>
              <a:rPr b="0" lang="en-US" sz="3200" spc="-1" strike="noStrike">
                <a:solidFill>
                  <a:srgbClr val="fafd00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lah host pada jaringan sedi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ingan tidak terhubung k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tc/hos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oleh NIS (pada Su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semua host menggunakan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op Level Domain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n Sub-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sama seperti organisasi pemerintahan (negara, propinsi, kabupa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berdasarkan keorganis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s mempunyai FQD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QDN terdiri dari hostname dan domai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domain bisa “tumbuh” menjadi beberapa sub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0-01-01T00:12:22Z</dcterms:created>
  <dc:creator>Microsoft Corporation</dc:creator>
  <dc:description/>
  <dc:language>en-US</dc:language>
  <cp:lastModifiedBy>Onno W. Purbo</cp:lastModifiedBy>
  <cp:lastPrinted>1995-11-19T14:54:24Z</cp:lastPrinted>
  <dcterms:modified xsi:type="dcterms:W3CDTF">1999-04-19T03:10:55Z</dcterms:modified>
  <cp:revision>30</cp:revision>
  <dc:subject/>
  <dc:title>Domain Name Service</dc:title>
</cp:coreProperties>
</file>