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wmf" ContentType="image/x-wmf"/>
  <Override PartName="/ppt/media/image2.png" ContentType="image/png"/>
  <Override PartName="/ppt/media/image25.jpeg" ContentType="image/jpeg"/>
  <Override PartName="/ppt/media/image1.png" ContentType="image/png"/>
  <Override PartName="/ppt/media/image27.wmf" ContentType="image/x-wmf"/>
  <Override PartName="/ppt/media/image16.png" ContentType="image/png"/>
  <Override PartName="/ppt/media/image26.png" ContentType="image/png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ECF5-D6B7-4EAE-9D76-3F3BCC6C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ABD-A56D-437F-B90A-F646A2B3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5B0-6CD9-4D90-B754-AC6DF90B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1918-9478-4209-A5C3-45C87CBC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94FD-4B49-462A-91D4-1A60C9C1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C376-343A-4C60-A445-38792075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A783-8D68-4073-BE88-8C9108E9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F035-BA73-4A15-BF1D-37E96927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7DFC-CE6A-43F5-897F-BCFDD0A5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A479-A8BC-414E-BA3E-5525D1C2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82F0-1E1B-4FD7-93E1-2DBEC966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8D2B-F2B4-43EB-BBDF-D06C2835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C23A-D103-4D55-A45B-4D8ED8DF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BB55-E46E-4F39-80DE-A2E4C25F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CDB9-5252-464C-A170-611A8C5A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828D-6307-41FD-B1B4-3DAE4647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7441-F6AE-4C08-88B6-EAD24F57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FC32-9CF9-4242-B0AD-6A52FBF6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2B91-7013-417C-9E80-8F2FA67F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8924-D5BD-4D90-BFAC-F155F8CB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C42-2081-4FC3-A562-6EC186BC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7769-CF45-4755-BA9B-12162B84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F37-5AAB-4553-ADFD-FE17D784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C168-9C22-4D99-8DCF-52FB5247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8396-A2C3-45E7-9A6D-C6D2069207D9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6F90-9FBD-4FDF-AE96-954B7D91484F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ndltd.org/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Kontribusi Perpustakaan Pusat ITB:</a:t>
            </a:r>
            <a:br>
              <a:rPr sz="32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Konsep, strategi, teknologi, dan jaringan Digital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MRG, AI3, CN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mail Fahmi - Ismail@itb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45E6-A877-4AD9-955A-ED524955D2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stem WAIS-I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181840" cy="45669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47C9-3537-41AA-A3AE-93ECC367D7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ISNetwork server di ITB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ggot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1 Perpustaka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+40 buah database CDS/ISIS on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ana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 host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ull host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338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419720" cy="396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3706-9F5B-4ED6-8C5F-2BDB9FBF2B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nline shopping &amp; ord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9084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971800" cy="2073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39552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2438640" cy="2023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39084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2590920" cy="1984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45276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6324480" y="4114800"/>
            <a:ext cx="2543400" cy="2489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45276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3124080" y="4114800"/>
            <a:ext cx="2924280" cy="2451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5276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152280" y="4114800"/>
            <a:ext cx="2847960" cy="2438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048120" y="33526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32767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96080" y="35053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60199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60199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1F6-FAD8-4AC5-A3F0-FAE9240D92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Ganesha Digital Librar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562360" y="167652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is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njadi knowledgebase dari IC ITB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ngan mengelola tacit &amp; explicit knowledge civitas ITB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nggunakan TI yang tepat dan terjangkau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n membuka akses bagi masyarakat secara lua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http://digital.lib.itb.ac.i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670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456264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0F18-EEB1-44B7-AF02-900EE50F34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Map (1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xplici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Course materi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Individual or groups knowledge: Final project reports, Theses, Dissertations, Research Reports, and paper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Publication: internal journals, bulletin, et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Proceeding from seminar, workshop, studium general within ITB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Multimedia, converted into digital format: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audio and video cassettes collection of ITB Central Library (events, history, language learning, etc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speech cassettes collection of Salman Mosqu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FDB-7378-4D10-B5DE-BCA59B81E0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Map (2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Taci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Directory of expertise: individual, groups, and departments profil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Mailing list archiv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xternal Knowled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Web portal to other science and technology related sit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International Journal for Intranet online access (full text).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3E58-2AA2-4917-A1F6-BBDA3CEE63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4419720"/>
            <a:ext cx="4876560" cy="1828800"/>
          </a:xfrm>
          <a:prstGeom prst="rect">
            <a:avLst/>
          </a:prstGeom>
          <a:solidFill>
            <a:srgbClr val="9966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2438280"/>
            <a:ext cx="4876560" cy="1828800"/>
          </a:xfrm>
          <a:prstGeom prst="rect">
            <a:avLst/>
          </a:prstGeom>
          <a:solidFill>
            <a:srgbClr val="cc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Captur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2438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plicit 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8320" y="438300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cit 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1640" y="2867040"/>
            <a:ext cx="433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search repor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nal projects,Theses, Dissert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rticles, papers, Journals, bulleti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ceedings, et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59840" y="4876920"/>
            <a:ext cx="413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xpertise (directories, cv, profiles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274320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35812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44956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61720" y="762120"/>
            <a:ext cx="1857240" cy="1557000"/>
          </a:xfrm>
          <a:prstGeom prst="rect">
            <a:avLst/>
          </a:prstGeom>
          <a:solidFill>
            <a:srgbClr val="555bad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y way of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eb access,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mail, and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iling lis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5" idx="1"/>
          </p:cNvCxnSpPr>
          <p:nvPr/>
        </p:nvCxnSpPr>
        <p:spPr>
          <a:xfrm flipV="1" rot="10800000">
            <a:off x="5714280" y="1543680"/>
            <a:ext cx="838800" cy="2037240"/>
          </a:xfrm>
          <a:prstGeom prst="curvedConnector2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FE39-8836-4538-95D1-F22EE1BEC1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Access &amp; Dissemin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350532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9" name="bs00580_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830240" cy="1541520"/>
          </a:xfrm>
          <a:prstGeom prst="rect">
            <a:avLst/>
          </a:prstGeom>
          <a:ln w="0">
            <a:noFill/>
          </a:ln>
        </p:spPr>
      </p:pic>
      <p:cxnSp>
        <p:nvCxnSpPr>
          <p:cNvPr id="200" name=""/>
          <p:cNvCxnSpPr>
            <a:stCxn id="198" idx="4"/>
          </p:cNvCxnSpPr>
          <p:nvPr/>
        </p:nvCxnSpPr>
        <p:spPr>
          <a:xfrm flipV="1">
            <a:off x="2590920" y="3047760"/>
            <a:ext cx="2667240" cy="182952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57240">
            <a:solidFill>
              <a:srgbClr val="ffcc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5867280" y="4343400"/>
            <a:ext cx="1828800" cy="53352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4495680"/>
            <a:ext cx="1828800" cy="533520"/>
          </a:xfrm>
          <a:prstGeom prst="ellipse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4572000"/>
            <a:ext cx="1828800" cy="5335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4724280"/>
            <a:ext cx="1447920" cy="22860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29400" y="4724280"/>
            <a:ext cx="380880" cy="15264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06" name=""/>
          <p:cNvCxnSpPr>
            <a:stCxn id="198" idx="4"/>
            <a:endCxn id="203" idx="3"/>
          </p:cNvCxnSpPr>
          <p:nvPr/>
        </p:nvCxnSpPr>
        <p:spPr>
          <a:xfrm>
            <a:off x="2590920" y="4876560"/>
            <a:ext cx="3621600" cy="151560"/>
          </a:xfrm>
          <a:prstGeom prst="curvedConnector5">
            <a:avLst>
              <a:gd name="adj1" fmla="val 46286"/>
              <a:gd name="adj2" fmla="val 151428"/>
              <a:gd name="adj3" fmla="val 46286"/>
            </a:avLst>
          </a:prstGeom>
          <a:ln w="57240">
            <a:solidFill>
              <a:srgbClr val="cc6600"/>
            </a:solidFill>
            <a:prstDash val="sysDot"/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048120" y="3276720"/>
            <a:ext cx="2286000" cy="1371600"/>
          </a:xfrm>
          <a:prstGeom prst="irregularSeal2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10800" y="5221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8040" y="19051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Acc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39360" y="27795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ull tex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93280" y="5410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CE0-6D9D-4B2F-A2E2-CF1F4EC1E6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Pres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733920" cy="3071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228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952880" cy="36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D9A-072C-4C1A-91DE-0016B2AA5B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ampus Network Topolog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288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447920" y="1523880"/>
          <a:ext cx="678168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78168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9CD8-1CBC-4273-9FAD-66A900BDE9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kilas tentang Knowledge Manag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ject KM di PP IT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ISNetwork, One Stop Shop for Libraries Servi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anesha Digital Libra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aringan Digital Library: Nasional &amp; Internasi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ject Free-Software: GNU-Li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6EAD-D326-45C9-B936-5BE72AE65C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onfigurasi Serv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at ini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tium 100 Mh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64 MB mem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9 GB H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reeBS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pache + PH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ySQ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IS-ISIS search eng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al serv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Qmail + Ezml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68840" y="1828800"/>
            <a:ext cx="283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entium III 500 Mh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in 256 MB Mem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00 GB HD (hingga TB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19051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0FE-AA3B-41BD-B40B-C712622CFD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Jaringan Digital Library Nasional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9718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yek pembuatan sistem jaringan digital library nasional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husus mengelola laporan penelitian, thesis, dan disertasi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34360" y="1411200"/>
            <a:ext cx="63255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Improving Graduate Education and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Upgrading the Utilization of Research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6640" y="5599080"/>
            <a:ext cx="70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NDLTD: Network of Digital Library for Theses and Dissert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E10A-0F2E-45FB-847C-ACD592DD77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kus komunitas targ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hasiswa dan Penelit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bagai komunitas yang kreatif dan inovatif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dusen knowledg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pustaka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bagai knowledge manager, organis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adigma library sbg information cent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alangan industri, bisnis, dll yang memanfaatkan hasil penelitia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luang linkag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ED3D-97C7-4F10-8051-A6DBA3CDC1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ormasi hasil penelitian terbuka dan mudah diaks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ublikasi hasil penelitian semakin cepat, mudah, dan murah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ualitas lulusan dan hasil penelitiannya mening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manfaatkan hasil penelitian mening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ksternalisasi tacit knowledg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kage dengan dunia bisnis, industri, dan masyara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AA19-FA1B-4123-92E1-0350C20A5A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rganisasi (1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laksana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MRG &amp; CNRG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unding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N ASIA/IDRC Singapo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Yayasan Litbang Telekomunikasi dan Informatik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NR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n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pporting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sian Internet Interconnection Initiatives (AI3)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A913-315E-4649-8C23-C1DCA76B99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rganisasi (2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rtner (pioneer)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astern Indonesia Universities Development Project (EIUDP, the CIDA’s project)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Cendrawasih (UNCEN), University of Samratulangi (UNSRAT), University of Pattimura (UNPATTI), University of Haluouleo (UNHALU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asca Sarjana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Research Institute of ITB (LP ITB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TB Central Library (Digital Library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DII LIPI Jakart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Brawijaya Malang Central Libr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Muhammadiyah Malang Libr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AIN (Institute of Islamic Religion, supported by McGill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IAIN Sunan Ampel Surabaya, IAIN Sunan Kalijaga Yogyakarta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C86E-7165-4CD7-BF9B-3426480166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685800" y="228600"/>
          <a:ext cx="8229600" cy="642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"/>
                    <a:ext cx="8229600" cy="6427800"/>
                  </a:xfrm>
                  <a:prstGeom prst="rect">
                    <a:avLst/>
                  </a:prstGeom>
                  <a:ln w="12600">
                    <a:solidFill>
                      <a:srgbClr val="cc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Topologi jaringan </a:t>
            </a:r>
            <a:br>
              <a:rPr sz="3200"/>
            </a:b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digital library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200" y="5181480"/>
            <a:ext cx="206136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artner Ag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24360" y="1676520"/>
            <a:ext cx="204300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entral Ag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409720" y="2133720"/>
            <a:ext cx="381240" cy="60948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219320" y="4800240"/>
            <a:ext cx="457200" cy="30492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5791320"/>
            <a:ext cx="685800" cy="15228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3124080"/>
            <a:ext cx="2286000" cy="2133720"/>
          </a:xfrm>
          <a:prstGeom prst="ellipse">
            <a:avLst/>
          </a:prstGeom>
          <a:noFill/>
          <a:ln w="19080">
            <a:solidFill>
              <a:srgbClr val="0000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1600200"/>
            <a:ext cx="2286000" cy="2133720"/>
          </a:xfrm>
          <a:prstGeom prst="ellipse">
            <a:avLst/>
          </a:prstGeom>
          <a:noFill/>
          <a:ln w="19080">
            <a:solidFill>
              <a:srgbClr val="0000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E71C-ED0D-4B89-8674-09BA80C9DEC7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utput proje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-Software server Digital Library Networ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ndard: metadata, naming, submission method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gen pengelola di tiap partn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nowledgebase: metadata &amp; full text laporan penelitian, tesis dan disertasi dari seluruh partn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E02F-C90A-4BB3-94AC-1AAF9A5F487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Jaringan Digital Library Internasional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rtukaran knowledgebase (laporan penelitian, tesis, dan disertasi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rtner di luar negeri (confirmed)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iversitas Groningen, Belan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iversitas Aalborg, Denma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B sebagai hub/gateway untuk Indonesi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stimasi tahun 20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BB67-5229-4614-B4C7-4D7B516B457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28600" y="474840"/>
          <a:ext cx="8763120" cy="59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74840"/>
                    <a:ext cx="876312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51D6-A4D2-4DB7-9094-1F60B656FB1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Knowledge Management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2440" y="3124080"/>
            <a:ext cx="2365920" cy="1551600"/>
          </a:xfrm>
          <a:prstGeom prst="rect">
            <a:avLst/>
          </a:prstGeom>
          <a:gradFill rotWithShape="0">
            <a:gsLst>
              <a:gs pos="0">
                <a:srgbClr val="744e1d"/>
              </a:gs>
              <a:gs pos="50000">
                <a:srgbClr val="fcab40"/>
              </a:gs>
              <a:gs pos="100000">
                <a:srgbClr val="744e1d"/>
              </a:gs>
            </a:gsLst>
            <a:lin ang="10800000"/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Identifik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Optimis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Manajem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3276720"/>
            <a:ext cx="1778040" cy="2325600"/>
          </a:xfrm>
          <a:custGeom>
            <a:avLst/>
            <a:gdLst/>
            <a:ahLst/>
            <a:rect l="l" t="t" r="r" b="b"/>
            <a:pathLst>
              <a:path w="1120" h="1465">
                <a:moveTo>
                  <a:pt x="0" y="712"/>
                </a:moveTo>
                <a:cubicBezTo>
                  <a:pt x="6" y="644"/>
                  <a:pt x="2" y="574"/>
                  <a:pt x="17" y="508"/>
                </a:cubicBezTo>
                <a:cubicBezTo>
                  <a:pt x="20" y="496"/>
                  <a:pt x="42" y="500"/>
                  <a:pt x="51" y="491"/>
                </a:cubicBezTo>
                <a:cubicBezTo>
                  <a:pt x="60" y="482"/>
                  <a:pt x="60" y="467"/>
                  <a:pt x="68" y="457"/>
                </a:cubicBezTo>
                <a:cubicBezTo>
                  <a:pt x="122" y="392"/>
                  <a:pt x="116" y="400"/>
                  <a:pt x="169" y="373"/>
                </a:cubicBezTo>
                <a:cubicBezTo>
                  <a:pt x="227" y="257"/>
                  <a:pt x="134" y="434"/>
                  <a:pt x="220" y="305"/>
                </a:cubicBezTo>
                <a:cubicBezTo>
                  <a:pt x="263" y="241"/>
                  <a:pt x="266" y="174"/>
                  <a:pt x="322" y="119"/>
                </a:cubicBezTo>
                <a:cubicBezTo>
                  <a:pt x="328" y="108"/>
                  <a:pt x="329" y="93"/>
                  <a:pt x="339" y="85"/>
                </a:cubicBezTo>
                <a:cubicBezTo>
                  <a:pt x="393" y="42"/>
                  <a:pt x="476" y="16"/>
                  <a:pt x="542" y="0"/>
                </a:cubicBezTo>
                <a:cubicBezTo>
                  <a:pt x="559" y="6"/>
                  <a:pt x="577" y="10"/>
                  <a:pt x="593" y="17"/>
                </a:cubicBezTo>
                <a:cubicBezTo>
                  <a:pt x="616" y="27"/>
                  <a:pt x="661" y="51"/>
                  <a:pt x="661" y="51"/>
                </a:cubicBezTo>
                <a:cubicBezTo>
                  <a:pt x="681" y="81"/>
                  <a:pt x="709" y="105"/>
                  <a:pt x="728" y="136"/>
                </a:cubicBezTo>
                <a:cubicBezTo>
                  <a:pt x="841" y="317"/>
                  <a:pt x="896" y="524"/>
                  <a:pt x="1050" y="678"/>
                </a:cubicBezTo>
                <a:cubicBezTo>
                  <a:pt x="1120" y="884"/>
                  <a:pt x="1040" y="1105"/>
                  <a:pt x="949" y="1288"/>
                </a:cubicBezTo>
                <a:cubicBezTo>
                  <a:pt x="861" y="1465"/>
                  <a:pt x="554" y="1299"/>
                  <a:pt x="356" y="1304"/>
                </a:cubicBezTo>
                <a:cubicBezTo>
                  <a:pt x="296" y="1364"/>
                  <a:pt x="294" y="1356"/>
                  <a:pt x="203" y="1338"/>
                </a:cubicBezTo>
                <a:cubicBezTo>
                  <a:pt x="149" y="1285"/>
                  <a:pt x="114" y="1228"/>
                  <a:pt x="51" y="1186"/>
                </a:cubicBezTo>
                <a:cubicBezTo>
                  <a:pt x="0" y="980"/>
                  <a:pt x="58" y="1232"/>
                  <a:pt x="17" y="745"/>
                </a:cubicBezTo>
                <a:cubicBezTo>
                  <a:pt x="16" y="733"/>
                  <a:pt x="0" y="712"/>
                  <a:pt x="0" y="712"/>
                </a:cubicBez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555b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71920" y="3267000"/>
            <a:ext cx="1309680" cy="914400"/>
          </a:xfrm>
          <a:custGeom>
            <a:avLst/>
            <a:gdLst/>
            <a:ahLst/>
            <a:rect l="l" t="t" r="r" b="b"/>
            <a:pathLst>
              <a:path w="825" h="576">
                <a:moveTo>
                  <a:pt x="21" y="441"/>
                </a:moveTo>
                <a:lnTo>
                  <a:pt x="190" y="492"/>
                </a:lnTo>
                <a:cubicBezTo>
                  <a:pt x="190" y="492"/>
                  <a:pt x="190" y="492"/>
                  <a:pt x="190" y="492"/>
                </a:cubicBezTo>
                <a:cubicBezTo>
                  <a:pt x="235" y="503"/>
                  <a:pt x="284" y="505"/>
                  <a:pt x="326" y="526"/>
                </a:cubicBezTo>
                <a:cubicBezTo>
                  <a:pt x="414" y="569"/>
                  <a:pt x="369" y="553"/>
                  <a:pt x="461" y="576"/>
                </a:cubicBezTo>
                <a:cubicBezTo>
                  <a:pt x="505" y="572"/>
                  <a:pt x="652" y="563"/>
                  <a:pt x="715" y="542"/>
                </a:cubicBezTo>
                <a:cubicBezTo>
                  <a:pt x="739" y="534"/>
                  <a:pt x="783" y="509"/>
                  <a:pt x="783" y="509"/>
                </a:cubicBezTo>
                <a:cubicBezTo>
                  <a:pt x="794" y="486"/>
                  <a:pt x="825" y="465"/>
                  <a:pt x="817" y="441"/>
                </a:cubicBezTo>
                <a:cubicBezTo>
                  <a:pt x="800" y="389"/>
                  <a:pt x="798" y="364"/>
                  <a:pt x="749" y="339"/>
                </a:cubicBezTo>
                <a:cubicBezTo>
                  <a:pt x="740" y="292"/>
                  <a:pt x="722" y="152"/>
                  <a:pt x="681" y="119"/>
                </a:cubicBezTo>
                <a:cubicBezTo>
                  <a:pt x="651" y="94"/>
                  <a:pt x="600" y="80"/>
                  <a:pt x="563" y="68"/>
                </a:cubicBezTo>
                <a:cubicBezTo>
                  <a:pt x="538" y="19"/>
                  <a:pt x="513" y="17"/>
                  <a:pt x="461" y="0"/>
                </a:cubicBezTo>
                <a:cubicBezTo>
                  <a:pt x="384" y="15"/>
                  <a:pt x="311" y="33"/>
                  <a:pt x="241" y="68"/>
                </a:cubicBezTo>
                <a:cubicBezTo>
                  <a:pt x="212" y="126"/>
                  <a:pt x="217" y="173"/>
                  <a:pt x="156" y="204"/>
                </a:cubicBezTo>
                <a:cubicBezTo>
                  <a:pt x="150" y="215"/>
                  <a:pt x="148" y="229"/>
                  <a:pt x="139" y="238"/>
                </a:cubicBezTo>
                <a:cubicBezTo>
                  <a:pt x="130" y="247"/>
                  <a:pt x="113" y="244"/>
                  <a:pt x="105" y="254"/>
                </a:cubicBezTo>
                <a:cubicBezTo>
                  <a:pt x="73" y="293"/>
                  <a:pt x="30" y="406"/>
                  <a:pt x="4" y="458"/>
                </a:cubicBezTo>
                <a:cubicBezTo>
                  <a:pt x="0" y="465"/>
                  <a:pt x="15" y="447"/>
                  <a:pt x="21" y="441"/>
                </a:cubicBez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3886200"/>
            <a:ext cx="3174840" cy="220680"/>
          </a:xfrm>
          <a:custGeom>
            <a:avLst/>
            <a:gdLst/>
            <a:ahLst/>
            <a:rect l="l" t="t" r="r" b="b"/>
            <a:pathLst>
              <a:path w="2000" h="139">
                <a:moveTo>
                  <a:pt x="0" y="55"/>
                </a:moveTo>
                <a:cubicBezTo>
                  <a:pt x="90" y="73"/>
                  <a:pt x="91" y="84"/>
                  <a:pt x="187" y="55"/>
                </a:cubicBezTo>
                <a:cubicBezTo>
                  <a:pt x="211" y="48"/>
                  <a:pt x="255" y="21"/>
                  <a:pt x="255" y="21"/>
                </a:cubicBezTo>
                <a:cubicBezTo>
                  <a:pt x="311" y="50"/>
                  <a:pt x="362" y="60"/>
                  <a:pt x="424" y="72"/>
                </a:cubicBezTo>
                <a:cubicBezTo>
                  <a:pt x="556" y="57"/>
                  <a:pt x="596" y="41"/>
                  <a:pt x="729" y="72"/>
                </a:cubicBezTo>
                <a:cubicBezTo>
                  <a:pt x="754" y="78"/>
                  <a:pt x="797" y="106"/>
                  <a:pt x="797" y="106"/>
                </a:cubicBezTo>
                <a:cubicBezTo>
                  <a:pt x="887" y="95"/>
                  <a:pt x="941" y="93"/>
                  <a:pt x="1017" y="55"/>
                </a:cubicBezTo>
                <a:cubicBezTo>
                  <a:pt x="1149" y="72"/>
                  <a:pt x="1206" y="97"/>
                  <a:pt x="1339" y="72"/>
                </a:cubicBezTo>
                <a:cubicBezTo>
                  <a:pt x="1385" y="63"/>
                  <a:pt x="1474" y="38"/>
                  <a:pt x="1474" y="38"/>
                </a:cubicBezTo>
                <a:cubicBezTo>
                  <a:pt x="1508" y="44"/>
                  <a:pt x="1543" y="45"/>
                  <a:pt x="1576" y="55"/>
                </a:cubicBezTo>
                <a:cubicBezTo>
                  <a:pt x="1600" y="62"/>
                  <a:pt x="1644" y="89"/>
                  <a:pt x="1644" y="89"/>
                </a:cubicBezTo>
                <a:cubicBezTo>
                  <a:pt x="1757" y="51"/>
                  <a:pt x="1713" y="71"/>
                  <a:pt x="1779" y="38"/>
                </a:cubicBezTo>
                <a:cubicBezTo>
                  <a:pt x="1790" y="44"/>
                  <a:pt x="1819" y="44"/>
                  <a:pt x="1813" y="55"/>
                </a:cubicBezTo>
                <a:cubicBezTo>
                  <a:pt x="1805" y="71"/>
                  <a:pt x="1779" y="65"/>
                  <a:pt x="1762" y="72"/>
                </a:cubicBezTo>
                <a:cubicBezTo>
                  <a:pt x="1750" y="77"/>
                  <a:pt x="1739" y="83"/>
                  <a:pt x="1728" y="89"/>
                </a:cubicBezTo>
                <a:cubicBezTo>
                  <a:pt x="1711" y="83"/>
                  <a:pt x="1660" y="72"/>
                  <a:pt x="1678" y="72"/>
                </a:cubicBezTo>
                <a:cubicBezTo>
                  <a:pt x="1723" y="72"/>
                  <a:pt x="1768" y="89"/>
                  <a:pt x="1813" y="89"/>
                </a:cubicBezTo>
                <a:cubicBezTo>
                  <a:pt x="1876" y="89"/>
                  <a:pt x="1938" y="78"/>
                  <a:pt x="2000" y="72"/>
                </a:cubicBezTo>
                <a:cubicBezTo>
                  <a:pt x="1943" y="49"/>
                  <a:pt x="1889" y="19"/>
                  <a:pt x="1830" y="4"/>
                </a:cubicBezTo>
                <a:cubicBezTo>
                  <a:pt x="1814" y="0"/>
                  <a:pt x="1851" y="28"/>
                  <a:pt x="1864" y="38"/>
                </a:cubicBezTo>
                <a:cubicBezTo>
                  <a:pt x="1884" y="53"/>
                  <a:pt x="1928" y="65"/>
                  <a:pt x="1949" y="72"/>
                </a:cubicBezTo>
                <a:cubicBezTo>
                  <a:pt x="1859" y="78"/>
                  <a:pt x="1768" y="76"/>
                  <a:pt x="1678" y="89"/>
                </a:cubicBezTo>
                <a:cubicBezTo>
                  <a:pt x="1653" y="93"/>
                  <a:pt x="1610" y="123"/>
                  <a:pt x="1610" y="123"/>
                </a:cubicBezTo>
                <a:cubicBezTo>
                  <a:pt x="1479" y="111"/>
                  <a:pt x="1376" y="96"/>
                  <a:pt x="1254" y="55"/>
                </a:cubicBezTo>
                <a:cubicBezTo>
                  <a:pt x="1177" y="132"/>
                  <a:pt x="1215" y="109"/>
                  <a:pt x="1152" y="139"/>
                </a:cubicBezTo>
                <a:cubicBezTo>
                  <a:pt x="1090" y="134"/>
                  <a:pt x="1026" y="138"/>
                  <a:pt x="966" y="123"/>
                </a:cubicBezTo>
                <a:cubicBezTo>
                  <a:pt x="954" y="120"/>
                  <a:pt x="962" y="89"/>
                  <a:pt x="949" y="89"/>
                </a:cubicBezTo>
                <a:cubicBezTo>
                  <a:pt x="880" y="89"/>
                  <a:pt x="746" y="123"/>
                  <a:pt x="746" y="123"/>
                </a:cubicBezTo>
                <a:cubicBezTo>
                  <a:pt x="603" y="75"/>
                  <a:pt x="448" y="120"/>
                  <a:pt x="305" y="72"/>
                </a:cubicBezTo>
                <a:cubicBezTo>
                  <a:pt x="186" y="113"/>
                  <a:pt x="335" y="72"/>
                  <a:pt x="187" y="72"/>
                </a:cubicBezTo>
                <a:cubicBezTo>
                  <a:pt x="169" y="72"/>
                  <a:pt x="154" y="91"/>
                  <a:pt x="136" y="89"/>
                </a:cubicBezTo>
                <a:cubicBezTo>
                  <a:pt x="89" y="85"/>
                  <a:pt x="45" y="66"/>
                  <a:pt x="0" y="55"/>
                </a:cubicBez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715000" y="2971800"/>
            <a:ext cx="45720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9960" y="26305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plic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06800" y="46483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c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172200" y="4724280"/>
            <a:ext cx="533520" cy="152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4" name="WB01161_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424400" y="41911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ceber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3505320"/>
            <a:ext cx="990360" cy="380880"/>
          </a:xfrm>
          <a:prstGeom prst="rightArrow">
            <a:avLst>
              <a:gd name="adj1" fmla="val 50000"/>
              <a:gd name="adj2" fmla="val 65005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600-91CF-4108-AA90-B2D55AAF34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luang jaringan Internasion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DLTD, National Digital Library of Theses and Dissertation, USA. </a:t>
            </a: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ndltd.or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T, Australian Digital Theses, UNSW Australia dan 7 universitas partnerny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F17-BDA2-45C0-AE5C-D4D0286F1A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a Self-Sustainabl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unding hanya diperlukan diawa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lanjutnya pola self-sustainabl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ree akses ke database metadat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kses ke full-teks PDF harus membayar meski murah (20%-40% untuk royalti author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ualan CD-ROM database metadat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base sebagai modal barter dengan partner internasio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02DF-5232-4242-97EC-A30DFB34E7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u Plagiatism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ngan disseminasi yang sangat luas (online internet atau offline CD-ROM)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tiap orang akan dengan mudah mengetahui hasil / laporan riset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g setiap plagiat akan mudah dilacak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g keinginan berbuat plagiat semakin keci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e: plagiat bukan alasan untuk tidak mempublikasikan hasil riset secara onlin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55D-939B-403A-80AB-5D1E35B96F9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GNU-Lib, Free-Software Library Automation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-Software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erarti “freedom”, “bebas”, “liberty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ukan “gratis”, “harga 0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brary Automatio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orkflow aktifitas perpustakaan dengan bantuan TI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ncarian, peminjaman, pengembalian, denda, pemesanan, perpanjangan, pengadaan buku, keanggotaan, dll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NU-Lib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ject pembuatan Free-Software Library Automa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leh KMRG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3" name="gnu-head-sm" descr=""/>
          <p:cNvPicPr/>
          <p:nvPr/>
        </p:nvPicPr>
        <p:blipFill>
          <a:blip r:embed="rId1"/>
          <a:stretch/>
        </p:blipFill>
        <p:spPr>
          <a:xfrm>
            <a:off x="6553080" y="1447920"/>
            <a:ext cx="2362320" cy="2233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939000" y="5410080"/>
            <a:ext cx="120636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ahun in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BE29-8D22-4BEE-B3B0-302FC232387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eatu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164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ungsi library automation pada umumny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b akses: online search, pesan, perpanjangan, d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ail aler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rcode enabl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324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8164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C7EC-DADE-4CFC-BA40-8C6D1634496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ardwa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erver, minimum requirem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entium 100 MHz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32 MB Mem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4 GB H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thernet car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Client, minimum requirem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rocessor 486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16 MB Mem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No H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thernet car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Optional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Mod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nternet connection to ISP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9CF-19A2-43AA-B7FE-63C5FAE2F96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ftwa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erver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Operating system: Linux or Unix FreeBS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Database server: MySQ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Scripting language: Per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Web server: Apache + PH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Mail server: Qmai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Cli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DOS with TCP/IP applicat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Optional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for barcode printing, using Windows 95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EAB-BE8C-4EA3-981A-40123F07C2F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rimakasi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74" name="bd05584_" descr=""/>
          <p:cNvPicPr/>
          <p:nvPr/>
        </p:nvPicPr>
        <p:blipFill>
          <a:blip r:embed="rId1"/>
          <a:stretch/>
        </p:blipFill>
        <p:spPr>
          <a:xfrm>
            <a:off x="4194000" y="1752480"/>
            <a:ext cx="34243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E271-52A7-49B3-99B9-A428A9E01D9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ve K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743200"/>
            <a:ext cx="2743200" cy="2057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4e1d"/>
              </a:gs>
              <a:gs pos="50000">
                <a:srgbClr val="fcab40"/>
              </a:gs>
              <a:gs pos="100000">
                <a:srgbClr val="744e1d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posit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3657600"/>
            <a:ext cx="1524240" cy="533520"/>
          </a:xfrm>
          <a:prstGeom prst="leftRightArrow">
            <a:avLst>
              <a:gd name="adj1" fmla="val 50000"/>
              <a:gd name="adj2" fmla="val 56874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01080" y="434340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e01561_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1986120" cy="1317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22440" y="1905120"/>
            <a:ext cx="19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viront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BS00005A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1006200" cy="1154160"/>
          </a:xfrm>
          <a:prstGeom prst="rect">
            <a:avLst/>
          </a:prstGeom>
          <a:ln w="0">
            <a:noFill/>
          </a:ln>
        </p:spPr>
      </p:pic>
      <p:pic>
        <p:nvPicPr>
          <p:cNvPr id="124" name="WB01513_" descr=""/>
          <p:cNvPicPr/>
          <p:nvPr/>
        </p:nvPicPr>
        <p:blipFill>
          <a:blip r:embed="rId3"/>
          <a:stretch/>
        </p:blipFill>
        <p:spPr>
          <a:xfrm>
            <a:off x="1828800" y="502920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8200" y="5257800"/>
            <a:ext cx="177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ass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86EB-D745-4A6A-8EB6-885F03927A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048120" y="2743200"/>
            <a:ext cx="1778040" cy="2334960"/>
            <a:chOff x="3048120" y="2743200"/>
            <a:chExt cx="1778040" cy="2334960"/>
          </a:xfrm>
        </p:grpSpPr>
        <p:sp>
          <p:nvSpPr>
            <p:cNvPr id="127" name=""/>
            <p:cNvSpPr/>
            <p:nvPr/>
          </p:nvSpPr>
          <p:spPr>
            <a:xfrm>
              <a:off x="3048120" y="2752560"/>
              <a:ext cx="1778040" cy="2325600"/>
            </a:xfrm>
            <a:custGeom>
              <a:avLst/>
              <a:gdLst/>
              <a:ahLst/>
              <a:rect l="l" t="t" r="r" b="b"/>
              <a:pathLst>
                <a:path w="1120" h="1465">
                  <a:moveTo>
                    <a:pt x="0" y="712"/>
                  </a:moveTo>
                  <a:cubicBezTo>
                    <a:pt x="6" y="644"/>
                    <a:pt x="2" y="574"/>
                    <a:pt x="17" y="508"/>
                  </a:cubicBezTo>
                  <a:cubicBezTo>
                    <a:pt x="20" y="496"/>
                    <a:pt x="42" y="500"/>
                    <a:pt x="51" y="491"/>
                  </a:cubicBezTo>
                  <a:cubicBezTo>
                    <a:pt x="60" y="482"/>
                    <a:pt x="60" y="467"/>
                    <a:pt x="68" y="457"/>
                  </a:cubicBezTo>
                  <a:cubicBezTo>
                    <a:pt x="122" y="392"/>
                    <a:pt x="116" y="400"/>
                    <a:pt x="169" y="373"/>
                  </a:cubicBezTo>
                  <a:cubicBezTo>
                    <a:pt x="227" y="257"/>
                    <a:pt x="134" y="434"/>
                    <a:pt x="220" y="305"/>
                  </a:cubicBezTo>
                  <a:cubicBezTo>
                    <a:pt x="263" y="241"/>
                    <a:pt x="266" y="174"/>
                    <a:pt x="322" y="119"/>
                  </a:cubicBezTo>
                  <a:cubicBezTo>
                    <a:pt x="328" y="108"/>
                    <a:pt x="329" y="93"/>
                    <a:pt x="339" y="85"/>
                  </a:cubicBezTo>
                  <a:cubicBezTo>
                    <a:pt x="393" y="42"/>
                    <a:pt x="476" y="16"/>
                    <a:pt x="542" y="0"/>
                  </a:cubicBezTo>
                  <a:cubicBezTo>
                    <a:pt x="559" y="6"/>
                    <a:pt x="577" y="10"/>
                    <a:pt x="593" y="17"/>
                  </a:cubicBezTo>
                  <a:cubicBezTo>
                    <a:pt x="616" y="27"/>
                    <a:pt x="661" y="51"/>
                    <a:pt x="661" y="51"/>
                  </a:cubicBezTo>
                  <a:cubicBezTo>
                    <a:pt x="681" y="81"/>
                    <a:pt x="709" y="105"/>
                    <a:pt x="728" y="136"/>
                  </a:cubicBezTo>
                  <a:cubicBezTo>
                    <a:pt x="841" y="317"/>
                    <a:pt x="896" y="524"/>
                    <a:pt x="1050" y="678"/>
                  </a:cubicBezTo>
                  <a:cubicBezTo>
                    <a:pt x="1120" y="884"/>
                    <a:pt x="1040" y="1105"/>
                    <a:pt x="949" y="1288"/>
                  </a:cubicBezTo>
                  <a:cubicBezTo>
                    <a:pt x="861" y="1465"/>
                    <a:pt x="554" y="1299"/>
                    <a:pt x="356" y="1304"/>
                  </a:cubicBezTo>
                  <a:cubicBezTo>
                    <a:pt x="296" y="1364"/>
                    <a:pt x="294" y="1356"/>
                    <a:pt x="203" y="1338"/>
                  </a:cubicBezTo>
                  <a:cubicBezTo>
                    <a:pt x="149" y="1285"/>
                    <a:pt x="114" y="1228"/>
                    <a:pt x="51" y="1186"/>
                  </a:cubicBezTo>
                  <a:cubicBezTo>
                    <a:pt x="0" y="980"/>
                    <a:pt x="58" y="1232"/>
                    <a:pt x="17" y="745"/>
                  </a:cubicBezTo>
                  <a:cubicBezTo>
                    <a:pt x="16" y="733"/>
                    <a:pt x="0" y="712"/>
                    <a:pt x="0" y="712"/>
                  </a:cubicBezTo>
                  <a:close/>
                </a:path>
              </a:pathLst>
            </a:custGeom>
            <a:gradFill rotWithShape="0">
              <a:gsLst>
                <a:gs pos="0">
                  <a:srgbClr val="744e1d"/>
                </a:gs>
                <a:gs pos="50000">
                  <a:srgbClr val="fcab40"/>
                </a:gs>
                <a:gs pos="100000">
                  <a:srgbClr val="744e1d"/>
                </a:gs>
              </a:gsLst>
              <a:lin ang="10800000"/>
            </a:gra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76640" y="2743200"/>
              <a:ext cx="1309680" cy="914400"/>
            </a:xfrm>
            <a:custGeom>
              <a:avLst/>
              <a:gdLst/>
              <a:ahLst/>
              <a:rect l="l" t="t" r="r" b="b"/>
              <a:pathLst>
                <a:path w="825" h="576">
                  <a:moveTo>
                    <a:pt x="21" y="441"/>
                  </a:moveTo>
                  <a:lnTo>
                    <a:pt x="190" y="492"/>
                  </a:lnTo>
                  <a:cubicBezTo>
                    <a:pt x="190" y="492"/>
                    <a:pt x="190" y="492"/>
                    <a:pt x="190" y="492"/>
                  </a:cubicBezTo>
                  <a:cubicBezTo>
                    <a:pt x="235" y="503"/>
                    <a:pt x="284" y="505"/>
                    <a:pt x="326" y="526"/>
                  </a:cubicBezTo>
                  <a:cubicBezTo>
                    <a:pt x="414" y="569"/>
                    <a:pt x="369" y="553"/>
                    <a:pt x="461" y="576"/>
                  </a:cubicBezTo>
                  <a:cubicBezTo>
                    <a:pt x="505" y="572"/>
                    <a:pt x="652" y="563"/>
                    <a:pt x="715" y="542"/>
                  </a:cubicBezTo>
                  <a:cubicBezTo>
                    <a:pt x="739" y="534"/>
                    <a:pt x="783" y="509"/>
                    <a:pt x="783" y="509"/>
                  </a:cubicBezTo>
                  <a:cubicBezTo>
                    <a:pt x="794" y="486"/>
                    <a:pt x="825" y="465"/>
                    <a:pt x="817" y="441"/>
                  </a:cubicBezTo>
                  <a:cubicBezTo>
                    <a:pt x="800" y="389"/>
                    <a:pt x="798" y="364"/>
                    <a:pt x="749" y="339"/>
                  </a:cubicBezTo>
                  <a:cubicBezTo>
                    <a:pt x="740" y="292"/>
                    <a:pt x="722" y="152"/>
                    <a:pt x="681" y="119"/>
                  </a:cubicBezTo>
                  <a:cubicBezTo>
                    <a:pt x="651" y="94"/>
                    <a:pt x="600" y="80"/>
                    <a:pt x="563" y="68"/>
                  </a:cubicBezTo>
                  <a:cubicBezTo>
                    <a:pt x="538" y="19"/>
                    <a:pt x="513" y="17"/>
                    <a:pt x="461" y="0"/>
                  </a:cubicBezTo>
                  <a:cubicBezTo>
                    <a:pt x="384" y="15"/>
                    <a:pt x="311" y="33"/>
                    <a:pt x="241" y="68"/>
                  </a:cubicBezTo>
                  <a:cubicBezTo>
                    <a:pt x="212" y="126"/>
                    <a:pt x="217" y="173"/>
                    <a:pt x="156" y="204"/>
                  </a:cubicBezTo>
                  <a:cubicBezTo>
                    <a:pt x="150" y="215"/>
                    <a:pt x="148" y="229"/>
                    <a:pt x="139" y="238"/>
                  </a:cubicBezTo>
                  <a:cubicBezTo>
                    <a:pt x="130" y="247"/>
                    <a:pt x="113" y="244"/>
                    <a:pt x="105" y="254"/>
                  </a:cubicBezTo>
                  <a:cubicBezTo>
                    <a:pt x="73" y="293"/>
                    <a:pt x="30" y="406"/>
                    <a:pt x="4" y="458"/>
                  </a:cubicBezTo>
                  <a:cubicBezTo>
                    <a:pt x="0" y="465"/>
                    <a:pt x="15" y="447"/>
                    <a:pt x="21" y="441"/>
                  </a:cubicBezTo>
                  <a:close/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590920" y="2666880"/>
            <a:ext cx="2743200" cy="2286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tumbuhan Volum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n Pengguna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dikator Keberhasil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1" name="WB01161_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971640" cy="971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32440" y="3849840"/>
            <a:ext cx="1157040" cy="834840"/>
          </a:xfrm>
          <a:custGeom>
            <a:avLst/>
            <a:gdLst/>
            <a:ahLst/>
            <a:rect l="l" t="t" r="r" b="b"/>
            <a:pathLst>
              <a:path w="729" h="526">
                <a:moveTo>
                  <a:pt x="0" y="526"/>
                </a:moveTo>
                <a:cubicBezTo>
                  <a:pt x="37" y="508"/>
                  <a:pt x="85" y="516"/>
                  <a:pt x="119" y="492"/>
                </a:cubicBezTo>
                <a:cubicBezTo>
                  <a:pt x="140" y="477"/>
                  <a:pt x="129" y="432"/>
                  <a:pt x="153" y="424"/>
                </a:cubicBezTo>
                <a:cubicBezTo>
                  <a:pt x="236" y="396"/>
                  <a:pt x="186" y="410"/>
                  <a:pt x="305" y="390"/>
                </a:cubicBezTo>
                <a:cubicBezTo>
                  <a:pt x="362" y="362"/>
                  <a:pt x="333" y="384"/>
                  <a:pt x="373" y="305"/>
                </a:cubicBezTo>
                <a:cubicBezTo>
                  <a:pt x="381" y="289"/>
                  <a:pt x="505" y="248"/>
                  <a:pt x="525" y="238"/>
                </a:cubicBezTo>
                <a:cubicBezTo>
                  <a:pt x="570" y="147"/>
                  <a:pt x="508" y="255"/>
                  <a:pt x="576" y="187"/>
                </a:cubicBezTo>
                <a:cubicBezTo>
                  <a:pt x="585" y="178"/>
                  <a:pt x="585" y="163"/>
                  <a:pt x="593" y="153"/>
                </a:cubicBezTo>
                <a:cubicBezTo>
                  <a:pt x="593" y="153"/>
                  <a:pt x="678" y="68"/>
                  <a:pt x="695" y="51"/>
                </a:cubicBezTo>
                <a:cubicBezTo>
                  <a:pt x="709" y="37"/>
                  <a:pt x="715" y="14"/>
                  <a:pt x="729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3" name="bs00561_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1224000" cy="898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562720" y="2590920"/>
            <a:ext cx="838080" cy="1523880"/>
          </a:xfrm>
          <a:custGeom>
            <a:avLst/>
            <a:gdLst>
              <a:gd name="textAreaLeft" fmla="*/ 535320 w 838080"/>
              <a:gd name="textAreaRight" fmla="*/ 838440 w 8380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18"/>
                </a:lnTo>
                <a:cubicBezTo>
                  <a:pt x="10800" y="9518"/>
                  <a:pt x="5400" y="10418"/>
                  <a:pt x="0" y="10418"/>
                </a:cubicBezTo>
                <a:cubicBezTo>
                  <a:pt x="5400" y="10418"/>
                  <a:pt x="10800" y="11318"/>
                  <a:pt x="10800" y="1221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2760" y="4278240"/>
            <a:ext cx="27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tumbuhan resourc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yang dihubungkan k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BS00612A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66880" y="4495680"/>
            <a:ext cx="381240" cy="1676520"/>
          </a:xfrm>
          <a:custGeom>
            <a:avLst/>
            <a:gdLst>
              <a:gd name="textAreaLeft" fmla="*/ 51120 w 381240"/>
              <a:gd name="textAreaRight" fmla="*/ 330120 w 38124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54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7400" y="5410080"/>
            <a:ext cx="151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mber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euntung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nansi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E01805A" descr=""/>
          <p:cNvPicPr/>
          <p:nvPr/>
        </p:nvPicPr>
        <p:blipFill>
          <a:blip r:embed="rId4"/>
          <a:stretch/>
        </p:blipFill>
        <p:spPr>
          <a:xfrm>
            <a:off x="838080" y="2286000"/>
            <a:ext cx="1295640" cy="1217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2920" y="3581280"/>
            <a:ext cx="216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etap surviv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ski key pers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g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A5A4-C493-42FF-8E2F-B76291EE90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unci suks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daya “knowledge-friendly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ujuan dan Bahasa yang jel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nowledge transfer dengan berbagai jal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ukungan senior manajem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4CA-FA40-40A3-9B07-2156F7CFE2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Project KM di PP ITB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is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nuju masyarakat berbasis ilmu pengetahuan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lalui pengelolaan modal intelektual secara efektif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nggunakan teknologi informasi yang tepat dan terjangkau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A96E-CFCA-44CF-8528-09E3909DA7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trateg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-Software/Open-Sour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mbangun tool DL yang  “free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ngelola dan membuka akses ke IC IT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are teknologi DL dan membangun jaringan D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mosi komunitas “knowledge-sharing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D63C-B56B-413D-9306-C2A4BD6927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ISNetwork, One Stop Sho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814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934320" cy="5064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370240" y="2133720"/>
            <a:ext cx="32925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http://isisnetwork.lib.itb.ac.i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7AFB-3769-4978-8A6D-BDC45A46E9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8:51:05Z</dcterms:created>
  <dc:creator>Ismail Fahmi</dc:creator>
  <dc:description/>
  <dc:language>en-US</dc:language>
  <cp:lastModifiedBy>Ismail Fahmi</cp:lastModifiedBy>
  <dcterms:modified xsi:type="dcterms:W3CDTF">2000-06-30T01:13:32Z</dcterms:modified>
  <cp:revision>39</cp:revision>
  <dc:subject/>
  <dc:title>Leveraging Intellectual Capital Assets within Research &amp; Education Institutions</dc:title>
</cp:coreProperties>
</file>